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5.png" ContentType="image/png"/>
  <Override PartName="/ppt/media/image24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9144000" cy="463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5800" y="2667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6168960" y="638172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4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456264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593100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4689720" cy="84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763640" y="4222800"/>
            <a:ext cx="46609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77400" y="8668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兩次平方差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360" y="191628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2400" y="2230560"/>
            <a:ext cx="32749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148360" y="2852640"/>
            <a:ext cx="276228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4680" y="1200240"/>
            <a:ext cx="30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844640"/>
            <a:ext cx="34974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6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6360" y="134136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除了平方差公式之外，我們還可以將「和的平方公式」與「差的平方公式」等號兩邊的式子對調來做因式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的平方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017960" y="2384280"/>
            <a:ext cx="3554280" cy="1017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017960" y="3857760"/>
            <a:ext cx="3627360" cy="1125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76040" y="3857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差的平方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1253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式中的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代表任何文字，也可代表任意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如： 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↓    ↓  ↓  ↓  ↓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把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看成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，把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b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看成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↓   ↓  ↓  ↓  ↓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把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看成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，把 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b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看成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36480" y="1413000"/>
            <a:ext cx="684684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或差的平方公式填填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0800" y="256536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92480" y="328464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60840" y="4076640"/>
            <a:ext cx="10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5760" y="486900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9440" y="210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4080" y="2827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7080" y="361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40640" y="441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16560" y="8668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，因式分解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360" y="191628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22400" y="1916280"/>
            <a:ext cx="583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↓   ↓  ↓  ↓  ↓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91960" y="112536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例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，我們知道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因式分解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537000" y="1844640"/>
            <a:ext cx="2259000" cy="13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9640" y="342900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也就是說，將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係數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除以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到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將常數項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平方也得到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所以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因式分解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又例如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662280" y="4616280"/>
            <a:ext cx="2511360" cy="14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0360" y="120024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，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⑵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195640"/>
            <a:ext cx="28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10168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4680" y="3573360"/>
            <a:ext cx="5827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下列空格中，填入適當的正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450864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450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508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60800" y="50846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13080" y="405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92840" y="405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4960" y="4627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7280" y="46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16560" y="8668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差的平方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差的平方公式，因式分解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360" y="191628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22400" y="2023920"/>
            <a:ext cx="6286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ff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  ↓  ↓  ↓  ↓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79360" y="105264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例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，我們知道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因式分解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492360" y="1509840"/>
            <a:ext cx="2475000" cy="1331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284640" y="4476600"/>
            <a:ext cx="2511360" cy="1476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71400" y="2924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也就是說，將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係數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其中的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除以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到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將常數項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平方也得到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所以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因式分解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又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6360" y="981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第一章，我們學過幾個乘法公式，若將乘法公式等號兩邊的式子對調，就成為因式分解了，所以我們可以利用乘法公式來做多項式的因式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如平方差的乘法公式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如果把這個乘法公式等號兩邊的式子對調，就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484360" y="2975040"/>
            <a:ext cx="3554640" cy="90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3992400"/>
            <a:ext cx="86407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式中的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代表任何文字，也可代表任意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如：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↓   ↓      ↓ ↓ ↓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 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把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成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把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成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樣就可以利用平方差公式把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4680" y="1341360"/>
            <a:ext cx="76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差的平方公式，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9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349360"/>
            <a:ext cx="28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7400" y="2349360"/>
            <a:ext cx="33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1120" y="8668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先提出公因式再利用乘法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360" y="191628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2400" y="2281320"/>
            <a:ext cx="2828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162240" y="2349360"/>
            <a:ext cx="313848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7040" y="1413000"/>
            <a:ext cx="33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8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9160" y="2241720"/>
            <a:ext cx="56944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8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8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          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          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7960" y="903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乘法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1360440"/>
            <a:ext cx="8713800" cy="87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或差的平方公式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22084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6360" y="2287440"/>
            <a:ext cx="58672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出公因式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360" y="4221000"/>
            <a:ext cx="608328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出公因式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76360" y="12002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或差的平方公式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2241720"/>
            <a:ext cx="388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49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16680" y="2241720"/>
            <a:ext cx="401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0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[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87960" y="903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乘法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(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6000" y="192240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360" y="1922400"/>
            <a:ext cx="81723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 </a:t>
            </a:r>
            <a:r>
              <a:rPr b="0" i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]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)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221000" y="3860640"/>
            <a:ext cx="452772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3348000" cy="503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76360" y="120024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2060640"/>
            <a:ext cx="432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]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1600" y="4365720"/>
            <a:ext cx="4015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]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692280"/>
            <a:ext cx="91440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116760" y="1764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7040" y="865080"/>
            <a:ext cx="52092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240" y="9190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利用乘法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2560" y="1384200"/>
            <a:ext cx="728496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利用平方差公式、和的平方公式或差的平方公式做因式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方差公式：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的平方公式：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⑶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差的平方公式：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3068640"/>
            <a:ext cx="289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4365720"/>
            <a:ext cx="289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5732640"/>
            <a:ext cx="289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116760" y="1908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57040" y="826920"/>
            <a:ext cx="425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9160" y="826920"/>
            <a:ext cx="814392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和的平方公式、差的平方公式或平方差公式，完成下列空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 ＝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　　　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　　　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　　　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．　　　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－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⑶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　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2421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24303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8000" y="2430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79640" y="3357720"/>
            <a:ext cx="98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414972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5640" y="4167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73680" y="4149720"/>
            <a:ext cx="98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6000" y="4184640"/>
            <a:ext cx="98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508464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7040" y="508464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51040" y="5950080"/>
            <a:ext cx="98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35400" y="5950080"/>
            <a:ext cx="8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9320" y="197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3888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5972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16240" y="290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3600" y="3692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09760" y="3656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37560" y="371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77200" y="37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44280" y="4627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70440" y="46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00080" y="549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4840" y="549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6116760" y="1908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7040" y="826920"/>
            <a:ext cx="425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9160" y="934920"/>
            <a:ext cx="72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⑵ 8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3920" y="2241720"/>
            <a:ext cx="2862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[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59280" y="2131920"/>
            <a:ext cx="388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9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)][9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4)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01320" y="1341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平方差公式，填填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1989000"/>
          <a:ext cx="6095880" cy="3256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－</a:t>
                      </a: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＝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 </a:t>
                      </a: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＋</a:t>
                      </a: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( </a:t>
                      </a: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－</a:t>
                      </a:r>
                      <a:r>
                        <a:rPr b="0" i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⑴ </a:t>
                      </a: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</a:t>
                      </a: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)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⑵ </a:t>
                      </a: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( </a:t>
                      </a: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⑶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</a:t>
                      </a: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2400" spc="-1" strike="noStrike" baseline="4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017960" y="290052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6925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ｙ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7560" y="44308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40320" y="44308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6116760" y="1908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57040" y="826920"/>
            <a:ext cx="425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160" y="884160"/>
            <a:ext cx="72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⑶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⑷ 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8280" y="1557360"/>
            <a:ext cx="386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[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346040"/>
            <a:ext cx="388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9720" y="3548160"/>
            <a:ext cx="85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⑸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     ⑹ 8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7040" y="4292640"/>
            <a:ext cx="510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]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3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4724280"/>
            <a:ext cx="4464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9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]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0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116760" y="1908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7040" y="826920"/>
            <a:ext cx="425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9160" y="934920"/>
            <a:ext cx="763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⑴的結果，因式分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9160" y="2241720"/>
            <a:ext cx="5424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．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            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2560" y="3500280"/>
            <a:ext cx="76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][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)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360" y="8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平方差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360440"/>
            <a:ext cx="8713800" cy="87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平方差公式，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22084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2230560"/>
            <a:ext cx="5597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把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寫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把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寫成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此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以寫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再利用平方差公式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4464000"/>
            <a:ext cx="6624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為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以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以寫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再利用平方差公式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783400" y="2220840"/>
            <a:ext cx="336060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6360" y="1200240"/>
            <a:ext cx="63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平方差公式，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9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195640"/>
            <a:ext cx="28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8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8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(8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1240" y="450864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6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6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6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82320" y="8668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先提出公因式再利用平方差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360440"/>
            <a:ext cx="8713800" cy="555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 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91628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5840" y="2281320"/>
            <a:ext cx="31449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[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348000" y="2575080"/>
            <a:ext cx="2114640" cy="566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80000" y="3691080"/>
            <a:ext cx="2187360" cy="529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6443640" y="2281320"/>
            <a:ext cx="22957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4680" y="12002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0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24172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421000"/>
            <a:ext cx="322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(16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2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[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(4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y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8360" y="836640"/>
            <a:ext cx="7174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360" y="8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平方差公式做因式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360440"/>
            <a:ext cx="8713800" cy="87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220840"/>
            <a:ext cx="360360" cy="36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6360" y="223056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][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360" y="3645000"/>
            <a:ext cx="6659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][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][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48360" y="6388200"/>
            <a:ext cx="1025280" cy="406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91040" y="6399360"/>
            <a:ext cx="1025640" cy="406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35160" y="6380280"/>
            <a:ext cx="1025640" cy="406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783400" y="220680"/>
            <a:ext cx="3360600" cy="4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36520" y="831960"/>
            <a:ext cx="1467000" cy="36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4680" y="1200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式分解下列各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⑴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9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⑵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22480"/>
            <a:ext cx="34974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][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4365720"/>
            <a:ext cx="5742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1)</a:t>
            </a:r>
            <a:r>
              <a:rPr b="0" lang="zh-TW" sz="2400" spc="-1" strike="noStrike" baseline="40000">
                <a:solidFill>
                  <a:srgbClr val="ff3300"/>
                </a:solidFill>
                <a:latin typeface="Times New Roman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[(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1)][(5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7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2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＝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7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＋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18)(3</a:t>
            </a:r>
            <a:r>
              <a:rPr b="0" i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1:59:23Z</dcterms:created>
  <dc:creator>Vito Wang</dc:creator>
  <dc:description/>
  <dc:language>en-US</dc:language>
  <cp:lastModifiedBy>台北市信義區信義國民中學</cp:lastModifiedBy>
  <dcterms:modified xsi:type="dcterms:W3CDTF">2009-11-12T03:25:29Z</dcterms:modified>
  <cp:revision>515</cp:revision>
  <dc:subject/>
  <dc:title>PowerPoint 簡報</dc:title>
</cp:coreProperties>
</file>