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7504-D821-43FA-BA43-43291E5D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89B7-5372-43D6-A35E-ADD8517C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FC53-95D4-4EF2-BFD3-AB7022C7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CBF7-30F2-4D59-ABCD-DDEB5ACD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93FFE-36AC-47F4-A8E9-57CC511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4502B-7482-45A0-BF6B-CE1CD56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B149-7020-4732-9A4B-1C3E1307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465FD-B371-47DF-A927-7A730EB0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F288F-9A3B-48CA-AA95-DB375CD8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7375-6575-48B7-8722-189C08AF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C4492-E8A1-47A8-BE40-CCA46AA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C38E-0F7E-43D7-BBF9-05CA0EFA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E193E-7FD5-47A9-BAA5-46F9F37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524E-F806-49D0-A75C-2B6AC25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079DA-4E2E-4F9C-9BA3-99EC915D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A610-52B8-4963-8886-5B05E710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621A-0043-4104-A296-DE15F56E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89A8-D716-4BF4-AFE0-41BD936C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413B-7E0C-4246-A2B5-5E0CFDAF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2AC3-929A-49CB-8958-217928B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1E600-D094-4FAD-ACA6-DE7F6A3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51E9-229C-4ADC-AC27-08BDE5A6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CBFC-91F3-42C6-AD4E-AF483FF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EADA-A1A4-4686-BE8A-9010E6EB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9626-0927-4E71-B873-3003172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65B0-87B8-493C-B9DD-BA793AE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EBFD-DA9A-4C47-B66D-552D5F5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7BD6-723E-41E7-8FB8-B27ED444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758C-EF42-4759-BD06-DE5D8D71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C170-2420-40F7-8D65-F0395AE5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89A6-490A-4D17-AD9F-BC2C97F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7198-703A-4291-B944-0039927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618EF-BF72-4CD3-8EE4-722365F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F5F6-BD4D-48B4-AA19-8C8EEE8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5A21-9353-4303-A807-08C15804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AAF0-37A1-4AB2-8697-F302AA1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89B1-C187-482B-BDE2-A6CC956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E660-3E3E-4614-AAC2-FE64B02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BB86-993D-433C-8E8C-9995408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6BD8-C4DD-4C6A-AA45-2D69E81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57B5-1207-489D-9EA4-52EDEAF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94E6-1ED9-4226-895E-50FC6537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DF03-8478-47EC-8EDE-5A53619E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18A5-778E-447E-83CB-9A627BB6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F25A-A83C-4F86-8862-67D3D2B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DC37-5C39-4A55-BADA-E9CFCF0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F687-8AF6-4813-AABC-D39BEC9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8D4F-AE20-4C05-A7C9-761DEE2A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接點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等腰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5b7e"/>
                </a:solidFill>
                <a:latin typeface="微軟正黑體"/>
              </a:rPr>
              <a:t>Click to edit the title text format</a:t>
            </a:r>
            <a:endParaRPr b="1" lang="en-US" sz="3600" spc="-1" strike="noStrike">
              <a:solidFill>
                <a:srgbClr val="525b7e"/>
              </a:solidFill>
              <a:latin typeface="微軟正黑體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spcAft>
                <a:spcPts val="601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spcAft>
                <a:spcPts val="601"/>
              </a:spcAft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spcAft>
                <a:spcPts val="601"/>
              </a:spcAft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2009-02-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12360" y="6356520"/>
            <a:ext cx="110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0BDD-AD74-4099-BF7D-91CE199B7233}" type="slidenum">
              <a:rPr b="0" lang="zh-TW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2214720" y="6356520"/>
            <a:ext cx="47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直線接點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等腰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直線接點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5b7e"/>
                </a:solidFill>
                <a:latin typeface="微軟正黑體"/>
              </a:rPr>
              <a:t>Click to edit the title text format</a:t>
            </a:r>
            <a:endParaRPr b="1" lang="en-US" sz="3600" spc="-1" strike="noStrike">
              <a:solidFill>
                <a:srgbClr val="525b7e"/>
              </a:solidFill>
              <a:latin typeface="微軟正黑體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spcAft>
                <a:spcPts val="601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spcAft>
                <a:spcPts val="601"/>
              </a:spcAft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spcAft>
                <a:spcPts val="601"/>
              </a:spcAft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2009-02-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12360" y="6356520"/>
            <a:ext cx="110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D31-EC83-4DEC-8CF7-AA07A50E41C1}" type="slidenum">
              <a:rPr b="0" lang="zh-TW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2214720" y="6356520"/>
            <a:ext cx="47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9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702-0322-4006-8E78-3B55CD63A1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BCEA-C949-4A79-A887-14C8A2160D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--&#19981;&#21487;&#24605;&#35696;&#30340;&#22812;&#26202;.pdf" TargetMode="External"/><Relationship Id="rId2" Type="http://schemas.openxmlformats.org/officeDocument/2006/relationships/hyperlink" Target="file:///01--&#19981;&#21487;&#24605;&#35696;&#30340;&#22812;&#26202;.pdf" TargetMode="External"/><Relationship Id="rId3" Type="http://schemas.openxmlformats.org/officeDocument/2006/relationships/hyperlink" Target="file:///01--&#19981;&#21487;&#24605;&#35696;&#30340;&#22812;&#26202;.pdf" TargetMode="External"/><Relationship Id="rId4" Type="http://schemas.openxmlformats.org/officeDocument/2006/relationships/hyperlink" Target="file:///01--&#19981;&#21487;&#24605;&#35696;&#30340;&#22812;&#26202;.pdf" TargetMode="Externa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01--&#19981;&#21487;&#24605;&#35696;&#30340;&#22812;&#26202;.pdf" TargetMode="External"/><Relationship Id="rId2" Type="http://schemas.openxmlformats.org/officeDocument/2006/relationships/hyperlink" Target="file:///01--&#19981;&#21487;&#24605;&#35696;&#30340;&#22812;&#26202;.pdf" TargetMode="External"/><Relationship Id="rId3" Type="http://schemas.openxmlformats.org/officeDocument/2006/relationships/hyperlink" Target="file:///01--&#19981;&#21487;&#24605;&#35696;&#30340;&#22812;&#26202;.pd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4--&#23563;&#25214;&#39135;&#29289;.pdf" TargetMode="External"/><Relationship Id="rId2" Type="http://schemas.openxmlformats.org/officeDocument/2006/relationships/hyperlink" Target="file:///04--&#23563;&#25214;&#39135;&#29289;.pdf" TargetMode="External"/><Relationship Id="rId3" Type="http://schemas.openxmlformats.org/officeDocument/2006/relationships/hyperlink" Target="file:///04--&#23563;&#25214;&#39135;&#29289;.pdf" TargetMode="Externa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27298;&#28204;&#22238;&#39243;&#22577;&#21578;&#25688;&#35201;---10.6.ppt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7058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66"/>
                </a:solidFill>
                <a:latin typeface="標楷體"/>
                <a:ea typeface="標楷體"/>
              </a:rPr>
              <a:t>提升學生閱讀理解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409608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6666"/>
                </a:solidFill>
                <a:latin typeface="Arial"/>
              </a:rPr>
              <a:t>表二　教室中閱讀策略教導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052640"/>
          <a:ext cx="8569080" cy="5371920"/>
        </p:xfrm>
        <a:graphic>
          <a:graphicData uri="http://schemas.openxmlformats.org/drawingml/2006/table">
            <a:tbl>
              <a:tblPr/>
              <a:tblGrid>
                <a:gridCol w="3384360"/>
                <a:gridCol w="1157400"/>
                <a:gridCol w="1342800"/>
                <a:gridCol w="1341720"/>
                <a:gridCol w="1342800"/>
              </a:tblGrid>
              <a:tr h="77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策略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幾乎每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至二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一至二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從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或幾乎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找出大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6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6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解釋閱讀材料提出理由支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4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比較自己的經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5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比較以前閱讀過的材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4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預測文中接下來會發生的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3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歸納和推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56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描述風格和結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cc"/>
                          </a:solidFill>
                          <a:latin typeface="Times New Roman"/>
                          <a:ea typeface="標楷體"/>
                        </a:rPr>
                        <a:t>4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360" y="620280"/>
            <a:ext cx="3959280" cy="784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閱讀理解策略教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603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摘要教學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（被研究最多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刪除重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分辨重要、不重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整合意思相似語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找出主題句（自己寫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32720" y="3141720"/>
            <a:ext cx="812520" cy="93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03640" y="623736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資料來源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柯華葳教授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《</a:t>
            </a: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閱讀理解工作坊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53388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預 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自己的既有知識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上下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圖表、標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利用上下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找出</a:t>
            </a:r>
            <a:r>
              <a:rPr b="1" lang="zh-TW" sz="2900" spc="-1" strike="noStrike">
                <a:solidFill>
                  <a:srgbClr val="ff3300"/>
                </a:solidFill>
                <a:latin typeface="Verdana"/>
              </a:rPr>
              <a:t>關鍵詞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影像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556000" y="549360"/>
            <a:ext cx="4176720" cy="78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閱讀理解策略教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68360" y="1844280"/>
            <a:ext cx="45468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提 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</a:rPr>
              <a:t>老師提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</a:rPr>
              <a:t>學生自己提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檢視自己的理解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556000" y="620640"/>
            <a:ext cx="4103640" cy="784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閱讀理解策略教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66"/>
                </a:solidFill>
                <a:latin typeface="標楷體"/>
                <a:ea typeface="標楷體"/>
              </a:rPr>
              <a:t>pirls</a:t>
            </a:r>
            <a:r>
              <a:rPr b="1" lang="zh-TW" sz="4300" spc="-1" strike="noStrike">
                <a:solidFill>
                  <a:srgbClr val="ffff66"/>
                </a:solidFill>
                <a:latin typeface="標楷體"/>
                <a:ea typeface="標楷體"/>
              </a:rPr>
              <a:t>文章實作與說明</a:t>
            </a:r>
            <a:endParaRPr b="0" lang="en-US" sz="4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123640" y="2997000"/>
            <a:ext cx="5977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《</a:t>
            </a:r>
            <a:r>
              <a:rPr b="0" lang="zh-TW" sz="32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一個不可思議的夜晚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47640" y="2204640"/>
            <a:ext cx="731376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《</a:t>
            </a:r>
            <a:r>
              <a:rPr b="0" lang="zh-TW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一個不可思議的夜晚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zh-TW" sz="2900" spc="-1" strike="noStrike">
                <a:solidFill>
                  <a:srgbClr val="800000"/>
                </a:solidFill>
                <a:latin typeface="Verdana"/>
              </a:rPr>
              <a:t>答題說明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500720" y="3573360"/>
            <a:ext cx="9270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Arial"/>
              </a:rPr>
              <a:t>好問題怎麼問？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32000" y="1916280"/>
            <a:ext cx="72835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99"/>
                </a:solidFill>
                <a:latin typeface="Verdana"/>
                <a:ea typeface="標楷體"/>
              </a:rPr>
              <a:t>＊ 增加答案的向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99"/>
                </a:solidFill>
                <a:latin typeface="Verdana"/>
                <a:ea typeface="標楷體"/>
              </a:rPr>
              <a:t>＊ 答對時可以追問，還有沒有其他答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99"/>
                </a:solidFill>
                <a:latin typeface="Verdana"/>
                <a:ea typeface="標楷體"/>
              </a:rPr>
              <a:t>＊ 以文章形式為問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428148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Arial"/>
              </a:rPr>
              <a:t>好問題可以這麼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8040" y="1444680"/>
            <a:ext cx="8137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一個角度兩個支持</a:t>
            </a:r>
            <a:r>
              <a:rPr b="0" lang="zh-TW" sz="2500" spc="-1" strike="noStrike">
                <a:solidFill>
                  <a:srgbClr val="336699"/>
                </a:solidFill>
                <a:latin typeface="Verdana"/>
              </a:rPr>
              <a:t>：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寫出兩個理由、兩個故事提示、兩個教訓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           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舉出兩個例子、兩個證明、兩種不同感受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514440">
              <a:spcBef>
                <a:spcPts val="400"/>
              </a:spcBef>
              <a:buClr>
                <a:srgbClr val="000000"/>
              </a:buClr>
              <a:buSzPct val="95000"/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依據本文，鱷魚尾巴的功用為？請說出兩個功用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514440">
              <a:spcBef>
                <a:spcPts val="400"/>
              </a:spcBef>
              <a:buClr>
                <a:srgbClr val="000000"/>
              </a:buClr>
              <a:buSzPct val="95000"/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雜誌怎樣幫了小安的忙？請說出兩個方法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514440">
              <a:spcBef>
                <a:spcPts val="400"/>
              </a:spcBef>
              <a:buClr>
                <a:srgbClr val="000000"/>
              </a:buClr>
              <a:buSzPct val="95000"/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小安對鱷魚以及紅鶴的感覺是什麼？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兩個角度</a:t>
            </a:r>
            <a:r>
              <a:rPr b="0" lang="zh-TW" sz="2500" spc="-1" strike="noStrike">
                <a:solidFill>
                  <a:srgbClr val="336699"/>
                </a:solidFill>
                <a:latin typeface="Verdana"/>
              </a:rPr>
              <a:t>：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說出一項好處和一項壞處、兩種「不同」的感受、可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          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能是夢也可能不是夢、你想去和不想去的理由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514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95000"/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小安的遭遇是不是一場夢？請找出證據證明這可能是一場夢，或找證據證明這可能不是一場夢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利用所讀的內容回答</a:t>
            </a:r>
            <a:r>
              <a:rPr b="1" lang="zh-TW" sz="2500" spc="-1" strike="noStrike">
                <a:solidFill>
                  <a:srgbClr val="336699"/>
                </a:solidFill>
                <a:latin typeface="Verdana"/>
              </a:rPr>
              <a:t>：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解釋、從文章資料</a:t>
            </a:r>
            <a:r>
              <a:rPr b="0" lang="en-US" sz="2100" spc="-1" strike="noStrike">
                <a:solidFill>
                  <a:srgbClr val="336699"/>
                </a:solidFill>
                <a:latin typeface="Verdana"/>
                <a:ea typeface="標楷體"/>
              </a:rPr>
              <a:t>…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、用故事裡發生的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         </a:t>
            </a:r>
            <a:r>
              <a:rPr b="0" lang="zh-TW" sz="2100" spc="-1" strike="noStrike">
                <a:solidFill>
                  <a:srgbClr val="336699"/>
                </a:solidFill>
                <a:latin typeface="Verdana"/>
                <a:ea typeface="標楷體"/>
              </a:rPr>
              <a:t>事情回答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514440">
              <a:spcBef>
                <a:spcPts val="400"/>
              </a:spcBef>
              <a:buClr>
                <a:srgbClr val="000000"/>
              </a:buClr>
              <a:buSzPct val="95000"/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媽媽的帽子可能會在哪兒？請依文章資料回答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26560" y="907920"/>
            <a:ext cx="792180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體會主角／作者感受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他有什麼領悟、他對ＸＸ有什麼感覺、他是個什麼樣的人、解釋他心情的轉變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推演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解釋這故事令人難以相信的地方 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  <a:ea typeface="標楷體"/>
              </a:rPr>
              <a:t>形式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有編號的框框怎樣幫助讀者更能瞭解文章內容、這篇文章用兩種不同方式介紹，哪一種資料比較有趣、圖片如何幫助你明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7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en-US" sz="2900" spc="-1" strike="noStrike">
                <a:solidFill>
                  <a:srgbClr val="800000"/>
                </a:solidFill>
                <a:latin typeface="Verdana"/>
              </a:rPr>
              <a:t>pirls  </a:t>
            </a:r>
            <a:r>
              <a:rPr b="1" lang="zh-TW" sz="2900" spc="-1" strike="noStrike">
                <a:solidFill>
                  <a:srgbClr val="800000"/>
                </a:solidFill>
                <a:latin typeface="Verdana"/>
              </a:rPr>
              <a:t>說明文範例介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《</a:t>
            </a:r>
            <a:r>
              <a:rPr b="0" lang="zh-TW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尋找食物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07332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新細明體"/>
              </a:rPr>
              <a:t>報告大綱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050920" y="1844640"/>
            <a:ext cx="61214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◆</a:t>
            </a:r>
            <a:r>
              <a:rPr b="1" lang="zh-TW" sz="3200" spc="-1" strike="noStrike">
                <a:solidFill>
                  <a:srgbClr val="660033"/>
                </a:solidFill>
                <a:latin typeface="Verdana"/>
                <a:ea typeface="標楷體"/>
              </a:rPr>
              <a:t>閱讀理解的過程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Verdana"/>
              </a:rPr>
              <a:t>◆ </a:t>
            </a:r>
            <a:r>
              <a:rPr b="1" lang="en-US" sz="3200" spc="-1" strike="noStrike">
                <a:solidFill>
                  <a:srgbClr val="660033"/>
                </a:solidFill>
                <a:latin typeface="Verdana"/>
                <a:ea typeface="標楷體"/>
              </a:rPr>
              <a:t>pirls</a:t>
            </a:r>
            <a:r>
              <a:rPr b="1" lang="zh-TW" sz="3200" spc="-1" strike="noStrike">
                <a:solidFill>
                  <a:srgbClr val="660033"/>
                </a:solidFill>
                <a:latin typeface="Verdana"/>
                <a:ea typeface="標楷體"/>
              </a:rPr>
              <a:t>文章實作與說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Verdana"/>
              </a:rPr>
              <a:t>◆</a:t>
            </a:r>
            <a:r>
              <a:rPr b="1" lang="zh-TW" sz="3200" spc="-1" strike="noStrike">
                <a:solidFill>
                  <a:srgbClr val="660033"/>
                </a:solidFill>
                <a:latin typeface="Verdana"/>
                <a:ea typeface="標楷體"/>
              </a:rPr>
              <a:t>文本分析與命題實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69228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6021360"/>
            <a:ext cx="45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資料來源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柯華葳教授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《</a:t>
            </a:r>
            <a:r>
              <a:rPr b="0" lang="zh-TW" sz="1600" spc="-1" strike="noStrike">
                <a:solidFill>
                  <a:srgbClr val="006666"/>
                </a:solidFill>
                <a:latin typeface="Arial"/>
              </a:rPr>
              <a:t>閱讀理解工作坊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47640" y="2133720"/>
            <a:ext cx="5904000" cy="18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a22d0"/>
                </a:solidFill>
                <a:latin typeface="標楷體"/>
                <a:ea typeface="標楷體"/>
              </a:rPr>
              <a:t>高層次理解需從深度閱讀著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藉著高層次題目幫助學生思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教學前老師需做文本分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549360"/>
            <a:ext cx="6408720" cy="846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66"/>
                </a:solidFill>
                <a:latin typeface="標楷體"/>
                <a:ea typeface="標楷體"/>
              </a:rPr>
              <a:t>文本分析與命題實作說明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268360" y="1628640"/>
            <a:ext cx="46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標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副標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各段主旨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（概念地圖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重要的表達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（包括詞彙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結構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130000"/>
              </a:lnSpc>
              <a:spcBef>
                <a:spcPts val="99"/>
              </a:spcBef>
              <a:buClr>
                <a:srgbClr val="000000"/>
              </a:buClr>
              <a:buSzPct val="9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主題描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130000"/>
              </a:lnSpc>
              <a:spcBef>
                <a:spcPts val="99"/>
              </a:spcBef>
              <a:buClr>
                <a:srgbClr val="000000"/>
              </a:buClr>
              <a:buSzPct val="9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對照、比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130000"/>
              </a:lnSpc>
              <a:spcBef>
                <a:spcPts val="99"/>
              </a:spcBef>
              <a:buClr>
                <a:srgbClr val="000000"/>
              </a:buClr>
              <a:buSzPct val="9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因果（問題解決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130000"/>
              </a:lnSpc>
              <a:spcBef>
                <a:spcPts val="99"/>
              </a:spcBef>
              <a:buClr>
                <a:srgbClr val="000000"/>
              </a:buClr>
              <a:buSzPct val="9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序列</a:t>
            </a: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、連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130000"/>
              </a:lnSpc>
              <a:spcBef>
                <a:spcPts val="99"/>
              </a:spcBef>
              <a:buClr>
                <a:srgbClr val="000000"/>
              </a:buClr>
              <a:buSzPct val="9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日期版面配置區 3"/>
          <p:cNvSpPr/>
          <p:nvPr/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0520" y="620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Arial"/>
              </a:rPr>
              <a:t>說明文的結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92000" y="1628640"/>
            <a:ext cx="604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主要角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(1)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特質  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(2)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功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背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重要的表達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（包括詞彙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寫作特色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（例如，比較、比喻、擬人或寓言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段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主題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（可能有數個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摘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72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結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日期版面配置區 3"/>
          <p:cNvSpPr/>
          <p:nvPr/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692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Arial"/>
              </a:rPr>
              <a:t>故事體的結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01680" y="2585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Arial"/>
              </a:rPr>
              <a:t>文章結構分析範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484360" y="1989000"/>
            <a:ext cx="467208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標題</a:t>
            </a:r>
            <a:r>
              <a:rPr b="1" lang="en-US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蒲公英的智慧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40000"/>
              </a:lnSpc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副標題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（無）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40000"/>
              </a:lnSpc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各段主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4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重要的表達</a:t>
            </a:r>
            <a:r>
              <a:rPr b="0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（包括詞彙）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765000"/>
            <a:ext cx="3430440" cy="459720"/>
          </a:xfrm>
          <a:prstGeom prst="rect">
            <a:avLst/>
          </a:prstGeom>
          <a:solidFill>
            <a:srgbClr val="ffffdd"/>
          </a:solidFill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說明文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：蒲公英的智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13702"/>
          <a:stretch/>
        </p:blipFill>
        <p:spPr>
          <a:xfrm>
            <a:off x="642960" y="0"/>
            <a:ext cx="7967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日期版面配置區 6"/>
          <p:cNvSpPr/>
          <p:nvPr/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rcRect l="0" t="0" r="0" b="18751"/>
          <a:stretch/>
        </p:blipFill>
        <p:spPr>
          <a:xfrm>
            <a:off x="0" y="0"/>
            <a:ext cx="8702640" cy="65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4000" y="1052280"/>
            <a:ext cx="74898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主要角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400" spc="-1" strike="noStrike">
                <a:solidFill>
                  <a:srgbClr val="006666"/>
                </a:solidFill>
                <a:latin typeface="標楷體"/>
                <a:ea typeface="標楷體"/>
              </a:rPr>
              <a:t>父親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特質：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喜歡與兒子一起做事、不願意出風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功能：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支撐兒子、給兒子愛、解決兒子需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zh-TW" sz="2400" spc="-1" strike="noStrike">
                <a:solidFill>
                  <a:srgbClr val="006666"/>
                </a:solidFill>
                <a:latin typeface="標楷體"/>
                <a:ea typeface="標楷體"/>
              </a:rPr>
              <a:t>兒子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特質：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耍酷、追求時髦、有反省、有時不相信父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功能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：接受父親的愛、提出需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Clr>
                <a:srgbClr val="99cccc"/>
              </a:buClr>
              <a:buSzPct val="70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zh-TW" sz="2400" spc="-1" strike="noStrike">
                <a:solidFill>
                  <a:srgbClr val="006666"/>
                </a:solidFill>
                <a:latin typeface="標楷體"/>
                <a:ea typeface="標楷體"/>
              </a:rPr>
              <a:t>朋友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特質：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愛名牌的、缺乏類似主角的父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12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zh-TW" sz="2100" spc="-1" strike="noStrike">
                <a:solidFill>
                  <a:srgbClr val="000000"/>
                </a:solidFill>
                <a:latin typeface="Verdana"/>
              </a:rPr>
              <a:t>功能：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襯托主角父親的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buClr>
                <a:srgbClr val="006666"/>
              </a:buClr>
              <a:buSzPct val="65000"/>
              <a:buFont typeface="Verdana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日期版面配置區 1"/>
          <p:cNvSpPr/>
          <p:nvPr/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476280"/>
            <a:ext cx="4033800" cy="459720"/>
          </a:xfrm>
          <a:prstGeom prst="rect">
            <a:avLst/>
          </a:prstGeom>
          <a:solidFill>
            <a:srgbClr val="ffffdd"/>
          </a:solidFill>
          <a:ln cap="rnd" w="284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故事體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：完美的父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內容版面配置區 13"/>
          <p:cNvSpPr/>
          <p:nvPr/>
        </p:nvSpPr>
        <p:spPr>
          <a:xfrm>
            <a:off x="1187280" y="981000"/>
            <a:ext cx="75614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背景：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比賽場、家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重要的表達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（包括詞彙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寫作特色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時間順序與時間詞：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歲、同往常一樣、比賽的日子、如今、今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人物對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042560" y="-36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Verdana"/>
                <a:ea typeface="標楷體"/>
              </a:rPr>
              <a:t>段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兒子要音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父親說自己做音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兒子懷疑可能做得出音箱嗎？做出後，兒子有疑惑，音箱材料錢可以買個音箱，為什麼要自己做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朋友問音箱是什麼牌子（意在挑釁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朋友嫉妒有父親做的音箱（由不屑變羨慕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兒子感到自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比賽未獲獎，但不沮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父親證實做音箱只是為了要跟兒子相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兒子體會父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懷念父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259200">
              <a:lnSpc>
                <a:spcPct val="120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  <a:ea typeface="標楷體"/>
              </a:rPr>
              <a:t>回憶親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日期版面配置區 3"/>
          <p:cNvSpPr/>
          <p:nvPr/>
        </p:nvSpPr>
        <p:spPr>
          <a:xfrm>
            <a:off x="7380360" y="649296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投影片編號版面配置區 4"/>
          <p:cNvSpPr/>
          <p:nvPr/>
        </p:nvSpPr>
        <p:spPr>
          <a:xfrm>
            <a:off x="612720" y="6356520"/>
            <a:ext cx="110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5FB7-E268-49E9-9E30-8CDB5126E7D2}" type="slidenum">
              <a:rPr b="0" lang="zh-TW" sz="1400" spc="-1" strike="noStrike">
                <a:solidFill>
                  <a:srgbClr val="00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1620720" y="0"/>
            <a:ext cx="10764720" cy="86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475920"/>
            <a:ext cx="7313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Verdana"/>
                <a:ea typeface="標楷體"/>
              </a:rPr>
              <a:t>主題</a:t>
            </a:r>
            <a:r>
              <a:rPr b="0" lang="zh-TW" sz="2900" spc="-1" strike="noStrike">
                <a:solidFill>
                  <a:srgbClr val="000000"/>
                </a:solidFill>
                <a:latin typeface="Verdana"/>
                <a:ea typeface="標楷體"/>
              </a:rPr>
              <a:t>（可能有數個）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愛的表達、愛的延續、養兒方知父母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Verdana"/>
                <a:ea typeface="標楷體"/>
              </a:rPr>
              <a:t>摘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請自己試著寫寫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00"/>
                </a:solidFill>
                <a:latin typeface="Verdana"/>
                <a:ea typeface="標楷體"/>
              </a:rPr>
              <a:t>結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第一人稱以時間順序描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92360" y="404640"/>
            <a:ext cx="5472000" cy="100836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66"/>
                </a:solidFill>
                <a:latin typeface="標楷體"/>
                <a:ea typeface="標楷體"/>
              </a:rPr>
              <a:t>檢測回饋與命題實作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852640"/>
            <a:ext cx="812880" cy="936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63640" y="2997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檢測回饋報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4221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命題實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53629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簡答題與選擇題出題原則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054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800000"/>
                </a:solidFill>
                <a:latin typeface="Verdana"/>
                <a:ea typeface="標楷體"/>
              </a:rPr>
              <a:t>一般出題原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每一題有其相對應的理解歷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以最合適的題型出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一定要有答案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除了問內容，也要問形式。形式如：文中圖片的用意、標題的目的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題幹與文章要有清楚的關係，如寫出第幾頁，或在文章中有記號說明出處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32000" y="1341000"/>
            <a:ext cx="741672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0066"/>
                </a:solidFill>
                <a:latin typeface="Verdana"/>
                <a:ea typeface="標楷體"/>
              </a:rPr>
              <a:t>謝謝聆聽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0066"/>
                </a:solidFill>
                <a:latin typeface="Verdana"/>
                <a:ea typeface="標楷體"/>
              </a:rPr>
              <a:t>敬請指教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日期版面配置區 3"/>
          <p:cNvSpPr/>
          <p:nvPr/>
        </p:nvSpPr>
        <p:spPr>
          <a:xfrm>
            <a:off x="735804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投影片編號版面配置區 4"/>
          <p:cNvSpPr/>
          <p:nvPr/>
        </p:nvSpPr>
        <p:spPr>
          <a:xfrm>
            <a:off x="612720" y="6356520"/>
            <a:ext cx="110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2A20-4D75-44BC-A95C-49B66E01EF5E}" type="slidenum">
              <a:rPr b="0" lang="zh-TW" sz="1400" spc="-1" strike="noStrike">
                <a:solidFill>
                  <a:srgbClr val="00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2920" y="665280"/>
            <a:ext cx="4181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RLS 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評量工具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</a:rPr>
              <a:t>閱讀測驗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故事體</a:t>
            </a: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（文學賞析）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與 說明文</a:t>
            </a: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（獲取資訊）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四個閱讀歷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提取特定的觀點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推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詮釋並整合訊息和觀點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檢驗或評估文章的特性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336699"/>
                </a:solidFill>
                <a:latin typeface="Verdana"/>
              </a:rPr>
              <a:t>背景問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學生問卷、閱讀學習調查（家長或監護人填寫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教師問卷 、學校問卷、課程問卷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5364000" y="4005360"/>
            <a:ext cx="289080" cy="647640"/>
          </a:xfrm>
          <a:custGeom>
            <a:avLst/>
            <a:gdLst>
              <a:gd name="textAreaLeft" fmla="*/ 0 w 289080"/>
              <a:gd name="textAreaRight" fmla="*/ 104400 w 289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4500720" y="3068640"/>
            <a:ext cx="287280" cy="720720"/>
          </a:xfrm>
          <a:custGeom>
            <a:avLst/>
            <a:gdLst>
              <a:gd name="textAreaLeft" fmla="*/ 0 w 287280"/>
              <a:gd name="textAreaRight" fmla="*/ 103680 w 287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859280" y="31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標楷體"/>
                <a:ea typeface="標楷體"/>
              </a:rPr>
              <a:t>直接歷程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796000" y="40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66"/>
                </a:solidFill>
                <a:latin typeface="標楷體"/>
                <a:ea typeface="標楷體"/>
              </a:rPr>
              <a:t>解釋歷程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597960"/>
            <a:ext cx="4179600" cy="84636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66"/>
                </a:solidFill>
                <a:latin typeface="標楷體"/>
                <a:ea typeface="標楷體"/>
              </a:rPr>
              <a:t>閱讀理解的過程</a:t>
            </a:r>
            <a:r>
              <a:rPr b="0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標楷體"/>
              </a:rPr>
              <a:t>L1 </a:t>
            </a:r>
            <a:r>
              <a:rPr b="0" lang="zh-TW" sz="3200" spc="-1" strike="noStrike">
                <a:solidFill>
                  <a:srgbClr val="0000ff"/>
                </a:solidFill>
                <a:latin typeface="Verdana"/>
                <a:ea typeface="標楷體"/>
              </a:rPr>
              <a:t>提取特定的觀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表面資訊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  <a:ea typeface="標楷體"/>
              </a:rPr>
              <a:t>L2 </a:t>
            </a:r>
            <a:r>
              <a:rPr b="0" lang="zh-TW" sz="3200" spc="-1" strike="noStrike">
                <a:solidFill>
                  <a:srgbClr val="0000ff"/>
                </a:solidFill>
                <a:latin typeface="Verdana"/>
                <a:ea typeface="標楷體"/>
              </a:rPr>
              <a:t>推論：</a:t>
            </a: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從文章脈絡訊息推測，達到文意理解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Verdana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文意理解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前後句因果、條件、關聯性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  <a:ea typeface="標楷體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</a:rPr>
              <a:t>情意聯想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從表面外顯行為推想內在的情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  </a:t>
            </a:r>
            <a:r>
              <a:rPr b="0" lang="zh-TW" sz="2800" spc="-1" strike="noStrike">
                <a:solidFill>
                  <a:srgbClr val="ff0000"/>
                </a:solidFill>
                <a:latin typeface="Verdana"/>
                <a:ea typeface="標楷體"/>
              </a:rPr>
              <a:t>「直接理解」是以文本為基礎的歷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標楷體"/>
              </a:rPr>
              <a:t>L3 </a:t>
            </a:r>
            <a:r>
              <a:rPr b="0" lang="zh-TW" sz="2800" spc="-1" strike="noStrike">
                <a:solidFill>
                  <a:srgbClr val="0000ff"/>
                </a:solidFill>
                <a:latin typeface="Verdana"/>
                <a:ea typeface="標楷體"/>
              </a:rPr>
              <a:t>詮釋並整合訊息和觀點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詮釋訊息、歸納出重要的觀點（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從理解到分析</a:t>
            </a: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處理主旨、層次組織、圖式結構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（概念圖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論說文－論點、論證、結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記敘文－時間順序、 循環、發散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新細明體"/>
              </a:rPr>
              <a:t>           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故事體－衝突→高潮→解決（啟發與成長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標楷體"/>
              </a:rPr>
              <a:t>L4 </a:t>
            </a:r>
            <a:r>
              <a:rPr b="0" lang="zh-TW" sz="2800" spc="-1" strike="noStrike">
                <a:solidFill>
                  <a:srgbClr val="0000ff"/>
                </a:solidFill>
                <a:latin typeface="Verdana"/>
                <a:ea typeface="標楷體"/>
              </a:rPr>
              <a:t>檢驗或評估文章的特性</a:t>
            </a: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Verdana"/>
              </a:rPr>
              <a:t>比較評估文章內容、表達方式及寫作特色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0000"/>
                </a:solidFill>
                <a:latin typeface="Verdana"/>
                <a:ea typeface="標楷體"/>
              </a:rPr>
              <a:t>   </a:t>
            </a:r>
            <a:r>
              <a:rPr b="0" lang="zh-TW" sz="2500" spc="-1" strike="noStrike">
                <a:solidFill>
                  <a:srgbClr val="ff0000"/>
                </a:solidFill>
                <a:latin typeface="Verdana"/>
                <a:ea typeface="標楷體"/>
              </a:rPr>
              <a:t>「詮釋理解」需要更多的推論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4920" y="69228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新細明體"/>
              </a:rPr>
              <a:t>九年一貫如是說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18920" y="1773000"/>
            <a:ext cx="6553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語文領域的教學原則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語文教學以「閱讀」為核心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兼顧聆聽、說話、作文、寫字等各項教學活動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密切聯繫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「閱讀能力」以學生為主體，依文章的性質類別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指導學生運用不同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『</a:t>
            </a:r>
            <a:r>
              <a:rPr b="1" lang="zh-TW" sz="2000" spc="-1" strike="noStrike">
                <a:solidFill>
                  <a:srgbClr val="ff3300"/>
                </a:solidFill>
                <a:latin typeface="新細明體"/>
              </a:rPr>
              <a:t>閱讀理解策略</a:t>
            </a:r>
            <a:r>
              <a:rPr b="0" lang="en-US" sz="2000" spc="-1" strike="noStrike">
                <a:solidFill>
                  <a:srgbClr val="000000"/>
                </a:solidFill>
                <a:latin typeface="新細明體"/>
              </a:rPr>
              <a:t>』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，培養其獨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閱讀能力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80280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336699"/>
                </a:solidFill>
                <a:latin typeface="Arial"/>
                <a:ea typeface="標楷體"/>
              </a:rPr>
              <a:t>年教育部閱讀教學策略開發與推廣計畫</a:t>
            </a:r>
            <a:r>
              <a:rPr b="1" lang="zh-TW" sz="2900" spc="-1" strike="noStrike">
                <a:solidFill>
                  <a:srgbClr val="006666"/>
                </a:solidFill>
                <a:latin typeface="標楷體"/>
                <a:ea typeface="標楷體"/>
              </a:rPr>
              <a:t> </a:t>
            </a:r>
            <a:br>
              <a:rPr sz="2900"/>
            </a:br>
            <a:r>
              <a:rPr b="1" lang="zh-TW" sz="2200" spc="-1" strike="noStrike">
                <a:solidFill>
                  <a:srgbClr val="006666"/>
                </a:solidFill>
                <a:latin typeface="Arial"/>
              </a:rPr>
              <a:t>表一　教室中閱讀活動</a:t>
            </a:r>
            <a:r>
              <a:rPr b="0" lang="zh-TW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1773360"/>
          <a:ext cx="8137440" cy="4705200"/>
        </p:xfrm>
        <a:graphic>
          <a:graphicData uri="http://schemas.openxmlformats.org/drawingml/2006/table">
            <a:tbl>
              <a:tblPr/>
              <a:tblGrid>
                <a:gridCol w="3036960"/>
                <a:gridCol w="1699920"/>
                <a:gridCol w="1700280"/>
                <a:gridCol w="1700280"/>
              </a:tblGrid>
              <a:tr h="612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閱讀活動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高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中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0066"/>
                          </a:solidFill>
                          <a:latin typeface="標楷體"/>
                          <a:ea typeface="標楷體"/>
                        </a:rPr>
                        <a:t>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百分比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大聲朗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3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4.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1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默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1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1.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讀字詞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5.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0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閱讀自行選擇的圖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5.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4.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6666"/>
                          </a:solidFill>
                          <a:latin typeface="標楷體"/>
                          <a:ea typeface="標楷體"/>
                        </a:rPr>
                        <a:t>教導或示範閱讀策略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3.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7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9.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新細明體"/>
              </a:rPr>
              <a:t>常被提出的閱讀理解指標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1040" y="1844640"/>
            <a:ext cx="8472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找出大意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-2-1-1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-2-9-5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1-7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解釋閱讀材料，提出理由支持</a:t>
            </a:r>
            <a:r>
              <a:rPr b="0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，</a:t>
            </a:r>
            <a:r>
              <a:rPr b="0" lang="zh-TW" sz="2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2-5-9-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比較自己的經驗、比較以前閱讀過的材料，</a:t>
            </a:r>
            <a:r>
              <a:rPr b="0" lang="zh-TW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4-7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預測文中接下來會發生的事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-2-10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歸納和推論</a:t>
            </a:r>
            <a:r>
              <a:rPr b="0" lang="zh-TW" sz="2800" spc="-1" strike="noStrike">
                <a:solidFill>
                  <a:srgbClr val="ff3300"/>
                </a:solidFill>
                <a:latin typeface="Verdana"/>
                <a:ea typeface="標楷體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-7-7-3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10-10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描述風格和結構，</a:t>
            </a: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3-2-3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4-2-1</a:t>
            </a: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5-7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41:08Z</dcterms:created>
  <dc:creator>Victoria Yu</dc:creator>
  <dc:description/>
  <dc:language>en-US</dc:language>
  <cp:lastModifiedBy>吳燕燕</cp:lastModifiedBy>
  <dcterms:modified xsi:type="dcterms:W3CDTF">2010-10-03T08:35:01Z</dcterms:modified>
  <cp:revision>148</cp:revision>
  <dc:subject/>
  <dc:title>提升學生閱讀理解工作坊</dc:title>
</cp:coreProperties>
</file>