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0B8-50A1-432A-8276-E64C740B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9DC-DB9D-4803-822E-C0B98D75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ACA-88D4-45D2-AF02-876604CD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FC5-3FBE-4C96-803A-7448ADCD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31E-6655-4EA0-9D39-F45A89E3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8A1-54FF-4F79-BE87-16C6D9F2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361-C6DC-4136-ABEE-5CF2BDCA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310-C5BC-4930-B839-1E87E159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1DF-F234-40FB-BDBA-D173209D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EE9-725A-4520-8774-B5050336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FA8-8488-4B19-A9D9-952CD5B3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0EB-EC12-4489-A4A8-B8166F8E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2DED-FEE2-4A79-9D25-2B58C353B24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0000"/>
                </a:solidFill>
                <a:latin typeface="標楷體"/>
                <a:ea typeface="標楷體"/>
              </a:rPr>
              <a:t>影片簡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講述一個九歲的小男孩伊翔，伊翔在大家眼中是一個頑皮，不愛讀書，常闖禍的小孩，可是事實上他是一個擁有無邊無界的想像力，很有繪畫天份的孩子。可是，小朋友都取笑他， 每個老師都覺得他沒有救了，怎麼教都教不會，是一個笨蛋。伊翔也漸漸封閉自己，連最喜歡的繪畫也放棄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直到有一天，一個新來的美術老師來到學校，發現了沈默的伊翔所擁有的無限才能，他用樂觀向上的態度影響了孩子，讓他們重新找回快樂與自信，在他的關注下伊翔終於找回了自己，重拾快樂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標題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0000"/>
                </a:solidFill>
                <a:latin typeface="標楷體"/>
                <a:ea typeface="標楷體"/>
              </a:rPr>
              <a:t>影片簡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本片片名是什麼 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影片中伊翔為什麼常常</a:t>
            </a: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被罵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標題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0000"/>
                </a:solidFill>
                <a:latin typeface="標楷體"/>
                <a:ea typeface="標楷體"/>
              </a:rPr>
              <a:t>故事探討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伊翔學習上有什麼問題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伊翔有什麼地方和其他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人不一樣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標題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0000"/>
                </a:solidFill>
                <a:latin typeface="標楷體"/>
                <a:ea typeface="標楷體"/>
              </a:rPr>
              <a:t>故事探討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5.</a:t>
            </a:r>
            <a:r>
              <a:rPr b="0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伊翔原本是一個樂觀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朗的孩子，為什麼後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變的沉默不語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6.</a:t>
            </a:r>
            <a:r>
              <a:rPr b="0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後來來了一個新老師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發生了什麼事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標題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0000"/>
                </a:solidFill>
                <a:latin typeface="標楷體"/>
                <a:ea typeface="標楷體"/>
              </a:rPr>
              <a:t>故事探討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7.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功課不好的小朋友就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定是笨蛋嗎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8.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如果班上有一個跟伊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一樣每次都考零分，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常闖禍的孩子，你會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何幫助他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標題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0000"/>
                </a:solidFill>
                <a:latin typeface="標楷體"/>
                <a:ea typeface="標楷體"/>
              </a:rPr>
              <a:t>故事探討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2:42:48Z</dcterms:created>
  <dc:creator>Valued Acer Customer</dc:creator>
  <dc:description/>
  <dc:language>en-US</dc:language>
  <cp:lastModifiedBy>USER</cp:lastModifiedBy>
  <dcterms:modified xsi:type="dcterms:W3CDTF">2011-01-25T02:56:47Z</dcterms:modified>
  <cp:revision>6</cp:revision>
  <dc:subject/>
  <dc:title>影片簡介</dc:title>
</cp:coreProperties>
</file>