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006600"/>
                </a:solidFill>
                <a:latin typeface="標楷體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6600"/>
                </a:solidFill>
                <a:latin typeface="標楷體"/>
              </a:rPr>
              <a:t>&lt;date/time&gt;</a:t>
            </a:r>
            <a:endParaRPr b="1" lang="en-US" sz="1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5920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006600"/>
                </a:solidFill>
                <a:latin typeface="標楷體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7707-14A0-4355-AA73-E85A116FB55E}" type="slidenum">
              <a:rPr b="1" lang="zh-TW" sz="1200" spc="-1" strike="noStrike">
                <a:solidFill>
                  <a:srgbClr val="006600"/>
                </a:solidFill>
                <a:latin typeface="標楷體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投影片編號版面配置區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E787-8431-4359-AE7B-97814C07CD33}" type="slidenum">
              <a:rPr b="1" lang="zh-TW" sz="1200" spc="-1" strike="noStrike">
                <a:solidFill>
                  <a:srgbClr val="006600"/>
                </a:solidFill>
                <a:latin typeface="標楷體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86868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61360"/>
            <a:ext cx="86868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0008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0008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6136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6136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6136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61360"/>
            <a:ext cx="86868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534520" y="0"/>
            <a:ext cx="609480" cy="800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8686800" cy="7621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439560">
              <a:spcBef>
                <a:spcPts val="9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338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7840" indent="-3654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\\TPS4\MAC_FILES\__________編務處專用__________\康軒標準字\新資料夾\標準字1.jpg"/>
          <p:cNvPicPr/>
          <p:nvPr/>
        </p:nvPicPr>
        <p:blipFill>
          <a:blip r:embed="rId2"/>
          <a:stretch/>
        </p:blipFill>
        <p:spPr>
          <a:xfrm>
            <a:off x="7772400" y="6620040"/>
            <a:ext cx="1298520" cy="21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001000" y="76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華康粗黑體(P)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 ‧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4</a:t>
            </a:r>
            <a:endParaRPr b="1" lang="en-US" sz="24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第四章 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-4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光學儀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照相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照相機構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右圖為照相機的基本結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構示意圖與實際成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相機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鏡頭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為單一凸透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鏡或是透鏡組，內部有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調節進入相機內光線量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光圈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以及控制底片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曝光時間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快門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D:\康軒\圖檔\98學年\982上課轉圖\04-L4RGB-JPG\MMFC011.jpg"/>
          <p:cNvPicPr/>
          <p:nvPr/>
        </p:nvPicPr>
        <p:blipFill>
          <a:blip r:embed="rId1"/>
          <a:srcRect l="0" t="34746" r="0" b="13913"/>
          <a:stretch/>
        </p:blipFill>
        <p:spPr>
          <a:xfrm>
            <a:off x="5786280" y="3857760"/>
            <a:ext cx="3035520" cy="20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:\康軒\圖檔\98學年\982上課轉圖\04-L4RGB-JPG\07-相機基本結構.jpg"/>
          <p:cNvPicPr/>
          <p:nvPr/>
        </p:nvPicPr>
        <p:blipFill>
          <a:blip r:embed="rId2"/>
          <a:srcRect l="0" t="2201" r="0" b="51096"/>
          <a:stretch/>
        </p:blipFill>
        <p:spPr>
          <a:xfrm>
            <a:off x="5818320" y="928800"/>
            <a:ext cx="29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照相機拍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以照相機拍攝時，鏡頭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景物經透鏡折射後產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生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倒立實像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恰好落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在底片上，使底片感光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便可記錄下景物的影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D:\康軒\圖檔\98學年\982上課轉圖\04-L4RGB-JPG\07-相機基本結構.jpg"/>
          <p:cNvPicPr/>
          <p:nvPr/>
        </p:nvPicPr>
        <p:blipFill>
          <a:blip r:embed="rId1"/>
          <a:srcRect l="0" t="2201" r="0" b="51096"/>
          <a:stretch/>
        </p:blipFill>
        <p:spPr>
          <a:xfrm>
            <a:off x="5818320" y="928800"/>
            <a:ext cx="29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知識快遞之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292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目前數位相機已漸漸取代傳統相機。兩者最大的不同，是數位相機以影像感光元件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ge coupled device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簡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CD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）取代底片，將影像轉換成數位訊號儲存於記憶體上，並可連接電腦或電視直接顯示影像，也可使用印表機直接列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圖片 8" descr="知識快遞2.jpg"/>
          <p:cNvPicPr/>
          <p:nvPr/>
        </p:nvPicPr>
        <p:blipFill>
          <a:blip r:embed="rId1"/>
          <a:stretch/>
        </p:blipFill>
        <p:spPr>
          <a:xfrm>
            <a:off x="44280" y="712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變焦鏡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有些相機配備可以前後移動的變焦鏡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頭，用來調整鏡頭與底片的距離（即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像距），以改變在底片處形成的實像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大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知識快遞之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292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以透鏡成像來說，像距就是光線到物體經過透鏡所形成的像到透鏡的距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若以面鏡成像來說，則是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指光線經由面鏡反射所形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成的像到面鏡的距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圖片 8" descr="知識快遞2.jpg"/>
          <p:cNvPicPr/>
          <p:nvPr/>
        </p:nvPicPr>
        <p:blipFill>
          <a:blip r:embed="rId1"/>
          <a:stretch/>
        </p:blipFill>
        <p:spPr>
          <a:xfrm>
            <a:off x="44280" y="71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D:\康軒\圖檔\98學年\982上課轉圖\04-L4RGB-JPG\p96知識快遞圖.jpg"/>
          <p:cNvPicPr/>
          <p:nvPr/>
        </p:nvPicPr>
        <p:blipFill>
          <a:blip r:embed="rId2"/>
          <a:stretch/>
        </p:blipFill>
        <p:spPr>
          <a:xfrm>
            <a:off x="611280" y="2151000"/>
            <a:ext cx="5175000" cy="2030400"/>
          </a:xfrm>
          <a:prstGeom prst="rect">
            <a:avLst/>
          </a:prstGeom>
          <a:ln w="0">
            <a:noFill/>
          </a:ln>
        </p:spPr>
      </p:pic>
      <p:sp>
        <p:nvSpPr>
          <p:cNvPr id="93" name="文字方塊 8"/>
          <p:cNvSpPr/>
          <p:nvPr/>
        </p:nvSpPr>
        <p:spPr>
          <a:xfrm>
            <a:off x="3783600" y="37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像距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pic>
        <p:nvPicPr>
          <p:cNvPr id="94" name="Picture 5" descr="D:\康軒\圖檔\98學年\982上課轉圖\04-L4RGB-JPG\p116成像示意.jpg"/>
          <p:cNvPicPr/>
          <p:nvPr/>
        </p:nvPicPr>
        <p:blipFill>
          <a:blip r:embed="rId3"/>
          <a:stretch/>
        </p:blipFill>
        <p:spPr>
          <a:xfrm>
            <a:off x="6143760" y="3571920"/>
            <a:ext cx="2800080" cy="2800440"/>
          </a:xfrm>
          <a:prstGeom prst="rect">
            <a:avLst/>
          </a:prstGeom>
          <a:ln w="0">
            <a:noFill/>
          </a:ln>
        </p:spPr>
      </p:pic>
      <p:sp>
        <p:nvSpPr>
          <p:cNvPr id="95" name="文字方塊 10"/>
          <p:cNvSpPr/>
          <p:nvPr/>
        </p:nvSpPr>
        <p:spPr>
          <a:xfrm>
            <a:off x="7740360" y="593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像距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動腦時間之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參考實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·3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透鏡的成像結果，使用照相機拍攝景物時，若能在底片上形成清楚的實像，則景物的位置與透鏡組的焦距間有何關係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景物應位於透鏡組的兩倍焦距外。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照相機底片（感光材料）上的成像為倒立縮小實像，依實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·3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實驗結果，物體應置於透鏡組兩倍焦距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28" descr="D:\94(一)_Source\國中光碟素材\國1\PPT_待修\第1章 孕育生命的世界\Pict\燈泡.jpg"/>
          <p:cNvPicPr/>
          <p:nvPr/>
        </p:nvPicPr>
        <p:blipFill>
          <a:blip r:embed="rId1"/>
          <a:stretch/>
        </p:blipFill>
        <p:spPr>
          <a:xfrm>
            <a:off x="0" y="0"/>
            <a:ext cx="590400" cy="90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5875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眼睛與眼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眼睛構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人的眼睛主要結構如下圖所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D:\康軒\圖檔\98學年\982上課轉圖\04-L4RGB-JPG\07-眼球結構.jpg"/>
          <p:cNvPicPr/>
          <p:nvPr/>
        </p:nvPicPr>
        <p:blipFill>
          <a:blip r:embed="rId1"/>
          <a:stretch/>
        </p:blipFill>
        <p:spPr>
          <a:xfrm>
            <a:off x="1428840" y="1817640"/>
            <a:ext cx="6049800" cy="4969080"/>
          </a:xfrm>
          <a:prstGeom prst="rect">
            <a:avLst/>
          </a:prstGeom>
          <a:ln w="0">
            <a:noFill/>
          </a:ln>
        </p:spPr>
      </p:pic>
      <p:sp>
        <p:nvSpPr>
          <p:cNvPr id="105" name="直線接點 5"/>
          <p:cNvSpPr/>
          <p:nvPr/>
        </p:nvSpPr>
        <p:spPr>
          <a:xfrm flipH="1">
            <a:off x="5786280" y="4973760"/>
            <a:ext cx="285840" cy="114300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06" name="直線接點 6"/>
          <p:cNvSpPr/>
          <p:nvPr/>
        </p:nvSpPr>
        <p:spPr>
          <a:xfrm flipV="1">
            <a:off x="6581880" y="3990600"/>
            <a:ext cx="357120" cy="107172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07" name="文字方塊 7"/>
          <p:cNvSpPr/>
          <p:nvPr/>
        </p:nvSpPr>
        <p:spPr>
          <a:xfrm>
            <a:off x="5491080" y="592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血管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08" name="文字方塊 8"/>
          <p:cNvSpPr/>
          <p:nvPr/>
        </p:nvSpPr>
        <p:spPr>
          <a:xfrm>
            <a:off x="6467040" y="3473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視神經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09" name="直線接點 9"/>
          <p:cNvSpPr/>
          <p:nvPr/>
        </p:nvSpPr>
        <p:spPr>
          <a:xfrm flipH="1">
            <a:off x="1714680" y="4929120"/>
            <a:ext cx="714240" cy="642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0" name="直線接點 10"/>
          <p:cNvSpPr/>
          <p:nvPr/>
        </p:nvSpPr>
        <p:spPr>
          <a:xfrm flipH="1">
            <a:off x="1142640" y="4214160"/>
            <a:ext cx="1071720" cy="57132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1" name="直線接點 11"/>
          <p:cNvSpPr/>
          <p:nvPr/>
        </p:nvSpPr>
        <p:spPr>
          <a:xfrm flipH="1" flipV="1">
            <a:off x="972720" y="3366720"/>
            <a:ext cx="714600" cy="78588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2" name="文字方塊 12"/>
          <p:cNvSpPr/>
          <p:nvPr/>
        </p:nvSpPr>
        <p:spPr>
          <a:xfrm>
            <a:off x="1306080" y="5500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睫狀肌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3" name="文字方塊 13"/>
          <p:cNvSpPr/>
          <p:nvPr/>
        </p:nvSpPr>
        <p:spPr>
          <a:xfrm>
            <a:off x="833400" y="468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瞳孔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4" name="文字方塊 14"/>
          <p:cNvSpPr/>
          <p:nvPr/>
        </p:nvSpPr>
        <p:spPr>
          <a:xfrm>
            <a:off x="686520" y="2857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角膜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5" name="直線接點 15"/>
          <p:cNvSpPr/>
          <p:nvPr/>
        </p:nvSpPr>
        <p:spPr>
          <a:xfrm flipH="1" flipV="1">
            <a:off x="2071440" y="2357280"/>
            <a:ext cx="500040" cy="15717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6" name="文字方塊 16"/>
          <p:cNvSpPr/>
          <p:nvPr/>
        </p:nvSpPr>
        <p:spPr>
          <a:xfrm>
            <a:off x="1621800" y="1822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水晶體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7" name="直線接點 17"/>
          <p:cNvSpPr/>
          <p:nvPr/>
        </p:nvSpPr>
        <p:spPr>
          <a:xfrm flipV="1">
            <a:off x="5054760" y="2517480"/>
            <a:ext cx="1071360" cy="50004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8" name="文字方塊 18"/>
          <p:cNvSpPr/>
          <p:nvPr/>
        </p:nvSpPr>
        <p:spPr>
          <a:xfrm>
            <a:off x="6300360" y="2179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視網膜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99200" y="6172200"/>
            <a:ext cx="596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視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前景物發出或反射的光線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經由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角膜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折射後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穿過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瞳孔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進入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晶體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水晶體相當於一個精巧的凸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透鏡，可藉著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睫狀肌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調整焦距，使光線能夠聚焦在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視網膜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上而清晰成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並經由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視神經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傳遞引發視覺，使人能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清楚的看見眼前景物的形狀、大小及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顏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D:\康軒\圖檔\98學年\982上課轉圖\04-L4RGB-JPG\07-眼球結構.jpg"/>
          <p:cNvPicPr/>
          <p:nvPr/>
        </p:nvPicPr>
        <p:blipFill>
          <a:blip r:embed="rId1"/>
          <a:stretch/>
        </p:blipFill>
        <p:spPr>
          <a:xfrm>
            <a:off x="6653160" y="1155600"/>
            <a:ext cx="24195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教學流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複式顯微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照相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睛與眼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練習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眼睛調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視力正常的人，水晶體會隨著眼睛所注視物體位置的遠近調整其焦距，使遠方至眼前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公分處的物體均能在視網膜上清晰成像（見下圖）。有近視或遠視的人，眼睛無法使眼前的景物在視網膜上清晰成像，因此視力必須矯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77080" y="4869000"/>
            <a:ext cx="5875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觀看遠處物體的成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調整水晶體焦距，使物體在視網膜上清晰成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D:\康軒\圖檔\98學年\982上課轉圖\04-L4RGB-JPG\4-32AB圖新.jpg"/>
          <p:cNvPicPr/>
          <p:nvPr/>
        </p:nvPicPr>
        <p:blipFill>
          <a:blip r:embed="rId1"/>
          <a:srcRect l="0" t="0" r="0" b="52902"/>
          <a:stretch/>
        </p:blipFill>
        <p:spPr>
          <a:xfrm>
            <a:off x="82440" y="2357280"/>
            <a:ext cx="8918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觀看近處物體的成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調整水晶體焦距，使物體在視網膜上清晰成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D:\康軒\圖檔\98學年\982上課轉圖\04-L4RGB-JPG\4-32AB圖新.jpg"/>
          <p:cNvPicPr/>
          <p:nvPr/>
        </p:nvPicPr>
        <p:blipFill>
          <a:blip r:embed="rId1"/>
          <a:srcRect l="0" t="52756" r="0" b="0"/>
          <a:stretch/>
        </p:blipFill>
        <p:spPr>
          <a:xfrm>
            <a:off x="142920" y="2357280"/>
            <a:ext cx="891864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動腦時間之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000080"/>
            <a:ext cx="59990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試比較右邊的相機和眼睛成像示意圖，說明為什麼底片和視網膜上的成像都是倒立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答：比較兩圖可知，人體的水晶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體相當於相機內的鏡頭，即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為凸透鏡，眼前景物發出或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反射光線，折射進入眼睛或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相機時，便使光線能夠聚焦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在視網膜上而成倒立的實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28" descr="D:\94(一)_Source\國中光碟素材\國1\PPT_待修\第1章 孕育生命的世界\Pict\燈泡.jpg"/>
          <p:cNvPicPr/>
          <p:nvPr/>
        </p:nvPicPr>
        <p:blipFill>
          <a:blip r:embed="rId1"/>
          <a:stretch/>
        </p:blipFill>
        <p:spPr>
          <a:xfrm>
            <a:off x="0" y="0"/>
            <a:ext cx="590400" cy="90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D:\康軒\圖檔\98學年\982上課轉圖\04-L4RGB-JPG\07-相機基本結構.jpg"/>
          <p:cNvPicPr/>
          <p:nvPr/>
        </p:nvPicPr>
        <p:blipFill>
          <a:blip r:embed="rId2"/>
          <a:srcRect l="0" t="2201" r="0" b="51096"/>
          <a:stretch/>
        </p:blipFill>
        <p:spPr>
          <a:xfrm>
            <a:off x="6148440" y="1143000"/>
            <a:ext cx="2971800" cy="235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康軒\圖檔\98學年\982上課轉圖\04-L4RGB-JPG\4-32AB圖新.jpg"/>
          <p:cNvPicPr/>
          <p:nvPr/>
        </p:nvPicPr>
        <p:blipFill>
          <a:blip r:embed="rId3"/>
          <a:srcRect l="36847" t="52756" r="0" b="0"/>
          <a:stretch/>
        </p:blipFill>
        <p:spPr>
          <a:xfrm>
            <a:off x="6226200" y="3424320"/>
            <a:ext cx="28162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近視眼與矯正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近視眼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人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睛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晶體的焦距過短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因此較遠處的物體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成像在視網膜的前方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看起來會模糊不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如果配戴適當焦距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凹透鏡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使光線進入眼睛前先行發散，便能將遠處物體的成像清晰落在視網膜上，達到矯正視力的目的（見下圖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近視眼與矯正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D:\康軒\圖檔\98學年\982上課轉圖\04-L4RGB-JPG\07-近視眼.jpg"/>
          <p:cNvPicPr/>
          <p:nvPr/>
        </p:nvPicPr>
        <p:blipFill>
          <a:blip r:embed="rId1"/>
          <a:stretch/>
        </p:blipFill>
        <p:spPr>
          <a:xfrm>
            <a:off x="1785960" y="847800"/>
            <a:ext cx="6465960" cy="5683320"/>
          </a:xfrm>
          <a:prstGeom prst="rect">
            <a:avLst/>
          </a:prstGeom>
          <a:ln w="0">
            <a:noFill/>
          </a:ln>
        </p:spPr>
      </p:pic>
      <p:sp>
        <p:nvSpPr>
          <p:cNvPr id="141" name="文字方塊 4"/>
          <p:cNvSpPr/>
          <p:nvPr/>
        </p:nvSpPr>
        <p:spPr>
          <a:xfrm>
            <a:off x="466200" y="1781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矯正前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42" name="文字方塊 5"/>
          <p:cNvSpPr/>
          <p:nvPr/>
        </p:nvSpPr>
        <p:spPr>
          <a:xfrm>
            <a:off x="466200" y="4946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矯正後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遠視眼與矯正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遠視眼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人，須將書報遠離眼睛才能看清楚書報上的小字，這是由於遠視的人，其眼睛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晶體焦距過長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所以近處的物體會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成像在視網膜後方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如果配戴適當焦距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凸透鏡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使光線進入眼睛前先行會聚，則近處物體的成像就能落在視網膜上，便可在正常距離下閱讀書報了（見下圖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遠視眼與矯正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文字方塊 4"/>
          <p:cNvSpPr/>
          <p:nvPr/>
        </p:nvSpPr>
        <p:spPr>
          <a:xfrm>
            <a:off x="1478880" y="1776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矯正前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47" name="文字方塊 5"/>
          <p:cNvSpPr/>
          <p:nvPr/>
        </p:nvSpPr>
        <p:spPr>
          <a:xfrm>
            <a:off x="1478880" y="5041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矯正後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pic>
        <p:nvPicPr>
          <p:cNvPr id="148" name="Picture 2" descr="D:\康軒\圖檔\98學年\982上課轉圖\04-L4RGB-JPG\07-遠視眼新.jpg"/>
          <p:cNvPicPr/>
          <p:nvPr/>
        </p:nvPicPr>
        <p:blipFill>
          <a:blip r:embed="rId1"/>
          <a:stretch/>
        </p:blipFill>
        <p:spPr>
          <a:xfrm>
            <a:off x="2857680" y="1000080"/>
            <a:ext cx="47592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老花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一般較年長的人會有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老花眼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是由於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晶體調節機能衰退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所引起，老花眼的人可配戴適當焦距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凸透鏡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來加以補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探索活動：光學儀器大搜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除了以上介紹的幾種光學儀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外，其他如望遠鏡、投影機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放映機等光學儀器也都利用到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透鏡（如右圖），可上網或至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圖書館查閱相關書籍，學習它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們的成像原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D:\94(一)_Source\國中光碟素材\國1\PPT_待修\第5章 生物的協調作用\Pict\探索活動.JPG"/>
          <p:cNvPicPr/>
          <p:nvPr/>
        </p:nvPicPr>
        <p:blipFill>
          <a:blip r:embed="rId1"/>
          <a:stretch/>
        </p:blipFill>
        <p:spPr>
          <a:xfrm>
            <a:off x="9360" y="96840"/>
            <a:ext cx="716040" cy="60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D:\康軒\圖檔\98學年\982上課轉圖\04-L4RGB-JPG\04-雙筒望遠鏡.jpg"/>
          <p:cNvPicPr/>
          <p:nvPr/>
        </p:nvPicPr>
        <p:blipFill>
          <a:blip r:embed="rId2"/>
          <a:stretch/>
        </p:blipFill>
        <p:spPr>
          <a:xfrm>
            <a:off x="6143760" y="4214880"/>
            <a:ext cx="2862000" cy="198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D:\康軒\圖檔\98學年\982上課轉圖\04-L4RGB-JPG\07-投影機.jpg"/>
          <p:cNvPicPr/>
          <p:nvPr/>
        </p:nvPicPr>
        <p:blipFill>
          <a:blip r:embed="rId3"/>
          <a:stretch/>
        </p:blipFill>
        <p:spPr>
          <a:xfrm>
            <a:off x="6929280" y="1071720"/>
            <a:ext cx="202248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複式顯微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4600" indent="-444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如圖所示，韻庭觀看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遠處物體時，成像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視網膜前而無法看清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楚遠處的物體。則韻庭患有近視眼，還是遠視眼？需配戴何種鏡片矯正視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近視眼，以凹透鏡矯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近視眼，以凸透鏡矯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遠視眼，凹透鏡矯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遠視眼，以凸透鏡矯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D:\康軒\圖檔\98學年\982上課轉圖\04-L4RGB-JPG\07-近視眼.jpg"/>
          <p:cNvPicPr/>
          <p:nvPr/>
        </p:nvPicPr>
        <p:blipFill>
          <a:blip r:embed="rId1"/>
          <a:srcRect l="0" t="0" r="0" b="50566"/>
          <a:stretch/>
        </p:blipFill>
        <p:spPr>
          <a:xfrm>
            <a:off x="5143680" y="1066680"/>
            <a:ext cx="379080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9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如圖所示，韻庭觀看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遠處物體時，成像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視網膜前而無法看清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楚遠處的物體。則韻庭患有近視眼，還是遠視眼？需配戴何種鏡片矯正視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無法看清楚遠處的物體表示患有近視眼，可配戴適當焦距的凹透鏡矯正。</a:t>
            </a:r>
            <a:br>
              <a:rPr sz="3600"/>
            </a:b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D:\康軒\圖檔\98學年\982上課轉圖\04-L4RGB-JPG\07-近視眼.jpg"/>
          <p:cNvPicPr/>
          <p:nvPr/>
        </p:nvPicPr>
        <p:blipFill>
          <a:blip r:embed="rId1"/>
          <a:srcRect l="0" t="0" r="0" b="50566"/>
          <a:stretch/>
        </p:blipFill>
        <p:spPr>
          <a:xfrm>
            <a:off x="5143680" y="1066680"/>
            <a:ext cx="3790800" cy="1648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5875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5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南五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列敘述何者</a:t>
            </a:r>
            <a:r>
              <a:rPr b="1" lang="zh-TW" sz="3600" spc="-1" strike="noStrike" u="sng">
                <a:solidFill>
                  <a:srgbClr val="000000"/>
                </a:solidFill>
                <a:uFillTx/>
                <a:latin typeface="Times New Roman"/>
              </a:rPr>
              <a:t>錯誤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照相機所成的像為縮小的倒立實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睛的水晶體相當於一個精巧的透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凸透鏡欲成放大的像，須將物體放在兩倍焦距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使用放大鏡時，將物體放在焦點內，可得放大虛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5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南五專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列敘述何者</a:t>
            </a:r>
            <a:r>
              <a:rPr b="1" lang="zh-TW" sz="3600" spc="-1" strike="noStrike" u="sng">
                <a:solidFill>
                  <a:srgbClr val="000000"/>
                </a:solidFill>
                <a:uFillTx/>
                <a:latin typeface="Times New Roman"/>
              </a:rPr>
              <a:t>錯誤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照相機成像在底片，故為縮小的倒立實像，選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正確，不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睛的水晶體相當於透鏡，選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正確，不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放大鏡為凸透鏡，物體放在焦點內，可得放大虛像，選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正確，不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凸透鏡欲成放大的像，須將物體放在兩倍焦距內，選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錯誤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基測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Ⅰ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7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列四種鏡片，何者可用以矯治近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字方塊 4"/>
          <p:cNvSpPr/>
          <p:nvPr/>
        </p:nvSpPr>
        <p:spPr>
          <a:xfrm>
            <a:off x="795240" y="17146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(A)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70" name="文字方塊 5"/>
          <p:cNvSpPr/>
          <p:nvPr/>
        </p:nvSpPr>
        <p:spPr>
          <a:xfrm>
            <a:off x="4743720" y="171468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(B)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71" name="文字方塊 5"/>
          <p:cNvSpPr/>
          <p:nvPr/>
        </p:nvSpPr>
        <p:spPr>
          <a:xfrm>
            <a:off x="799560" y="34164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(C)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72" name="文字方塊 7"/>
          <p:cNvSpPr/>
          <p:nvPr/>
        </p:nvSpPr>
        <p:spPr>
          <a:xfrm>
            <a:off x="4732200" y="34164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(D)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  <p:pic>
        <p:nvPicPr>
          <p:cNvPr id="173" name="圖片 7" descr="90學測Ⅰ47A.tif"/>
          <p:cNvPicPr/>
          <p:nvPr/>
        </p:nvPicPr>
        <p:blipFill>
          <a:blip r:embed="rId1"/>
          <a:stretch/>
        </p:blipFill>
        <p:spPr>
          <a:xfrm>
            <a:off x="1762200" y="1785960"/>
            <a:ext cx="1573200" cy="1520640"/>
          </a:xfrm>
          <a:prstGeom prst="rect">
            <a:avLst/>
          </a:prstGeom>
          <a:ln w="0">
            <a:noFill/>
          </a:ln>
        </p:spPr>
      </p:pic>
      <p:pic>
        <p:nvPicPr>
          <p:cNvPr id="174" name="圖片 8" descr="90學測Ⅰ47B.tif"/>
          <p:cNvPicPr/>
          <p:nvPr/>
        </p:nvPicPr>
        <p:blipFill>
          <a:blip r:embed="rId2"/>
          <a:stretch/>
        </p:blipFill>
        <p:spPr>
          <a:xfrm>
            <a:off x="5762520" y="1785960"/>
            <a:ext cx="1573200" cy="1520640"/>
          </a:xfrm>
          <a:prstGeom prst="rect">
            <a:avLst/>
          </a:prstGeom>
          <a:ln w="0">
            <a:noFill/>
          </a:ln>
        </p:spPr>
      </p:pic>
      <p:pic>
        <p:nvPicPr>
          <p:cNvPr id="175" name="圖片 9" descr="90學測Ⅰ47C.tif"/>
          <p:cNvPicPr/>
          <p:nvPr/>
        </p:nvPicPr>
        <p:blipFill>
          <a:blip r:embed="rId3"/>
          <a:stretch/>
        </p:blipFill>
        <p:spPr>
          <a:xfrm>
            <a:off x="1762200" y="3714840"/>
            <a:ext cx="1573200" cy="1520640"/>
          </a:xfrm>
          <a:prstGeom prst="rect">
            <a:avLst/>
          </a:prstGeom>
          <a:ln w="0">
            <a:noFill/>
          </a:ln>
        </p:spPr>
      </p:pic>
      <p:pic>
        <p:nvPicPr>
          <p:cNvPr id="176" name="圖片 10" descr="90學測Ⅰ47D.tif"/>
          <p:cNvPicPr/>
          <p:nvPr/>
        </p:nvPicPr>
        <p:blipFill>
          <a:blip r:embed="rId4"/>
          <a:stretch/>
        </p:blipFill>
        <p:spPr>
          <a:xfrm>
            <a:off x="5762520" y="3714840"/>
            <a:ext cx="1573200" cy="152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基測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Ⅰ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7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題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列四種鏡片，何者可用以矯治近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矯正近視眼應用凹透鏡。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所謂凹透鏡是中間薄兩側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厚的透鏡，故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圖片 3" descr="90學測Ⅰ47A.tif"/>
          <p:cNvPicPr/>
          <p:nvPr/>
        </p:nvPicPr>
        <p:blipFill>
          <a:blip r:embed="rId1"/>
          <a:stretch/>
        </p:blipFill>
        <p:spPr>
          <a:xfrm>
            <a:off x="6531120" y="1884240"/>
            <a:ext cx="2247840" cy="2171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587520" cy="6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-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光學儀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結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前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透過顯微鏡可以觀察肉眼看不到的微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生物，這些影像可以利用照相機拍攝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來。顯微鏡、照相機及矯正視力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鏡中都有透鏡，本節將簡單介紹這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些光學儀器的工作原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複式顯微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複式顯微鏡使用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兩片凸透鏡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作為物鏡與目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睛透過顯微鏡所觀察到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像，是經過兩次放大，並與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原標本互為</a:t>
            </a:r>
            <a:br>
              <a:rPr sz="3600"/>
            </a:b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上下顛倒、左右相反的虛像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D:\康軒\圖檔\98學年\982上課轉圖\04-L4RGB-JPG\01-複式顯微鏡.jpg"/>
          <p:cNvPicPr/>
          <p:nvPr/>
        </p:nvPicPr>
        <p:blipFill>
          <a:blip r:embed="rId1"/>
          <a:stretch/>
        </p:blipFill>
        <p:spPr>
          <a:xfrm>
            <a:off x="6634080" y="1160640"/>
            <a:ext cx="23781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知識快遞之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292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置於複式顯微鏡下方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標本，經物鏡形成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與原物體倒立的放大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實像，並使得此實像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落在目鏡的焦點內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然後再經目鏡後形成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與原物體倒立的放大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虛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圖片 8" descr="知識快遞2.jpg"/>
          <p:cNvPicPr/>
          <p:nvPr/>
        </p:nvPicPr>
        <p:blipFill>
          <a:blip r:embed="rId1"/>
          <a:stretch/>
        </p:blipFill>
        <p:spPr>
          <a:xfrm>
            <a:off x="44280" y="71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5092560" y="952560"/>
            <a:ext cx="38196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動腦時間之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複式顯微鏡的物鏡下方，可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集中光線的反光鏡，屬於哪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一種面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凹面鏡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複式顯微鏡的物鏡結構中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位於下方可集中光線的反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光面鏡是屬於凹面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28" descr="D:\94(一)_Source\國中光碟素材\國1\PPT_待修\第1章 孕育生命的世界\Pict\燈泡.jpg"/>
          <p:cNvPicPr/>
          <p:nvPr/>
        </p:nvPicPr>
        <p:blipFill>
          <a:blip r:embed="rId1"/>
          <a:stretch/>
        </p:blipFill>
        <p:spPr>
          <a:xfrm>
            <a:off x="0" y="0"/>
            <a:ext cx="590400" cy="90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D:\康軒\圖檔\98學年\982上課轉圖\04-L4RGB-JPG\01-複式顯微鏡.jpg"/>
          <p:cNvPicPr/>
          <p:nvPr/>
        </p:nvPicPr>
        <p:blipFill>
          <a:blip r:embed="rId2"/>
          <a:stretch/>
        </p:blipFill>
        <p:spPr>
          <a:xfrm>
            <a:off x="6634080" y="1160640"/>
            <a:ext cx="23781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4600" indent="-444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使用複式顯微鏡觀察植物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葉下表皮，右圖為視野中所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見的細胞。若想將箭頭所指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細胞，移至視野中央，應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將玻片往哪一方向移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右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右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左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左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D:\康軒\圖檔\98學年\982上課轉圖\04-L4RGB-JPG\葉下表皮.jpg"/>
          <p:cNvPicPr/>
          <p:nvPr/>
        </p:nvPicPr>
        <p:blipFill>
          <a:blip r:embed="rId1"/>
          <a:stretch/>
        </p:blipFill>
        <p:spPr>
          <a:xfrm>
            <a:off x="6572160" y="1155600"/>
            <a:ext cx="23464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8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使用複式顯微鏡觀察植物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葉下表皮，想將箭頭所指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細胞，移至視野中央，應將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玻片往哪一方向移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因複式顯微鏡的成像與原細胞互為上下顛倒、左右相反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D:\康軒\圖檔\98學年\982上課轉圖\04-L4RGB-JPG\葉下表皮.jpg"/>
          <p:cNvPicPr/>
          <p:nvPr/>
        </p:nvPicPr>
        <p:blipFill>
          <a:blip r:embed="rId1"/>
          <a:stretch/>
        </p:blipFill>
        <p:spPr>
          <a:xfrm>
            <a:off x="6572160" y="1155600"/>
            <a:ext cx="2346480" cy="1987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5875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6:19:14Z</dcterms:created>
  <dc:creator>yykao</dc:creator>
  <dc:description/>
  <dc:language>en-US</dc:language>
  <cp:lastModifiedBy>dolale</cp:lastModifiedBy>
  <dcterms:modified xsi:type="dcterms:W3CDTF">2009-07-19T03:03:35Z</dcterms:modified>
  <cp:revision>43</cp:revision>
  <dc:subject/>
  <dc:title>第四章 光</dc:title>
</cp:coreProperties>
</file>