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DC4C-ED4E-4359-B88C-08CD1F0E3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68AB-C8FD-4C2A-AA77-8776B01D3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1BF-75D0-4CD3-A0C1-6200941F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E9F-C228-42DF-B50B-2826F8DC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FBC4F-4874-4892-B7CC-4BD85EF0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E9740-2FD7-49AC-9760-BBAAD193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BCC77-EC22-4E32-B69A-8A5CC065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1A048-83FA-4B73-B6AE-361F512D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12D42-373F-42D1-8A5B-E75E20BF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14E82-F9EF-4192-923A-342A1FD9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2420F-B70E-45BD-9E1F-1AFE8EA0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F3F67-ABDE-4552-BF70-CBA1BDC7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6C21A-C588-4BAF-9176-05AFC46E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6FE04-0F71-49C0-AF73-F6869518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71A-FECB-4617-9038-3E680414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5EABA-5FEF-46E7-BF7E-3086C5B5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4293B-C490-435F-A818-BB80C1FA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56D0F-8A67-4FCB-8967-BB7E8D57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09274-4937-4FF8-915B-0A6D06FA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83F40-74E7-4BCE-8DBB-688DBE89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AD9D8-2ACD-4522-98FD-99D30EFD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EF743-281C-4A60-8A3C-BD65AEC4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66370-A318-4198-B1B3-46BDC37F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703DE-2155-4ADE-AA59-00362974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C4DB9-8F56-48E1-AD30-6544279A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8FA-AF27-49AC-8961-9B6675D1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8D4DC-BD2E-4A8F-888D-53B4662C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74BB2-BF1F-4716-B147-24BDC6E5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49196-292C-41DF-A848-DAEF73A7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F543F-6259-4A35-9460-E892252C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4455D-C21F-45F9-8E78-C2B1AF70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99992-5701-46F3-B4A6-05EEBDF4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689D8-788D-4FC8-BE6E-138EA8BE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425E5-E09E-47C0-8D82-56375239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40479-71C0-4D01-94D8-9134DF77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09AFE-DA5A-4829-BA61-6E2EC97E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970E-A426-4DCE-9FFC-62526A54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6E062-067A-4953-BFA7-502F5379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37AAF-9547-46BA-9660-1BEA18B5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8D950-0C97-497A-A3AD-A8358E3B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56A9A-B516-44AD-A1D0-4EA22D4C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F610C-8492-4366-BDAC-4918A665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656A3-0B4E-4C40-8F09-09495FBB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3EEC7-A5B9-4064-B8FF-D60323E4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A7EBF-F7B8-443F-9872-1244F485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3A151-1AD5-4418-8C3B-8DAA541D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CC999-0056-42B7-ADC1-77BD04F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F3F3-6E30-486E-83BA-B2F8EDD1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E40E9-959E-438F-8802-E34BE709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33494-54AD-4E14-95CB-542434E2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9E1AB-C50E-44A6-8063-20410120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C379B-7DE5-4776-A41A-383936D0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B5BCE-DA13-49FB-AC6B-D76324EF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ED526-6E8B-4691-BEBF-5781E916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F15F0-C6AE-41CB-9CC9-32C93E97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9D999-D494-4B7C-B7DF-E6FCF76F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96A83-8DB8-4501-A2C5-0FCB53C1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6B6E0-F0CA-4F56-8463-EDA5FCB2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37DA-6527-41B8-9082-D9A4DF44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91DE0-B120-48E3-ACDB-4401D1C6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5E9AE-D108-4179-AD27-BC028CB5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DAD17-5B66-4625-8F3F-C4378DE0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32405-7EC7-4D32-AD22-CA6D91DC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8A4B8-079D-4998-98A4-C5DB196D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0B3D5-00CC-408C-983A-4AFDF43D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0F86B-BC67-4399-BD41-2C081DFF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48CC-30C6-4C76-B2AE-E9FEE53A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F4C1-94D8-44E6-ABE6-79C31B51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3AFF-F3B3-480B-A6EC-A7C27942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EE4D-A51B-43A0-ADBF-B2085136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A6C-612E-46AF-8B2B-5B183617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DD05-6EAC-4C2F-BD75-61388D75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FFE3-E34D-4D86-9CE5-37B766BB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A61D-733B-4FB9-B92D-9CFE370D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4F44-3697-4A6C-B61E-CB8008FB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EB7D-2A2F-444C-B8D1-F1F6493F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EFDB9-0F78-4F53-AF7C-45D3C6D9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D3F23-2098-4C0F-8343-1B9CBE7F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D23A-D50E-45A7-B23C-96621511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92FD-7B08-4096-93A4-582BF0B1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A7A5-16F0-48D4-A411-24122B95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2BA-0F41-47A6-965B-A6D76B86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5D89-F036-487A-9F27-E766F30D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D3F63-3171-4751-901C-C163FD64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9E4A-9A8B-426B-B192-1419AC4D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188AA-FDE2-492F-8BED-FC667042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3C24C-F206-40A7-837C-2E5EE891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2D51-5FDD-4487-935C-71678CFF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C3BB-EC47-4802-BEF5-FCC3736C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50E60-00B6-4E90-9EEE-391B0E36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C5CB0-DBBD-4A0C-A277-77BBC362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288F2-A4ED-461F-A0C3-41062885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423-3229-45AD-A2C7-6B95A353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F5A58-8952-4633-A4D1-BBDA52B8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FB898-FDF9-4AF7-968B-F0718914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7D025-8C1F-4F19-BB72-B427156D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93634-BEEE-4417-8EF2-4F6B845C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D41E4-5747-41BE-AC88-04393999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C7A6B-D6D1-45E8-8166-E34F5C30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54FC6-0BC1-45FE-8221-A7ED94EF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388C5-AB51-4CA0-AA9B-A0C1036C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653CB-A99D-4816-89D1-A527B43C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CE4DF-455E-470A-9D57-D4AD2595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A34-288F-46A1-8672-0538172F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CBB01-51B4-4F25-B8E4-E749DFEB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63C3-2E1D-4EE2-960D-398BD85F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48EBE-5EF9-4DEB-8514-DEDBBD32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02166-618C-4C9E-9256-D37B1E74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BB00C-73E5-4D48-BD22-163C4EFB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04E7F-85D0-44A1-BA6A-122EA94D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0DAC4-E6DB-49C5-9E2B-B93DD397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92C42-4E5E-4298-A1D0-C415FFE0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7AB1F-CD90-4D10-8D5F-C7EF70D1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E219C-BC05-40D8-B81C-5D3E9EA1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8358-FBB8-472F-B573-86114DA3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F10C0-BEC1-4F0A-84B7-38DBC82D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8D6FD-5B71-49C6-A871-94D17489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19CCE-719B-4203-A3BE-5864CCD0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53F7B-CAAB-4665-A78A-847CB0E7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1D563-551D-4D25-A55B-43E0FBF8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211F0-114D-48D6-90D1-E909800C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E5308-49EA-4592-8A4A-D2595E25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12A20-5B07-4F22-B5AD-EEB98E40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BD153-5C23-4D4B-B822-9CA82B32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E5694-6441-4042-A8E8-1D4AEF6E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83F-BA67-4BD7-BE85-87239C1C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914BE-BA62-449F-9FDE-CED6E3C1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41C2-29E3-41AD-BEA8-2ED1D273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03724-C367-43E3-8F73-AA00CADC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5619A-CB7B-4E14-A31C-A97F96D2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A58E4-E88F-4988-BAB3-20E70316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326DF-159E-4B41-AD35-B4BB2FD1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450ED-0297-4F00-9186-260C5C29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774C9-F29B-4C7D-84A7-4788F32F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65FAC-3FB1-424C-8DCC-867A0863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EC4E1-6AF4-408A-9431-FB385806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900-3CDF-412A-9D29-1DA2E72E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605E2-4D6F-4B22-A23C-228AF8DB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FC17C-C4DE-4A81-83B0-40CE8869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413A-4367-46A2-B3CE-2AE2DC58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6E733-5D0A-4ED7-B51D-4594A849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6181D-6F07-42C5-98CB-E6D05951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E421A-020E-4308-AB8D-5EEC19CE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EF419-E08B-44A5-B61A-C45C60E2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54AD2-0F8B-48EE-A6CA-CA253D2B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A9BB1-CEC8-4525-BC3F-13F1BFA4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2F062-194E-48AC-AE81-659AE653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B20-2F07-416E-955C-8CE8EB54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EBF44-CED6-4A11-A639-4D18E9CF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DB200-273E-4BE1-8ACC-FACC3A65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52F2F-B9E5-4D54-B86F-B9E4C75B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61E6B-70B0-4CBF-8091-04059FC7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CFF4D-8BB2-4323-8B37-B4B60A42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F4993-11C3-4AB2-BC9A-676A8DF0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EBBCE-05BB-49DB-9B1A-32A6E33C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06A05-216A-4C0A-85A5-9BFDAEE3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435FA-3EBC-431E-B62B-27B42ADA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EB8E0-7C58-48E5-906A-07EFB1BB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EE3E-5575-4E91-A756-3D6A27A60502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標楷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6AA0-C9A3-42BA-A121-375578728C9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33B7-1662-41FC-BE4F-11479DC4CDC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5F44-7983-4D73-B91A-82A87FB49D0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2105-3A9C-48F8-B7D7-C1FE60BD917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867F-9433-4B99-82B7-9E34757C68C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5081-E9F6-42B8-B562-5A10B7D9291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B67A-643F-40D5-934A-600C71CE997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6E41-D770-4291-A72B-372315C1240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6C68-1F85-4E57-A2CE-DD13566ED18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0527-AE12-45EA-B6D1-7D5744A0ADD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7E48-1485-4076-95CF-1E7F665F1C2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F069-E967-481B-9AB7-B30415EFD6F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38468;&#20214;&#19971;106&#19978;&#35531;&#25945;&#23416;&#32068;&#21332;&#21161;&#22810;&#20803;&#23416;&#32722;&#25945;&#23460;&#25490;&#35506;.docx" TargetMode="External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38468;&#20214;&#19968;106&#35506;&#31243;&#38656;&#27714;&#35498;&#26126;.docx" TargetMode="Externa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38468;&#20214;&#20108;106&#29305;&#25945;&#35506;&#31243;&#33287;&#25945;&#23416;&#35519;&#25972;&#35336;&#30059;.docx" TargetMode="Externa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38468;&#20214;&#20845;105&#29305;&#25945;&#24037;&#20316;&#35336;&#30059;&#65288;&#24050;&#27298;&#26680;&#65289;&#65288;&#31168;&#37670;&#38656;&#20877;&#27298;&#26597;&#65289;.docx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38468;&#20214;&#20116;106&#19978;&#28187;&#20154;&#25976;&#32232;&#29677;&#24314;&#35696;&#34920;&#65288;106.6.21&#65289;.docx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38468;&#20214;&#20116;106&#19978;&#28187;&#20154;&#25976;&#32232;&#29677;&#24314;&#35696;&#34920;&#65288;106.6.21&#65289;.docx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250920" y="476280"/>
            <a:ext cx="85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王漢宗特圓體繁"/>
                <a:ea typeface="王漢宗特圓體繁"/>
              </a:rPr>
              <a:t>彰化縣合興國小</a:t>
            </a:r>
            <a:r>
              <a:rPr b="0" lang="en-US" sz="4400" spc="-1" strike="noStrike">
                <a:solidFill>
                  <a:srgbClr val="000000"/>
                </a:solidFill>
                <a:latin typeface="王漢宗特圓體繁"/>
                <a:ea typeface="王漢宗特圓體繁"/>
              </a:rPr>
              <a:t>105</a:t>
            </a:r>
            <a:r>
              <a:rPr b="0" lang="zh-TW" sz="4400" spc="-1" strike="noStrike">
                <a:solidFill>
                  <a:srgbClr val="000000"/>
                </a:solidFill>
                <a:latin typeface="王漢宗特圓體繁"/>
                <a:ea typeface="王漢宗特圓體繁"/>
              </a:rPr>
              <a:t>學年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王漢宗特圓體繁"/>
                <a:ea typeface="王漢宗特圓體繁"/>
              </a:rPr>
              <a:t>下學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324000" y="1916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ff"/>
                </a:solidFill>
                <a:latin typeface="Arial"/>
                <a:ea typeface="金梅新毛筆顏楷"/>
              </a:rPr>
              <a:t>特殊教育推行委員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ff"/>
                </a:solidFill>
                <a:latin typeface="Arial"/>
                <a:ea typeface="金梅新毛筆顏楷"/>
              </a:rPr>
              <a:t>期末會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755640" y="4068720"/>
            <a:ext cx="597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Arial"/>
              </a:rPr>
              <a:t>日期：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6</a:t>
            </a:r>
            <a:r>
              <a:rPr b="1" lang="zh-TW" sz="3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TW" sz="30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1" lang="zh-TW" sz="3000" spc="-1" strike="noStrike">
                <a:solidFill>
                  <a:srgbClr val="ff0000"/>
                </a:solidFill>
                <a:latin typeface="Arial"/>
              </a:rPr>
              <a:t>日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TW" sz="30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)PM3: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755640" y="4622760"/>
            <a:ext cx="7632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金梅毛楷書體"/>
              </a:rPr>
              <a:t>會議主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金梅毛楷書體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金梅毛楷書體"/>
              </a:rPr>
              <a:t>   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金梅毛楷書體"/>
              </a:rPr>
              <a:t>本學期特推會工作執行情形檢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560" y="476280"/>
            <a:ext cx="8569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106</a:t>
            </a: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專業團隊新申請情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187280" y="2276640"/>
            <a:ext cx="7417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申請語言治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　幼兒園劉○○ 、三年級王○○、四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　陳○○、四丁洪○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申請職能治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　二甲胡○○、三年級陳○○、五年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　吳○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560" y="188640"/>
            <a:ext cx="856944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106</a:t>
            </a:r>
            <a:r>
              <a:rPr b="0" lang="zh-TW" sz="40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學年度資源班無障礙評量需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1116000" y="1484280"/>
            <a:ext cx="7343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二乙○○：嚴重讀寫障礙之學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語障生，數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社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自然 需提供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讀服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三甲○○ ：有讀寫障礙之語障生，國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數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社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自然 需提供報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服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三丁○○ ：學障生但行動能力相當緩慢且易分心，國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數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社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自然 需另闢考場輔以提供延長考試時間服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四丙○○ ：待觀察學生且疑似合併有讀寫障礙，建議國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數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社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自然 提供報讀服務，但因該生非正式特教需求學生，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人力不足或經評估過後確認已無此需求，則暫停此服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五甲○○ ：學障生（數學障礙），數學科需另闢考場使其專注應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五丙○○ ：學障生（數學障礙），數學科需另闢考場輔以查閱九九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法表應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五戊○○ ：學障生（閱讀障礙），國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數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社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自然 需提供報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</a:rPr>
              <a:t>服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4560" y="476280"/>
            <a:ext cx="8569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106</a:t>
            </a:r>
            <a:r>
              <a:rPr b="0" lang="zh-TW" sz="40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學年度資源班排課需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1187280" y="2421000"/>
            <a:ext cx="734400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◎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6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上學期課表，請教學組協助多元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習教室排課。為屏及姿穎課表及排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需求情說明請見</a:t>
            </a:r>
            <a:r>
              <a:rPr b="0" lang="zh-TW" sz="3200" spc="-1" strike="noStrike" u="sng">
                <a:solidFill>
                  <a:srgbClr val="0000ff"/>
                </a:solidFill>
                <a:uFillTx/>
                <a:latin typeface="標楷體"/>
                <a:ea typeface="標楷體"/>
                <a:hlinkClick r:id="rId2"/>
              </a:rPr>
              <a:t>附件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4800"/>
            <a:ext cx="8229600" cy="194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標楷體"/>
                <a:ea typeface="金梅新毛筆顏楷"/>
              </a:rPr>
              <a:t>106</a:t>
            </a:r>
            <a:r>
              <a:rPr b="0" lang="zh-TW" sz="4800" spc="-1" strike="noStrike">
                <a:solidFill>
                  <a:srgbClr val="002060"/>
                </a:solidFill>
                <a:latin typeface="標楷體"/>
                <a:ea typeface="金梅新毛筆顏楷"/>
              </a:rPr>
              <a:t>學年度資源班特殊生</a:t>
            </a:r>
            <a:br>
              <a:rPr sz="4800"/>
            </a:br>
            <a:r>
              <a:rPr b="0" lang="zh-TW" sz="4800" spc="-1" strike="noStrike">
                <a:solidFill>
                  <a:srgbClr val="c00000"/>
                </a:solidFill>
                <a:latin typeface="標楷體"/>
                <a:ea typeface="金梅新毛筆顏楷"/>
              </a:rPr>
              <a:t>課程需求說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692360" y="2781000"/>
            <a:ext cx="640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3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課程需求說明將提交課發會審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ts val="43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內容詳見</a:t>
            </a:r>
            <a:r>
              <a:rPr b="0" lang="zh-TW" sz="3200" spc="-1" strike="noStrike" u="sng">
                <a:solidFill>
                  <a:srgbClr val="0000ff"/>
                </a:solidFill>
                <a:uFillTx/>
                <a:latin typeface="標楷體"/>
                <a:ea typeface="金梅新毛筆隸書"/>
                <a:hlinkClick r:id="rId2"/>
              </a:rPr>
              <a:t>附件一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說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929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標楷體"/>
                <a:ea typeface="金梅新毛筆顏楷"/>
              </a:rPr>
              <a:t>106</a:t>
            </a:r>
            <a:r>
              <a:rPr b="0" lang="zh-TW" sz="4800" spc="-1" strike="noStrike">
                <a:solidFill>
                  <a:srgbClr val="002060"/>
                </a:solidFill>
                <a:latin typeface="標楷體"/>
                <a:ea typeface="金梅新毛筆顏楷"/>
              </a:rPr>
              <a:t>學年度特殊教育</a:t>
            </a:r>
            <a:br>
              <a:rPr sz="4800"/>
            </a:b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「課程與教學調整計畫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1476360" y="2781360"/>
            <a:ext cx="676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課程與教學調整計畫將提交課發會審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內容詳見</a:t>
            </a:r>
            <a:r>
              <a:rPr b="0" lang="zh-TW" sz="3200" spc="-1" strike="noStrike" u="sng">
                <a:solidFill>
                  <a:srgbClr val="0000ff"/>
                </a:solidFill>
                <a:uFillTx/>
                <a:latin typeface="標楷體"/>
                <a:ea typeface="金梅新毛筆隸書"/>
                <a:hlinkClick r:id="rId2"/>
              </a:rPr>
              <a:t>附件二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說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929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標楷體"/>
                <a:ea typeface="金梅新毛筆顏楷"/>
              </a:rPr>
              <a:t>106</a:t>
            </a:r>
            <a:r>
              <a:rPr b="0" lang="zh-TW" sz="4800" spc="-1" strike="noStrike">
                <a:solidFill>
                  <a:srgbClr val="002060"/>
                </a:solidFill>
                <a:latin typeface="標楷體"/>
                <a:ea typeface="金梅新毛筆顏楷"/>
              </a:rPr>
              <a:t>學年度特殊教育</a:t>
            </a:r>
            <a:br>
              <a:rPr sz="4800"/>
            </a:b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「課程審查計畫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1258920" y="2421000"/>
            <a:ext cx="7200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課程審查計畫將提交課發會審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內容詳見附件三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-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為屏特教課程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附件三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-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姿穎特教課程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 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附件三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-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巡迴師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-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○○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數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特教課程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929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標楷體"/>
                <a:ea typeface="金梅新毛筆顏楷"/>
              </a:rPr>
              <a:t>106</a:t>
            </a:r>
            <a:r>
              <a:rPr b="0" lang="zh-TW" sz="4800" spc="-1" strike="noStrike">
                <a:solidFill>
                  <a:srgbClr val="002060"/>
                </a:solidFill>
                <a:latin typeface="標楷體"/>
                <a:ea typeface="金梅新毛筆顏楷"/>
              </a:rPr>
              <a:t>學年度特殊教育</a:t>
            </a:r>
            <a:br>
              <a:rPr sz="4800"/>
            </a:b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「課程審查計畫自評表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042920" y="2781360"/>
            <a:ext cx="7632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課程審查計畫自評表將提交課發會審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附件四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-1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巡迴教師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-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邱○語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附件四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-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為屏師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+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姿穎師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74560" y="476280"/>
            <a:ext cx="8569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105</a:t>
            </a: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學年度特教工作計畫檢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1476360" y="2565360"/>
            <a:ext cx="7104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特教工作計畫檢核詳細內容，請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  </a:t>
            </a:r>
            <a:r>
              <a:rPr b="0" lang="zh-TW" sz="3200" spc="-1" strike="noStrike" u="sng">
                <a:solidFill>
                  <a:srgbClr val="0000ff"/>
                </a:solidFill>
                <a:uFillTx/>
                <a:latin typeface="標楷體"/>
                <a:ea typeface="金梅新毛筆隸書"/>
                <a:hlinkClick r:id="rId2"/>
              </a:rPr>
              <a:t>附件六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4560" y="476280"/>
            <a:ext cx="8569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105</a:t>
            </a: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學年度第二學期</a:t>
            </a:r>
            <a:br>
              <a:rPr sz="4800"/>
            </a:b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身障生安置適切性評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1258920" y="2060640"/>
            <a:ext cx="71038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安置適切性評估對象有四甲林○ ○ 、五丙吳○ ○ 、五戊陳○ ○ 、六戊洪○ ○等四位，導師 和家長都認為適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繼續留在原安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                            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以上提報特推會審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56944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個別化教育計畫執行檢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1403280" y="2060640"/>
            <a:ext cx="6769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本學期期末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IEP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會議暨跨階段轉銜會議，皆以學生為單位個別召開，且已全部開會結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幼兒園部分目前有一位已完成召開，另兩位預計於下星期完成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4560" y="476280"/>
            <a:ext cx="8569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六年級畢業學生轉銜活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1187280" y="1916280"/>
            <a:ext cx="69850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六年級特教需求畢業生轉銜課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分別於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/19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/26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6/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召開完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六甲許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標楷體"/>
              </a:rPr>
              <a:t>○ ○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待觀察入埤中樂學教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六乙邱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標楷體"/>
              </a:rPr>
              <a:t>○ ○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學障入埤中樂學教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六丙陳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標楷體"/>
              </a:rPr>
              <a:t>○ ○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中度智能障礙入二中特教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六丁陳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標楷體"/>
              </a:rPr>
              <a:t>○ ○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非特教學生入埤中普通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六戊洪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標楷體"/>
              </a:rPr>
              <a:t>○ ○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學障入埤中樂學教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六戊杜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標楷體"/>
              </a:rPr>
              <a:t>○ ○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腦性麻痺伴隨極重度智能障礙入埤中在家教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560" y="476280"/>
            <a:ext cx="8569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申請專業團隊到校服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1187280" y="2349360"/>
            <a:ext cx="74170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本學期特教中心專業團隊語言治療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　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Calibri"/>
                <a:ea typeface="標楷體"/>
              </a:rPr>
              <a:t>陳郁璽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老師到校服務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　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Calibri"/>
                <a:ea typeface="標楷體"/>
              </a:rPr>
              <a:t>胡孟怡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老師共到校服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9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標楷體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765000"/>
            <a:ext cx="8569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身障生適性安排</a:t>
            </a:r>
            <a:br>
              <a:rPr sz="4800"/>
            </a:b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及減少原班級人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1565280" y="2708280"/>
            <a:ext cx="648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各班減少人數建議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請見</a:t>
            </a:r>
            <a:r>
              <a:rPr b="0" lang="zh-TW" sz="3200" spc="-1" strike="noStrike" u="sng">
                <a:solidFill>
                  <a:srgbClr val="0000ff"/>
                </a:solidFill>
                <a:uFillTx/>
                <a:latin typeface="標楷體"/>
                <a:ea typeface="金梅新毛筆隸書"/>
                <a:hlinkClick r:id="rId2"/>
              </a:rPr>
              <a:t>附件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說明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金梅新毛筆隸書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765000"/>
            <a:ext cx="8569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身障生適性安排</a:t>
            </a:r>
            <a:br>
              <a:rPr sz="4800"/>
            </a:b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及減少原班級人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1565280" y="2708280"/>
            <a:ext cx="648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各班減少人數建議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請見</a:t>
            </a:r>
            <a:r>
              <a:rPr b="0" lang="zh-TW" sz="3200" spc="-1" strike="noStrike" u="sng">
                <a:solidFill>
                  <a:srgbClr val="0000ff"/>
                </a:solidFill>
                <a:uFillTx/>
                <a:latin typeface="標楷體"/>
                <a:ea typeface="金梅新毛筆隸書"/>
                <a:hlinkClick r:id="rId2"/>
              </a:rPr>
              <a:t>附件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說明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金梅新毛筆隸書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560" y="476280"/>
            <a:ext cx="8569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106</a:t>
            </a:r>
            <a:r>
              <a:rPr b="0" lang="zh-TW" sz="4800" spc="-1" strike="noStrike">
                <a:solidFill>
                  <a:srgbClr val="800000"/>
                </a:solidFill>
                <a:latin typeface="標楷體"/>
                <a:ea typeface="金梅新毛筆顏楷"/>
              </a:rPr>
              <a:t>學年度新生入學轉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1476360" y="2205000"/>
            <a:ext cx="6696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金梅新毛筆隸書"/>
              </a:rPr>
              <a:t>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本年度一年級新入班特教需求學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計有一位：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和欣幼兒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鄭○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屬輕度語言障礙，情緒行為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能力較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02:04:13Z</dcterms:created>
  <dc:creator>shses-user001</dc:creator>
  <dc:description/>
  <dc:language>en-US</dc:language>
  <cp:lastModifiedBy>user</cp:lastModifiedBy>
  <dcterms:modified xsi:type="dcterms:W3CDTF">2017-06-21T06:41:07Z</dcterms:modified>
  <cp:revision>250</cp:revision>
  <dc:subject/>
  <dc:title>彰化縣合興國小九十六學年度</dc:title>
</cp:coreProperties>
</file>