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AC2F4-FE4C-4773-BE4B-1DAFFC953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FA439-0EF5-47D9-A05B-218B22A07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500FA-CE7D-45FC-8019-77575512F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4673A-F3A8-42CA-94FF-1A179A890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4632F-40B4-4BBD-A2C3-237C6A3D7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CD92E-CFF3-4D1A-8B07-C351E9A53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A09AC-A5CA-41AA-A4C4-DCBB94B46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92A03-26AC-47A8-8A7B-C33E48CD2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D49BA-6056-461C-947A-127F968B5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D74E5-2142-4C64-A225-B17B40D54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CE53C-907C-49F8-8D7E-A505ED420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FBC9A-772D-448A-A9DB-AA3C86C31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0C4E1-2A43-4361-83DD-947022150E52}" type="slidenum">
              <a:rPr b="0" lang="zh-TW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00"/>
                </a:solidFill>
                <a:latin typeface="Arial"/>
              </a:rPr>
              <a:t>月亮像什麼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24000" y="1733400"/>
            <a:ext cx="4103640" cy="40593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572000" y="1703520"/>
            <a:ext cx="4176720" cy="40557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794200" y="582768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蟹（西洋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65120" y="1773360"/>
            <a:ext cx="3949560" cy="41036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643280" y="1773360"/>
            <a:ext cx="3961080" cy="41036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5292720" y="6021360"/>
            <a:ext cx="232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美女（西洋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41360" y="1628640"/>
            <a:ext cx="3936960" cy="43214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4687920" y="1628640"/>
            <a:ext cx="3886200" cy="43214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5867280" y="60930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827680" y="6165720"/>
            <a:ext cx="178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兔子搗年糕（日本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2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847800" y="1600200"/>
            <a:ext cx="3257640" cy="45259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4908600" y="1600200"/>
            <a:ext cx="35179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700200" y="1600200"/>
            <a:ext cx="3551040" cy="45259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4884840" y="1600200"/>
            <a:ext cx="35640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ff00"/>
                </a:solidFill>
                <a:latin typeface="Arial"/>
              </a:rPr>
              <a:t>討論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6600cc"/>
                </a:solidFill>
                <a:latin typeface="Arial"/>
              </a:rPr>
              <a:t>想一想，除了圓圓的月亮之外，還看過哪些不同形狀的月亮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6600cc"/>
                </a:solidFill>
                <a:latin typeface="Arial"/>
              </a:rPr>
              <a:t>還有其他的發現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14T08:15:15Z</dcterms:created>
  <dc:creator>estmtc</dc:creator>
  <dc:description/>
  <dc:language>en-US</dc:language>
  <cp:lastModifiedBy>user</cp:lastModifiedBy>
  <dcterms:modified xsi:type="dcterms:W3CDTF">2003-08-24T04:00:12Z</dcterms:modified>
  <cp:revision>7</cp:revision>
  <dc:subject/>
  <dc:title>投影片 1</dc:title>
</cp:coreProperties>
</file>