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3144-B64D-426E-9E06-CE7DBE83D29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三板教師：黑板、天花板、地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說清楚，講明白，深入淺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演員或圖書館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規準設計要科學理性周延，執行要藝術感性彈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增加、減少、修正、刪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老師可以影響到學生多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家庭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50% 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社會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30% 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學校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家庭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20% 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社會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30% 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學校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形成性、診斷性、發展性、教育性、服務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健康檢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提供另一對眼睛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another set of e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提供另一面鏡子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讓問題越來愈少，優點越來越多，把缺點變成優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不斷的循環，就不會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年如一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設計要周延，實施要彈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自我評鑑最重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教學省思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行為主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人文主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88D-5668-45D0-AA75-6B5412E9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12A-3DA1-40E5-9CD5-A0481FEB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AAB-D5C5-4923-9B45-85F55505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D5E6-6EBB-413D-9EAF-3713EEF0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F772-6C25-41C3-961C-5BB7892D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14E7-A4CE-4EA0-90A9-31EB288A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30DF-AF4F-4603-80E6-E8E89B81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E0FA-AE0A-41E9-949F-BF050148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D9D7-0DC2-489D-AAE5-5E116D24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4DE8-23F4-4C64-99B3-139817F4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1BED-BEF9-4739-95E6-10D0EA54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1EC-0AEA-40D3-AED4-67220263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B05F-12B6-4AF9-BA4C-D73B88FE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3F6C-745A-4893-9844-3875BF97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A20B-79B3-4493-B756-B5C4DDBE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585C-1E4C-4A00-9CA7-9046FE38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D741-522E-469D-8647-365F196D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ECD-58E2-4B19-AD80-F14D626E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68F-40C4-4BEA-874F-5752DAE4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34C-C309-4AA9-93B7-A8824CDC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636-ECE6-4951-9317-1AE6EFE0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65B-6EF1-4A32-A66D-9D27E722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6B2-7A2E-41AC-A8BA-F2E02459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147B-3935-41A2-A3E6-D29A7296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86C4-C1C7-44F5-B6AE-A0775A45CA4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261F-7B16-4997-9FEB-92ECB01BA3E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cc"/>
                </a:solidFill>
                <a:latin typeface="Times New Roman"/>
                <a:ea typeface="標楷體"/>
              </a:rPr>
              <a:t>教學專業發展評鑑系統</a:t>
            </a:r>
            <a:br>
              <a:rPr sz="3200"/>
            </a:br>
            <a:r>
              <a:rPr b="1" lang="zh-TW" sz="3200" spc="-1" strike="noStrike">
                <a:solidFill>
                  <a:srgbClr val="ff6600"/>
                </a:solidFill>
                <a:latin typeface="Times New Roman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臺北市立教育大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張德銳、丁一顧、李俊達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簡賢昌、高紅瑛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3FEA-BB42-46E9-A034-E44AD2C773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觀察前會談記錄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第六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學單元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蓮說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材來源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課本及學習單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前會談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6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上午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二、教學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透過生活常見之植物，藉以深入了解其特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引導學生了解課文意涵及其字詞解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引導學生學會從具體事物寫抽象意涵的寫作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以上教學目標，以第三項「引導學生學習事務抽象意涵」最具挑戰性。但是衡量本班學生的語文能力不差、學習動機不弱，亦無學習特別緩慢的學生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有些只是比較容易分心、上課愛講話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加上學生會作課前預習，相信達成率應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以上才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觀察前會談記錄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第六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學單元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蓮說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材來源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課本及學習單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前會談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6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上午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三、學生經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本班學生剛升上國中。他們在小學的古文上學習，以詩詞背誦為主。七年級上學期則是有兩次文言文的學習，第一次是論語的「學而時習篇」，第二次是「晏子使楚」。學生對於文言文雖然感覺較不熟悉也比較難，但是他們在課前都會預習，再加上教學過程的解說討論，多數學生在理解上並沒有困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觀察前會談記錄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第六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學單元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蓮說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材來源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課本及學習單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前會談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6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上午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四、教學活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介紹生活中常見之植物及其特質：介紹梅、竹、藤類植物、菊、蓮之生長季節、環境及其特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解釋「說」體及課文：「水陸草木之花」至「中通外直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不蔓不枝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引導寫作：指導學生「由具體實物寫抽象意涵」寫作方法，說明學習單內容及作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觀察前會談記錄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第六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學單元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蓮說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材來源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課本及學習單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前會談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6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上午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五、教學評量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上課過程中的問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學習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兩項評量方式之中，又以學習單有關描述植物特質的部份，特別是教學者關注的重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觀察前會談記錄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第六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學單元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蓮說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材來源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課本及學習單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前會談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6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上午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六、觀察時所使用的發展規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「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A-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」至「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B-2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」之各項檢核重點，共計兩個層面的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項指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七、觀察的工具和焦點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「教學觀察表」（表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A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八、回饋會談時間和地點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4/17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週二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下午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，於三樓圖書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師自評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傅嵉安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國文   日期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6/4/17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（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優良    滿意   待改進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設計與教學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3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精熟任教學科領域知識……………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.. □        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□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A-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清楚呈現教材內容……………………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□        □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5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運用有效教學技巧………………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.. …□        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□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A-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善於發問啟發思考……………………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□        □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應用良好溝通技巧……………………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□        □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8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善於運用學習評量…………………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.  □        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□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A-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達成預期學習目標……………………□        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□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班級經營與輔導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-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建立有助於學習的班級常規…………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□        □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-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營造積極的班級學習氣氛……………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□        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1844640"/>
            <a:ext cx="864216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意見陳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我的優點或特色是：</a:t>
            </a:r>
            <a:br>
              <a:rPr sz="32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）教學前，能先將課程內容組織成一有系統的完整知識，再引導學生習得知識內容。（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）教學時，透過問答與學生保持互動，並隨時掌握提醒學生學習情形，一方面增加其注意力，一方面啟發學生思考。 （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）和諧的班級氣氛與良好上課秩序，是我上課的原則。學生大都能尊重上課的老師，遇到問題的時候也願意主動發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師自評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傅嵉安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國文   日期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6/4/17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（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師自評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傅嵉安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國文   日期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6/4/17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（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尚可成長和改進的空間的是：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自己若能在有限時間內多利用電腦輔助教學，相信會使課程更生動有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成長的構想是：</a:t>
            </a:r>
            <a:br>
              <a:rPr sz="32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我想可以多和隔壁班的張老師多請教，同時透過校內資訊研習，以增長資訊融入教學的使用能力。除此之外，如果能請學校就整個使用環境，例如借用程序、班級空間規劃，做比較理想的配置，對於個人使用應該也會很有幫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36520" y="115920"/>
            <a:ext cx="87822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國文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蓮說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由植物外形意涵、帶出課文內容及寫作方法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李俊逹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4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5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4000" y="2060640"/>
          <a:ext cx="8569080" cy="3720960"/>
        </p:xfrm>
        <a:graphic>
          <a:graphicData uri="http://schemas.openxmlformats.org/drawingml/2006/table">
            <a:tbl>
              <a:tblPr/>
              <a:tblGrid>
                <a:gridCol w="1828800"/>
                <a:gridCol w="687240"/>
                <a:gridCol w="5262480"/>
                <a:gridCol w="790560"/>
              </a:tblGrid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1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精熟任教學科領域知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待改進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正確掌握任教單元的教材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上課過程能清楚說明課文內容。如「水陸草木之花」「可愛者甚藩」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問「蓮花的潔身自愛和菊花的潔身自愛有什麼不同？」老師能立刻板書說明兩者抽象意義和其異同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0" y="3343320"/>
          <a:ext cx="200160" cy="17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343320"/>
                    <a:ext cx="20016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0" y="3343320"/>
          <a:ext cx="200160" cy="17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343320"/>
                    <a:ext cx="20016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0" y="3343320"/>
          <a:ext cx="200160" cy="171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343320"/>
                    <a:ext cx="20016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01840" y="3645000"/>
          <a:ext cx="432000" cy="369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01840" y="3645000"/>
                    <a:ext cx="432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36520" y="92160"/>
            <a:ext cx="87822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國文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蓮說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由植物外形意涵、帶出課文內容及寫作方法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李俊逹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4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5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4000" y="2133720"/>
          <a:ext cx="8424720" cy="4106880"/>
        </p:xfrm>
        <a:graphic>
          <a:graphicData uri="http://schemas.openxmlformats.org/drawingml/2006/table">
            <a:tbl>
              <a:tblPr/>
              <a:tblGrid>
                <a:gridCol w="1798560"/>
                <a:gridCol w="674640"/>
                <a:gridCol w="5264280"/>
                <a:gridCol w="687240"/>
              </a:tblGrid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有效連結學生的新舊知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醒學生在七上兩次文言文的學習經驗：論語和「晏子使楚」，協助學生學習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待改進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合學生生活經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在課前的教材準備上，希望可以連結學生對於若干植物的印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3348000"/>
          <a:ext cx="209520" cy="1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348000"/>
                    <a:ext cx="2095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2195640" y="3284640"/>
          <a:ext cx="468360" cy="36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3284640"/>
                    <a:ext cx="4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2195640" y="4797360"/>
          <a:ext cx="468360" cy="3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5640" y="4797360"/>
                    <a:ext cx="46836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Times New Roman"/>
              </a:rPr>
              <a:t>教學專業發展評鑑系統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00"/>
                </a:solidFill>
                <a:latin typeface="Times New Roman"/>
              </a:rPr>
              <a:t>系統假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教師是一群具有學習能力的專業人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每個教師的教學活動固然有其個別特殊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   性，但是某些重要的教學行為，可以成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   為教師教學表現的核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教學是由一組可以分析的複雜活動所組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   成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教師的教學行為對學生的學習非常重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79280" y="933480"/>
          <a:ext cx="8785440" cy="5108400"/>
        </p:xfrm>
        <a:graphic>
          <a:graphicData uri="http://schemas.openxmlformats.org/drawingml/2006/table">
            <a:tbl>
              <a:tblPr/>
              <a:tblGrid>
                <a:gridCol w="1874880"/>
                <a:gridCol w="704880"/>
                <a:gridCol w="5394240"/>
                <a:gridCol w="811440"/>
              </a:tblGrid>
              <a:tr h="82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清楚呈現教材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標楷體"/>
                        </a:rPr>
                        <a:t>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標楷體"/>
                        </a:rPr>
                        <a:t>意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說明學習目標或學習重點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一開始說明課程單元名稱是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愛蓮說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逐步呈現「植物外形」、「象徵意義」等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有組織條理呈現教材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說明各種不同的植物及意義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梅、竹、菊、牡丹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從「水陸草木之花」「可愛者甚藩」開始，逐步說明課文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後簡要歸納不同植物的意義與個性之間的關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431640" cy="370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2195640" y="4221000"/>
            <a:ext cx="43164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95280" y="981000"/>
          <a:ext cx="8442360" cy="5400720"/>
        </p:xfrm>
        <a:graphic>
          <a:graphicData uri="http://schemas.openxmlformats.org/drawingml/2006/table">
            <a:tbl>
              <a:tblPr/>
              <a:tblGrid>
                <a:gridCol w="1803240"/>
                <a:gridCol w="676440"/>
                <a:gridCol w="5184720"/>
                <a:gridCol w="777960"/>
              </a:tblGrid>
              <a:tr h="132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正確而清楚講解重要概念、原則或技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ppt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說明各種植物外形與其所代表的意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清楚解釋課文文體及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多舉例說明或示範以增進理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舉出不同植物及所代表的抽象意義，協助學生歸納類化。例如用竹的中空代表人的謙虛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除了植物之外，還提出「烏龜」，說明它容易讓人聯想到和動作緩慢者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340000" y="2492280"/>
            <a:ext cx="431640" cy="370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2340000" y="4076640"/>
            <a:ext cx="43164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50920" y="981000"/>
          <a:ext cx="8642160" cy="5353200"/>
        </p:xfrm>
        <a:graphic>
          <a:graphicData uri="http://schemas.openxmlformats.org/drawingml/2006/table">
            <a:tbl>
              <a:tblPr/>
              <a:tblGrid>
                <a:gridCol w="1844640"/>
                <a:gridCol w="693720"/>
                <a:gridCol w="5307120"/>
                <a:gridCol w="796680"/>
              </a:tblGrid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供適當的練習以熟練學習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拿出學習單，說明「象徵法」學習單。要求學生回家寫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6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設計學習情境啟發學生思考與討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7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適時歸納總結學習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介紹不同植物之後，歸納說明「植物外形和它們所代表的抽象意義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歸納整理說明菊花和蓮花潔身自愛的異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206800" y="4748040"/>
            <a:ext cx="431640" cy="370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2195640" y="2349360"/>
            <a:ext cx="46836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50920" y="984240"/>
          <a:ext cx="8631000" cy="5187960"/>
        </p:xfrm>
        <a:graphic>
          <a:graphicData uri="http://schemas.openxmlformats.org/drawingml/2006/table">
            <a:tbl>
              <a:tblPr/>
              <a:tblGrid>
                <a:gridCol w="1842840"/>
                <a:gridCol w="692280"/>
                <a:gridCol w="5299200"/>
                <a:gridCol w="796680"/>
              </a:tblGrid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51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運用有效教學技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標楷體"/>
                        </a:rPr>
                        <a:t>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標楷體"/>
                        </a:rPr>
                        <a:t>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引發並維持學生學習動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ppt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呈現生活中的常見植物，色彩鮮豔清晰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以「向日葵」說明老師自己的個性</a:t>
                      </a: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變化教學活動或教學策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活動一時，老師以講述法說明各種植物的外形特徵，再問學生植物所代表的抽象意義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在活動二，老師主要透過問答方式，請學生回答課文內容，有時再輔以講述說明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206800" y="2673360"/>
            <a:ext cx="431640" cy="369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219400" y="4187880"/>
            <a:ext cx="43164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17440" y="957240"/>
          <a:ext cx="8709120" cy="5610240"/>
        </p:xfrm>
        <a:graphic>
          <a:graphicData uri="http://schemas.openxmlformats.org/drawingml/2006/table">
            <a:tbl>
              <a:tblPr/>
              <a:tblGrid>
                <a:gridCol w="1859040"/>
                <a:gridCol w="698400"/>
                <a:gridCol w="5348520"/>
                <a:gridCol w="803160"/>
              </a:tblGrid>
              <a:tr h="119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有效掌握教學節奏和時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活動一原定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-1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鐘完成，實際超出約十分鐘。影響到最後一項教學活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有效使用教學媒體或電腦網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透過單槍呈現植物圖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以字卡呈現課文內容，在課文旁直接解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根據學生個別差異調整教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206800" y="3753000"/>
            <a:ext cx="431640" cy="369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 rot="18235200">
            <a:off x="2304000" y="2714760"/>
            <a:ext cx="46836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17440" y="966960"/>
          <a:ext cx="8721720" cy="5051160"/>
        </p:xfrm>
        <a:graphic>
          <a:graphicData uri="http://schemas.openxmlformats.org/drawingml/2006/table">
            <a:tbl>
              <a:tblPr/>
              <a:tblGrid>
                <a:gridCol w="1862280"/>
                <a:gridCol w="698400"/>
                <a:gridCol w="5356080"/>
                <a:gridCol w="804960"/>
              </a:tblGrid>
              <a:tr h="82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發問啟發思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標楷體"/>
                        </a:rPr>
                        <a:t>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標楷體"/>
                        </a:rPr>
                        <a:t>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0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設計由淺而深的問題引導學生思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呈現和各種植物有關的問題時，能由具體而抽象，例如「梅花生長的季節？－梅花有什麼特質是其他植物所沒有的？－它有什麼抽象意義？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發問後待答時間適當（三秒以上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待答行為不明顯。老師發問後，只要有學生舉手，就直接請其回答。例如老師問「植物的外形和所代表的抽象意義之間有什麼關係？」有一個學生舉手，老師立刻請其回答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206800" y="2414520"/>
            <a:ext cx="431640" cy="370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 rot="18235200">
            <a:off x="2294640" y="4874040"/>
            <a:ext cx="46836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47680" y="1166760"/>
          <a:ext cx="8648640" cy="4567320"/>
        </p:xfrm>
        <a:graphic>
          <a:graphicData uri="http://schemas.openxmlformats.org/drawingml/2006/table">
            <a:tbl>
              <a:tblPr/>
              <a:tblGrid>
                <a:gridCol w="1846080"/>
                <a:gridCol w="693720"/>
                <a:gridCol w="5310360"/>
                <a:gridCol w="798480"/>
              </a:tblGrid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發問後能針對學生回答繼續延伸問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在學生說明植物外形之後，針對學生回答繼續發問，例如「梅花在什麼季節開花？」學生回答冬天。老師接著問「冬天的氣候怎樣？」、學生回答很寒冷。老師接著又問「梅花在寒冷的冬天盛開又代表一個人怎樣的個性？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206800" y="2292480"/>
            <a:ext cx="43164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24000" y="1197000"/>
          <a:ext cx="8562960" cy="3755880"/>
        </p:xfrm>
        <a:graphic>
          <a:graphicData uri="http://schemas.openxmlformats.org/drawingml/2006/table">
            <a:tbl>
              <a:tblPr/>
              <a:tblGrid>
                <a:gridCol w="1828800"/>
                <a:gridCol w="685800"/>
                <a:gridCol w="5257800"/>
                <a:gridCol w="790560"/>
              </a:tblGrid>
              <a:tr h="82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聽答後能歸納整理學生的回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將各種植物象徵的意義，在師生問答之後，寫在黑板上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針對課文內容解釋問答之後，歸納整理說明菊花和蓮花潔身自愛的異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247840" y="2170080"/>
            <a:ext cx="43200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33280" y="1076400"/>
          <a:ext cx="8664480" cy="5286240"/>
        </p:xfrm>
        <a:graphic>
          <a:graphicData uri="http://schemas.openxmlformats.org/drawingml/2006/table">
            <a:tbl>
              <a:tblPr/>
              <a:tblGrid>
                <a:gridCol w="1849680"/>
                <a:gridCol w="695160"/>
                <a:gridCol w="5319720"/>
                <a:gridCol w="799920"/>
              </a:tblGrid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用良好溝通技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滿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板書正確、工整有條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在黑板上寫「梅：冬…」，字寫得很擠、字體太小，觀察者在教室後面無法看清楚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口語清晰、音量適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觀察者坐在教室最後面，可以聽清楚老師的話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用語接近學生：例如「這樣瞭解喔」、「不要裝傻」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192400" y="4735440"/>
            <a:ext cx="431640" cy="370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 rot="18235200">
            <a:off x="2304360" y="3631320"/>
            <a:ext cx="46800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95440" y="1069920"/>
          <a:ext cx="7924680" cy="3778200"/>
        </p:xfrm>
        <a:graphic>
          <a:graphicData uri="http://schemas.openxmlformats.org/drawingml/2006/table">
            <a:tbl>
              <a:tblPr/>
              <a:tblGrid>
                <a:gridCol w="1692000"/>
                <a:gridCol w="635040"/>
                <a:gridCol w="4865760"/>
                <a:gridCol w="731880"/>
              </a:tblGrid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室走動或眼神能關照多數學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上課前、中兩個時段，老師用眼神關注左右兩名後排學生學習狀況，提醒他們注意上課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370240" y="2441520"/>
            <a:ext cx="43164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00"/>
                </a:solidFill>
                <a:latin typeface="Times New Roman"/>
              </a:rPr>
              <a:t>系統的目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改進中小學教師的教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促進教師的專業發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發現教師教學表現成就，激勵教師工作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   士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促進行政人員與教師之間以及教師彼此 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中明體"/>
              </a:rPr>
              <a:t>   之間的溝通、協調和合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Times New Roman"/>
              </a:rPr>
              <a:t>教學專業發展評鑑系統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90520" y="1052640"/>
          <a:ext cx="8518680" cy="5079960"/>
        </p:xfrm>
        <a:graphic>
          <a:graphicData uri="http://schemas.openxmlformats.org/drawingml/2006/table">
            <a:tbl>
              <a:tblPr/>
              <a:tblGrid>
                <a:gridCol w="1819440"/>
                <a:gridCol w="682560"/>
                <a:gridCol w="5230800"/>
                <a:gridCol w="7858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21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運用學習評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滿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依實際需要選擇適切而多元的評量方式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學過程透過問答、學習單等方式了解學生學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適時檢視學生的學習情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33440" y="2933640"/>
            <a:ext cx="43200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76120" y="1073160"/>
          <a:ext cx="8533080" cy="4600440"/>
        </p:xfrm>
        <a:graphic>
          <a:graphicData uri="http://schemas.openxmlformats.org/drawingml/2006/table">
            <a:tbl>
              <a:tblPr/>
              <a:tblGrid>
                <a:gridCol w="1820880"/>
                <a:gridCol w="684360"/>
                <a:gridCol w="5240160"/>
                <a:gridCol w="7876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 u="sng">
                          <a:solidFill>
                            <a:srgbClr val="000000"/>
                          </a:solidFill>
                          <a:uFillTx/>
                          <a:latin typeface="標楷體"/>
                          <a:ea typeface="標楷體"/>
                        </a:rPr>
                        <a:t>A-8-3</a:t>
                      </a:r>
                      <a:r>
                        <a:rPr b="0" lang="zh-TW" sz="2400" spc="-1" strike="noStrike" u="sng">
                          <a:solidFill>
                            <a:srgbClr val="000000"/>
                          </a:solidFill>
                          <a:uFillTx/>
                          <a:latin typeface="標楷體"/>
                          <a:ea typeface="標楷體"/>
                        </a:rPr>
                        <a:t>根據學習評量結果分析學習成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回饋會談時，老師表達學習單填寫之後，根據象徵法的對照狀況，分析了解學生學習狀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 u="sng">
                          <a:solidFill>
                            <a:srgbClr val="000000"/>
                          </a:solidFill>
                          <a:uFillTx/>
                          <a:latin typeface="標楷體"/>
                          <a:ea typeface="標楷體"/>
                        </a:rPr>
                        <a:t>A-8-4</a:t>
                      </a:r>
                      <a:r>
                        <a:rPr b="0" lang="zh-TW" sz="2400" spc="-1" strike="noStrike" u="sng">
                          <a:solidFill>
                            <a:srgbClr val="000000"/>
                          </a:solidFill>
                          <a:uFillTx/>
                          <a:latin typeface="標楷體"/>
                          <a:ea typeface="標楷體"/>
                        </a:rPr>
                        <a:t>根據學生評量結果調整教學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回饋會談時，教學者表示在後續單元「五柳先生傳」，對於抽象意涵的介紹，會以生活結合的方式呈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219400" y="2044800"/>
            <a:ext cx="431640" cy="369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220840" y="3941640"/>
            <a:ext cx="43200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61800" y="1063800"/>
          <a:ext cx="8447400" cy="4911480"/>
        </p:xfrm>
        <a:graphic>
          <a:graphicData uri="http://schemas.openxmlformats.org/drawingml/2006/table">
            <a:tbl>
              <a:tblPr/>
              <a:tblGrid>
                <a:gridCol w="1803600"/>
                <a:gridCol w="677880"/>
                <a:gridCol w="5186160"/>
                <a:gridCol w="779760"/>
              </a:tblGrid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1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達成預期學習目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優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學習專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專注程度，在活動一約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0%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；活動二約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能理解運用所學概念與技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對於課文內容的字詞義回答快速正確，例如老師問「晉陶淵明獨愛菊」的「獨愛」是什麼意思，學生幾乎在老師發問之後立刻回答：「特別喜歡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301840" y="2824200"/>
            <a:ext cx="432000" cy="369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2287440" y="4241880"/>
            <a:ext cx="43200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07880" y="1197000"/>
          <a:ext cx="8299440" cy="4119480"/>
        </p:xfrm>
        <a:graphic>
          <a:graphicData uri="http://schemas.openxmlformats.org/drawingml/2006/table">
            <a:tbl>
              <a:tblPr/>
              <a:tblGrid>
                <a:gridCol w="1771920"/>
                <a:gridCol w="664920"/>
                <a:gridCol w="5095800"/>
                <a:gridCol w="766800"/>
              </a:tblGrid>
              <a:tr h="103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能理解並悅納與學習活動有關的價值觀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問學生「你們覺得可以用什麼植物代表自己？理由是什麼？」多名學生舉手回答，能夠清楚說明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301840" y="2386080"/>
            <a:ext cx="43200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76200" y="1052640"/>
          <a:ext cx="8477280" cy="4475160"/>
        </p:xfrm>
        <a:graphic>
          <a:graphicData uri="http://schemas.openxmlformats.org/drawingml/2006/table">
            <a:tbl>
              <a:tblPr/>
              <a:tblGrid>
                <a:gridCol w="1809720"/>
                <a:gridCol w="679680"/>
                <a:gridCol w="5205240"/>
                <a:gridCol w="7826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建立有助於學習的班級常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標楷體"/>
                          <a:ea typeface="標楷體"/>
                        </a:rPr>
                        <a:t>滿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訂定合理的班級規範與獎懲規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要求學生尊重任課老師、鼓勵學生發表但不可離題，上課時學生言行，多能注意互動的分寸，即使有些不專心的學生（第一排最後一名學生），也能遵守班上規定，不干擾教學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維持良好教室秩序常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301840" y="2577960"/>
            <a:ext cx="432000" cy="370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2301840" y="4133880"/>
            <a:ext cx="43200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36680" y="981000"/>
          <a:ext cx="8388360" cy="4291200"/>
        </p:xfrm>
        <a:graphic>
          <a:graphicData uri="http://schemas.openxmlformats.org/drawingml/2006/table">
            <a:tbl>
              <a:tblPr/>
              <a:tblGrid>
                <a:gridCol w="1790640"/>
                <a:gridCol w="673200"/>
                <a:gridCol w="5149800"/>
                <a:gridCol w="774720"/>
              </a:tblGrid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適時增強學生的良好表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妥善處理學生不當行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上課肢體動作表現出分心的狀況時，老師適時給予糾正，例如：「春艷，你狀況不好嗎？」、「沒有」、「那就不要趴著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357280" y="3519360"/>
            <a:ext cx="43200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課程名稱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國文愛蓮說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PM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46240" y="993600"/>
          <a:ext cx="8621640" cy="5626440"/>
        </p:xfrm>
        <a:graphic>
          <a:graphicData uri="http://schemas.openxmlformats.org/drawingml/2006/table">
            <a:tbl>
              <a:tblPr/>
              <a:tblGrid>
                <a:gridCol w="1839600"/>
                <a:gridCol w="692280"/>
                <a:gridCol w="5294160"/>
                <a:gridCol w="795600"/>
              </a:tblGrid>
              <a:tr h="82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造積極的班級學習氣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33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布置或安排適當的學習環境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並未根據教學內容進行相關的環境佈置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-2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造良好和諧的師生互動關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上課時師生互動氣氛良好自然，下課時還有學生跑去抱住老師，說「好久不見」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引導學生進行同儕合作學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220840" y="3997440"/>
            <a:ext cx="432000" cy="369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 rot="18235200">
            <a:off x="2264400" y="2935440"/>
            <a:ext cx="46836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學生學習意見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七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國文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學生性別：男    女                            日   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說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○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老師上課的內容，知識很豐富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○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上課時，老師會清楚說明上課內容重點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老師上課時，會用一些很好的方法或活動讓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學得更成功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○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上課時，老師很會問問題，讓我更努力學習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○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老師上課講的話和他的動作，我都能了解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○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老師會用學習單、問問題，或是其他考試的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法，來瞭解我學會了沒有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○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上課時，老師希望我學會的，我都能學會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上課時，班上同學的秩序都很好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-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○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我們上課的氣氛很好，同學學得很快樂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-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24000" y="765000"/>
            <a:ext cx="503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學生學習意見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傅嵉安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七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國文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學生性別：男    女                            日   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35000" y="12344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最後，我還想對老師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95280" y="1989000"/>
          <a:ext cx="8232480" cy="3868920"/>
        </p:xfrm>
        <a:graphic>
          <a:graphicData uri="http://schemas.openxmlformats.org/drawingml/2006/table">
            <a:tbl>
              <a:tblPr/>
              <a:tblGrid>
                <a:gridCol w="8232480"/>
              </a:tblGrid>
              <a:tr h="38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您上課時會補充許多東西，讓我們可以學習更多，我們的關係也不只是師生，也有像朋友喔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老師上課時有一種很努力的感覺，而且還常常有趣，您會替我們講解許多我們不知道的問題。但是希望您上課不要太大聲，因為您有時小聲、有時大聲，真的會嚇到我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/>
          <p:cNvSpPr/>
          <p:nvPr/>
        </p:nvSpPr>
        <p:spPr>
          <a:xfrm>
            <a:off x="2124000" y="765000"/>
            <a:ext cx="503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250920" y="692280"/>
          <a:ext cx="8781840" cy="5900760"/>
        </p:xfrm>
        <a:graphic>
          <a:graphicData uri="http://schemas.openxmlformats.org/drawingml/2006/table">
            <a:tbl>
              <a:tblPr/>
              <a:tblGrid>
                <a:gridCol w="434880"/>
                <a:gridCol w="504720"/>
                <a:gridCol w="515880"/>
                <a:gridCol w="73263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小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老師上課的內容，知識很豐富。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A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2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上課時，老師會清楚說明上課內容重點。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A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3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老師上課時，會用一些很好的方法或活動讓我學得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  更成功。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A-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4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上課時，老師很會問問題，讓我更努力學習。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（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A-6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5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老師上課講的話和他的動作，我都能了解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A-7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6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老師會用學習單、問問題，或是其他考試的方法，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  來瞭解我學會了沒有。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A-8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7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上課時，老師希望我學會的，我都能學會。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（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A-9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8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上課時，班上同學的秩序都很好。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B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9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我們上課的氣氛很好，同學學得很快樂。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B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細明體"/>
                          <a:ea typeface="細明體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1835280" y="0"/>
            <a:ext cx="73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學生學習意見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傅嵉安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七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國文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學生性別：男   女  日   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6600"/>
                </a:solidFill>
                <a:latin typeface="Times New Roman"/>
              </a:rPr>
              <a:t>系統的評鑑規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9900"/>
                </a:solidFill>
                <a:latin typeface="細明體"/>
              </a:rPr>
              <a:t>A </a:t>
            </a:r>
            <a:r>
              <a:rPr b="1" lang="zh-TW" sz="3200" spc="-1" strike="noStrike">
                <a:solidFill>
                  <a:srgbClr val="ff9900"/>
                </a:solidFill>
                <a:latin typeface="細明體"/>
              </a:rPr>
              <a:t>課程設計與教學</a:t>
            </a:r>
            <a:r>
              <a:rPr b="1" lang="zh-TW" sz="3200" spc="-1" strike="noStrike">
                <a:solidFill>
                  <a:srgbClr val="ff9900"/>
                </a:solidFill>
                <a:latin typeface="細明體"/>
                <a:ea typeface="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細明體"/>
              </a:rPr>
              <a:t>A-1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細明體"/>
              </a:rPr>
              <a:t>展現課程設計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細明體"/>
              </a:rPr>
              <a:t>A-2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細明體"/>
              </a:rPr>
              <a:t>研擬適切的教學計畫</a:t>
            </a:r>
            <a:r>
              <a:rPr b="0" lang="zh-TW" sz="2400" spc="-1" strike="noStrike">
                <a:solidFill>
                  <a:srgbClr val="000000"/>
                </a:solidFill>
                <a:latin typeface="細明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細明體"/>
              </a:rPr>
              <a:t>本系統暫不處理</a:t>
            </a:r>
            <a:r>
              <a:rPr b="0" lang="zh-TW" sz="2400" spc="-1" strike="noStrike">
                <a:solidFill>
                  <a:srgbClr val="000000"/>
                </a:solidFill>
                <a:latin typeface="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A-3</a:t>
            </a: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精熟任教學科領域知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A-4</a:t>
            </a: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清楚呈現教材內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A-5 </a:t>
            </a: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運用有效教學技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470320" y="3592440"/>
            <a:ext cx="1312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82880" y="359244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90800" y="3592440"/>
            <a:ext cx="2222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13440" y="359244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21360" y="3592440"/>
            <a:ext cx="2212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234280" y="3592440"/>
            <a:ext cx="237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33520" y="685800"/>
            <a:ext cx="8305560" cy="5608800"/>
            <a:chOff x="533520" y="685800"/>
            <a:chExt cx="8305560" cy="5608800"/>
          </a:xfrm>
        </p:grpSpPr>
        <p:sp>
          <p:nvSpPr>
            <p:cNvPr id="289" name=""/>
            <p:cNvSpPr/>
            <p:nvPr/>
          </p:nvSpPr>
          <p:spPr>
            <a:xfrm>
              <a:off x="6013440" y="398628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520" y="1995480"/>
              <a:ext cx="298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3400" y="1995480"/>
              <a:ext cx="1521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84400" y="19954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93760" y="1995480"/>
              <a:ext cx="1528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22680" y="19954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32040" y="1995480"/>
              <a:ext cx="2590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22960" y="1995480"/>
              <a:ext cx="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32680" y="1995480"/>
              <a:ext cx="2579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812080" y="1995480"/>
              <a:ext cx="27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2960" y="2006640"/>
              <a:ext cx="9720" cy="104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22960" y="3046320"/>
              <a:ext cx="972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22960" y="3059280"/>
              <a:ext cx="9720" cy="51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22960" y="3579840"/>
              <a:ext cx="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22960" y="3591000"/>
              <a:ext cx="9720" cy="530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22960" y="4121280"/>
              <a:ext cx="9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22960" y="4133880"/>
              <a:ext cx="9720" cy="51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3520" y="5195880"/>
              <a:ext cx="298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3400" y="5195880"/>
              <a:ext cx="1521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84400" y="51958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93760" y="5195880"/>
              <a:ext cx="1528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32040" y="5195880"/>
              <a:ext cx="2590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32680" y="5195880"/>
              <a:ext cx="2579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812080" y="5195880"/>
              <a:ext cx="27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520" y="5727600"/>
              <a:ext cx="298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3400" y="5727600"/>
              <a:ext cx="1521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84400" y="572760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93760" y="5727600"/>
              <a:ext cx="1528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32040" y="5727600"/>
              <a:ext cx="2590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32680" y="5727600"/>
              <a:ext cx="2579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812080" y="5727600"/>
              <a:ext cx="27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33520" y="685800"/>
              <a:ext cx="8305560" cy="5608800"/>
              <a:chOff x="533520" y="685800"/>
              <a:chExt cx="8305560" cy="5608800"/>
            </a:xfrm>
          </p:grpSpPr>
          <p:sp>
            <p:nvSpPr>
              <p:cNvPr id="321" name=""/>
              <p:cNvSpPr/>
              <p:nvPr/>
            </p:nvSpPr>
            <p:spPr>
              <a:xfrm>
                <a:off x="795600" y="68580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163520" y="685800"/>
                <a:ext cx="549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標楷體"/>
                    <a:ea typeface="標楷體"/>
                  </a:rPr>
                  <a:t>3-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864520" y="685800"/>
                <a:ext cx="4329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華康中明體"/>
                    <a:ea typeface="華康中明體"/>
                  </a:rPr>
                  <a:t>　</a:t>
                </a:r>
                <a:r>
                  <a:rPr b="1" lang="zh-TW" sz="2400" spc="-1" strike="noStrike">
                    <a:solidFill>
                      <a:srgbClr val="ff0000"/>
                    </a:solidFill>
                    <a:latin typeface="標楷體"/>
                    <a:ea typeface="標楷體"/>
                  </a:rPr>
                  <a:t>運用學生資料來解決第四欄中不同意歧見之建議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985320" y="15177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69280" y="151776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29480" y="15177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13800" y="151776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674000" y="15177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58320" y="151776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972800" y="1517760"/>
                <a:ext cx="229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01040" y="151776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63040" y="15177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45560" y="151776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709360" y="15177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891880" y="151776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052080" y="15177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895280" y="15177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072760" y="1517760"/>
                <a:ext cx="1189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421040" y="15177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3520" y="1293840"/>
                <a:ext cx="2988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3520" y="1293840"/>
                <a:ext cx="2988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3520" y="129384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3520" y="1293840"/>
                <a:ext cx="2988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3520" y="1293840"/>
                <a:ext cx="2988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33520" y="129384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63400" y="1293840"/>
                <a:ext cx="305928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63400" y="1293840"/>
                <a:ext cx="305928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622680" y="1293840"/>
                <a:ext cx="302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213000" y="1293840"/>
                <a:ext cx="302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622680" y="1293840"/>
                <a:ext cx="32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652920" y="1293840"/>
                <a:ext cx="5159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652920" y="1293840"/>
                <a:ext cx="515916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812080" y="1293840"/>
                <a:ext cx="270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812080" y="1293840"/>
                <a:ext cx="2700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812080" y="129384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812080" y="1293840"/>
                <a:ext cx="270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812080" y="1293840"/>
                <a:ext cx="2700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812080" y="129384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33520" y="1332000"/>
                <a:ext cx="2988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33520" y="1332000"/>
                <a:ext cx="1440" cy="66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622680" y="1332000"/>
                <a:ext cx="936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22680" y="1332000"/>
                <a:ext cx="3240" cy="66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812080" y="1332000"/>
                <a:ext cx="2700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812080" y="1332000"/>
                <a:ext cx="1800" cy="66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977760" y="2487600"/>
                <a:ext cx="1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354680" y="2487600"/>
                <a:ext cx="275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自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428840" y="248760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516040" y="2487600"/>
                <a:ext cx="1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894760" y="2487600"/>
                <a:ext cx="275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他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70360" y="248760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67000" y="2193840"/>
                <a:ext cx="137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假如僅有</a:t>
                </a:r>
                <a:r>
                  <a:rPr b="0" lang="zh-TW" sz="1800" spc="-1" strike="noStrike">
                    <a:solidFill>
                      <a:srgbClr val="ff6600"/>
                    </a:solidFill>
                    <a:latin typeface="新細明體"/>
                  </a:rPr>
                  <a:t>少數</a:t>
                </a: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學生勾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029840" y="2570040"/>
                <a:ext cx="960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該教學行為指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67280" y="2193840"/>
                <a:ext cx="137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假如</a:t>
                </a:r>
                <a:r>
                  <a:rPr b="0" lang="zh-TW" sz="1800" spc="-1" strike="noStrike">
                    <a:solidFill>
                      <a:srgbClr val="ff6600"/>
                    </a:solidFill>
                    <a:latin typeface="新細明體"/>
                  </a:rPr>
                  <a:t>多數</a:t>
                </a: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學生勾選該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38680" y="2570040"/>
                <a:ext cx="68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學行為指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33520" y="199548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3400" y="1995480"/>
                <a:ext cx="1521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084400" y="199548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084400" y="199548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093760" y="1995480"/>
                <a:ext cx="1528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622680" y="199548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622680" y="1995480"/>
                <a:ext cx="3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632040" y="1995480"/>
                <a:ext cx="2590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22960" y="199548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222960" y="199548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232680" y="1995480"/>
                <a:ext cx="257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812080" y="19954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33520" y="2006640"/>
                <a:ext cx="29880" cy="104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33520" y="2006640"/>
                <a:ext cx="1440" cy="1041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84400" y="2006640"/>
                <a:ext cx="9360" cy="104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84400" y="2006640"/>
                <a:ext cx="1440" cy="1041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622680" y="2006640"/>
                <a:ext cx="9360" cy="104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622680" y="2006640"/>
                <a:ext cx="3240" cy="1041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222960" y="2006640"/>
                <a:ext cx="1800" cy="1041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812080" y="2006640"/>
                <a:ext cx="27000" cy="104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812080" y="2006640"/>
                <a:ext cx="1800" cy="1041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995760" y="3174840"/>
                <a:ext cx="412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待改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491560" y="3174840"/>
                <a:ext cx="275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優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651200" y="317484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需要加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318800" y="3174840"/>
                <a:ext cx="412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不確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33520" y="3046320"/>
                <a:ext cx="2988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33520" y="3046320"/>
                <a:ext cx="29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63400" y="3046320"/>
                <a:ext cx="15210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63400" y="3046320"/>
                <a:ext cx="1521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084400" y="3046320"/>
                <a:ext cx="9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084400" y="304632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084400" y="3046320"/>
                <a:ext cx="144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93760" y="3046320"/>
                <a:ext cx="152892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093760" y="3046320"/>
                <a:ext cx="1528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622680" y="3046320"/>
                <a:ext cx="9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622680" y="304632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622680" y="3046320"/>
                <a:ext cx="324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632040" y="3046320"/>
                <a:ext cx="259092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632040" y="3046320"/>
                <a:ext cx="2590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222960" y="304632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222960" y="3046320"/>
                <a:ext cx="180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232680" y="3046320"/>
                <a:ext cx="25794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232680" y="3046320"/>
                <a:ext cx="2579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812080" y="3046320"/>
                <a:ext cx="270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812080" y="304632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33520" y="3059280"/>
                <a:ext cx="29880" cy="51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33520" y="3059280"/>
                <a:ext cx="144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084400" y="3059280"/>
                <a:ext cx="9360" cy="51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084400" y="3059280"/>
                <a:ext cx="144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622680" y="3059280"/>
                <a:ext cx="9360" cy="51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22680" y="3059280"/>
                <a:ext cx="324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22960" y="3059280"/>
                <a:ext cx="180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812080" y="3059280"/>
                <a:ext cx="27000" cy="51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812080" y="3059280"/>
                <a:ext cx="180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041480" y="370692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高度表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489760" y="3706920"/>
                <a:ext cx="275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滿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19960" y="3706920"/>
                <a:ext cx="412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不確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179840" y="3786120"/>
                <a:ext cx="68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不需要加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33520" y="3579840"/>
                <a:ext cx="298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33520" y="3579840"/>
                <a:ext cx="2988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3400" y="3579840"/>
                <a:ext cx="15210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63400" y="3579840"/>
                <a:ext cx="152100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84400" y="35798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84400" y="3579840"/>
                <a:ext cx="936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084400" y="357984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093760" y="3579840"/>
                <a:ext cx="1528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093760" y="3579840"/>
                <a:ext cx="152892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622680" y="35798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622680" y="3579840"/>
                <a:ext cx="936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622680" y="3579840"/>
                <a:ext cx="3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632040" y="3579840"/>
                <a:ext cx="2590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32040" y="3579840"/>
                <a:ext cx="259092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22960" y="3579840"/>
                <a:ext cx="972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222960" y="357984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232680" y="3579840"/>
                <a:ext cx="25794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32680" y="3579840"/>
                <a:ext cx="257940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812080" y="3579840"/>
                <a:ext cx="270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812080" y="3579840"/>
                <a:ext cx="2700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33520" y="3591000"/>
                <a:ext cx="29880" cy="530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3520" y="3591000"/>
                <a:ext cx="1440" cy="530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084400" y="3591000"/>
                <a:ext cx="9360" cy="530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084400" y="3591000"/>
                <a:ext cx="1440" cy="530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22680" y="3591000"/>
                <a:ext cx="9360" cy="530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22680" y="3591000"/>
                <a:ext cx="3240" cy="530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22960" y="3591000"/>
                <a:ext cx="1800" cy="530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812080" y="3591000"/>
                <a:ext cx="27000" cy="530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812080" y="3591000"/>
                <a:ext cx="1800" cy="530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041480" y="424800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高度表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583000" y="424800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低度表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719960" y="4248000"/>
                <a:ext cx="412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不確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318800" y="4248000"/>
                <a:ext cx="412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不確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3520" y="4121280"/>
                <a:ext cx="2988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33520" y="412128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63400" y="4121280"/>
                <a:ext cx="15210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63400" y="4121280"/>
                <a:ext cx="1521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084400" y="4121280"/>
                <a:ext cx="93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084400" y="412128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084400" y="4121280"/>
                <a:ext cx="144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093760" y="4121280"/>
                <a:ext cx="15289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093760" y="4121280"/>
                <a:ext cx="1528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622680" y="4121280"/>
                <a:ext cx="93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622680" y="412128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22680" y="4121280"/>
                <a:ext cx="324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32040" y="4121280"/>
                <a:ext cx="25909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632040" y="4121280"/>
                <a:ext cx="2590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222960" y="412128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222960" y="4121280"/>
                <a:ext cx="1800" cy="1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232680" y="4121280"/>
                <a:ext cx="25794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232680" y="4121280"/>
                <a:ext cx="257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812080" y="4121280"/>
                <a:ext cx="270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812080" y="41212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3520" y="4133880"/>
                <a:ext cx="29880" cy="51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3520" y="4133880"/>
                <a:ext cx="144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084400" y="4133880"/>
                <a:ext cx="9360" cy="51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084400" y="4133880"/>
                <a:ext cx="144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622680" y="4133880"/>
                <a:ext cx="9360" cy="51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622680" y="4133880"/>
                <a:ext cx="324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222960" y="4133880"/>
                <a:ext cx="180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812080" y="4133880"/>
                <a:ext cx="27000" cy="51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812080" y="4133880"/>
                <a:ext cx="1800" cy="51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041480" y="478152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低度表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581200" y="478152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中度表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651200" y="478152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需要加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106040" y="4859280"/>
                <a:ext cx="722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  </a:t>
                </a: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需要加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33520" y="4653000"/>
                <a:ext cx="298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33520" y="465300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63400" y="4653000"/>
                <a:ext cx="15210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63400" y="4653000"/>
                <a:ext cx="1521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084400" y="46530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084400" y="465300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084400" y="465300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093760" y="4653000"/>
                <a:ext cx="1528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622680" y="465300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22680" y="4653000"/>
                <a:ext cx="3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632040" y="4653000"/>
                <a:ext cx="2590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222960" y="465300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222960" y="465300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232680" y="4653000"/>
                <a:ext cx="257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812080" y="465300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33520" y="4664160"/>
                <a:ext cx="29880" cy="53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33520" y="4664160"/>
                <a:ext cx="1440" cy="531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084400" y="4664160"/>
                <a:ext cx="9360" cy="53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084400" y="4664160"/>
                <a:ext cx="1440" cy="531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622680" y="4664160"/>
                <a:ext cx="3240" cy="531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222960" y="4664160"/>
                <a:ext cx="1800" cy="531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812080" y="4664160"/>
                <a:ext cx="27000" cy="531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812080" y="4664160"/>
                <a:ext cx="1800" cy="531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041480" y="532296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中度表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581200" y="532296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高度表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719960" y="5322960"/>
                <a:ext cx="412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不確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179840" y="5322960"/>
                <a:ext cx="68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不需要加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33520" y="519588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63400" y="5195880"/>
                <a:ext cx="1521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84400" y="519588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84400" y="519588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93760" y="5195880"/>
                <a:ext cx="1528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622680" y="519588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622680" y="5195880"/>
                <a:ext cx="3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632040" y="5195880"/>
                <a:ext cx="2590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22960" y="519588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222960" y="519588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232680" y="5195880"/>
                <a:ext cx="257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812080" y="51958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33520" y="5207040"/>
                <a:ext cx="29880" cy="517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33520" y="5207040"/>
                <a:ext cx="1440" cy="517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084400" y="5207040"/>
                <a:ext cx="9360" cy="517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84400" y="5207040"/>
                <a:ext cx="1440" cy="517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622680" y="5207040"/>
                <a:ext cx="3240" cy="517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222960" y="5207040"/>
                <a:ext cx="1800" cy="517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12080" y="5207040"/>
                <a:ext cx="27000" cy="517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812080" y="5207040"/>
                <a:ext cx="1800" cy="517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041480" y="585468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中度表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581200" y="585468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新細明體"/>
                  </a:rPr>
                  <a:t>低度表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765680" y="585468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808080"/>
                    </a:solidFill>
                    <a:latin typeface="Times New Roman"/>
                  </a:rPr>
                  <a:t>需要加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64520" y="585468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808080"/>
                    </a:solidFill>
                    <a:latin typeface="Times New Roman"/>
                  </a:rPr>
                  <a:t>需要加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33520" y="5727600"/>
                <a:ext cx="29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63400" y="5727600"/>
                <a:ext cx="1521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084400" y="572760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084400" y="5727600"/>
                <a:ext cx="14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093760" y="5727600"/>
                <a:ext cx="1528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622680" y="572760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622680" y="5727600"/>
                <a:ext cx="3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632040" y="5727600"/>
                <a:ext cx="2590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222960" y="572760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222960" y="5727600"/>
                <a:ext cx="180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232680" y="5727600"/>
                <a:ext cx="2579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812080" y="572760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3520" y="5738760"/>
                <a:ext cx="29880" cy="520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3520" y="5738760"/>
                <a:ext cx="1440" cy="520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33520" y="6259680"/>
                <a:ext cx="2988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33520" y="625968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33520" y="625968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33520" y="6259680"/>
                <a:ext cx="2988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33520" y="6259680"/>
                <a:ext cx="29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33520" y="625968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63400" y="6259680"/>
                <a:ext cx="15210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63400" y="6259680"/>
                <a:ext cx="1521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084400" y="5738760"/>
                <a:ext cx="9360" cy="520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084400" y="5738760"/>
                <a:ext cx="1440" cy="520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084400" y="6259680"/>
                <a:ext cx="270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084400" y="62596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84400" y="625968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111400" y="6259680"/>
                <a:ext cx="151128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111400" y="6259680"/>
                <a:ext cx="1511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622680" y="5738760"/>
                <a:ext cx="3240" cy="520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622680" y="6259680"/>
                <a:ext cx="3024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622680" y="625968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622680" y="6259680"/>
                <a:ext cx="32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652920" y="6259680"/>
                <a:ext cx="257004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652920" y="6259680"/>
                <a:ext cx="257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222960" y="5738760"/>
                <a:ext cx="1800" cy="520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222960" y="6259680"/>
                <a:ext cx="270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222960" y="62596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22960" y="6259680"/>
                <a:ext cx="180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249960" y="6259680"/>
                <a:ext cx="25621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49960" y="6259680"/>
                <a:ext cx="2562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12080" y="5738760"/>
                <a:ext cx="27000" cy="520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812080" y="5738760"/>
                <a:ext cx="1800" cy="520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812080" y="6259680"/>
                <a:ext cx="270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812080" y="62596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812080" y="6259680"/>
                <a:ext cx="180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12080" y="6259680"/>
                <a:ext cx="270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812080" y="62596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812080" y="6259680"/>
                <a:ext cx="180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綜合報告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5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國文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324000" y="1700280"/>
          <a:ext cx="8483040" cy="4843440"/>
        </p:xfrm>
        <a:graphic>
          <a:graphicData uri="http://schemas.openxmlformats.org/drawingml/2006/table">
            <a:tbl>
              <a:tblPr/>
              <a:tblGrid>
                <a:gridCol w="502200"/>
                <a:gridCol w="3269160"/>
                <a:gridCol w="494280"/>
                <a:gridCol w="494280"/>
                <a:gridCol w="477360"/>
                <a:gridCol w="411480"/>
                <a:gridCol w="384840"/>
                <a:gridCol w="547200"/>
                <a:gridCol w="545760"/>
                <a:gridCol w="479160"/>
                <a:gridCol w="424800"/>
                <a:gridCol w="452520"/>
              </a:tblGrid>
              <a:tr h="685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層  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自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室觀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意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具備能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成長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多數支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少數支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Ａ課程設計與教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精熟任教學科領域知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清楚呈現教材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運用有效教學技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發問啟發思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用良好溝通技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運用學習評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達成預期學習目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1" name=""/>
          <p:cNvGraphicFramePr/>
          <p:nvPr/>
        </p:nvGraphicFramePr>
        <p:xfrm>
          <a:off x="330120" y="1773360"/>
          <a:ext cx="8499600" cy="4600440"/>
        </p:xfrm>
        <a:graphic>
          <a:graphicData uri="http://schemas.openxmlformats.org/drawingml/2006/table">
            <a:tbl>
              <a:tblPr/>
              <a:tblGrid>
                <a:gridCol w="513000"/>
                <a:gridCol w="3238200"/>
                <a:gridCol w="492120"/>
                <a:gridCol w="490680"/>
                <a:gridCol w="476280"/>
                <a:gridCol w="414360"/>
                <a:gridCol w="387360"/>
                <a:gridCol w="538200"/>
                <a:gridCol w="601560"/>
                <a:gridCol w="474840"/>
                <a:gridCol w="423720"/>
                <a:gridCol w="449280"/>
              </a:tblGrid>
              <a:tr h="69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層  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自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室觀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意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具備能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成長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多數支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少數支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班級經營與輔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建立有助於學習的班級常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確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造積極的班級學習氣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確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2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綜合報告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5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國文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647280" y="1602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總評意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03200" y="2081160"/>
          <a:ext cx="8291520" cy="3664080"/>
        </p:xfrm>
        <a:graphic>
          <a:graphicData uri="http://schemas.openxmlformats.org/drawingml/2006/table">
            <a:tbl>
              <a:tblPr/>
              <a:tblGrid>
                <a:gridCol w="8291520"/>
              </a:tblGrid>
              <a:tr h="366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受評鑑教師優點是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從老師自評、觀察者紀錄以及學生學習意見來看，傅老師在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清楚呈現教材內容」、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發問啟發思考」、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用良好溝通技巧」等三項指標有良好的表現。例如在呈現教材時，能夠有條不紊、逐步引導學生從具體到抽象、從簡單到複雜，在重要概念的掌握及講解上，也可以看出老師的用心及對教材的精熟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綜合報告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5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國文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綜合報告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5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國文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99880" y="1704960"/>
          <a:ext cx="8607600" cy="4819680"/>
        </p:xfrm>
        <a:graphic>
          <a:graphicData uri="http://schemas.openxmlformats.org/drawingml/2006/table">
            <a:tbl>
              <a:tblPr/>
              <a:tblGrid>
                <a:gridCol w="8607600"/>
              </a:tblGrid>
              <a:tr h="48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受評鑑教師待成長的地方是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傅老師在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精熟任教學科領域知識」有改進的空間，在三項檢核重點之中，以「掌握教材內容」表現最為突出，不過在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有效連結學生的新舊知識」以及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合學生生活經驗」等兩項檢核重點，表現則比較不明顯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具體的改進建議是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根據各項資料，決定選擇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精熟任教學科領域知識」作為專業成長的方向，在回饋會談過程中，傅老師表達個人對於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合學生生活經驗」的重視及關切，因此決定以該項檢核重點為擬定及執行專業成長計畫的核心。相關活動規劃請見專業成長計畫表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380880" y="304920"/>
            <a:ext cx="8305920" cy="5943240"/>
            <a:chOff x="380880" y="304920"/>
            <a:chExt cx="8305920" cy="5943240"/>
          </a:xfrm>
        </p:grpSpPr>
        <p:grpSp>
          <p:nvGrpSpPr>
            <p:cNvPr id="609" name=""/>
            <p:cNvGrpSpPr/>
            <p:nvPr/>
          </p:nvGrpSpPr>
          <p:grpSpPr>
            <a:xfrm>
              <a:off x="380880" y="304920"/>
              <a:ext cx="8305920" cy="5410080"/>
              <a:chOff x="380880" y="304920"/>
              <a:chExt cx="8305920" cy="5410080"/>
            </a:xfrm>
          </p:grpSpPr>
          <p:sp>
            <p:nvSpPr>
              <p:cNvPr id="610" name=""/>
              <p:cNvSpPr/>
              <p:nvPr/>
            </p:nvSpPr>
            <p:spPr>
              <a:xfrm>
                <a:off x="380880" y="379440"/>
                <a:ext cx="1817640" cy="5164200"/>
              </a:xfrm>
              <a:prstGeom prst="rightArrow">
                <a:avLst>
                  <a:gd name="adj1" fmla="val 80120"/>
                  <a:gd name="adj2" fmla="val 24977"/>
                </a:avLst>
              </a:prstGeom>
              <a:solidFill>
                <a:srgbClr val="ffff99"/>
              </a:solidFill>
              <a:ln w="9360">
                <a:solidFill>
                  <a:srgbClr val="80808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閱讀和研討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參與討論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觀賞影片和錄</a:t>
                </a:r>
                <a:br>
                  <a:rPr sz="1600"/>
                </a:b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 影帶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參加筆試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知  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知道行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068560" y="304920"/>
                <a:ext cx="1946160" cy="5410080"/>
              </a:xfrm>
              <a:prstGeom prst="rightArrow">
                <a:avLst>
                  <a:gd name="adj1" fmla="val 80148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調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觀察他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分析自行運用</a:t>
                </a:r>
                <a:br>
                  <a:rPr sz="1600"/>
                </a:b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  的情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比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選擇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計劃使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探  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探究行為的多種應用途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886200" y="304920"/>
                <a:ext cx="1946160" cy="5410080"/>
              </a:xfrm>
              <a:prstGeom prst="rightArrow">
                <a:avLst>
                  <a:gd name="adj1" fmla="val 80148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角色扮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在小團體中練</a:t>
                </a:r>
                <a:br>
                  <a:rPr sz="1600"/>
                </a:b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  習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在教室中練習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紀錄試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批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調整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試  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試驗行為直到能夠掌握為止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572080" y="304920"/>
                <a:ext cx="1947960" cy="5410080"/>
              </a:xfrm>
              <a:prstGeom prst="rightArrow">
                <a:avLst>
                  <a:gd name="adj1" fmla="val 80148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有規則地使用</a:t>
                </a:r>
                <a:br>
                  <a:rPr sz="1600"/>
                </a:b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  設計策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把技術精純化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建  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建立行為在個人的教學行為庫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259760" y="795240"/>
                <a:ext cx="1427040" cy="4429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擴大使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發展資源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80808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與同事分享</a:t>
                </a:r>
                <a:br>
                  <a:rPr sz="1600"/>
                </a:b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  知識和技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決  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808080"/>
                    </a:solidFill>
                    <a:latin typeface="Times New Roman"/>
                    <a:ea typeface="細明體"/>
                  </a:rPr>
                  <a:t>決定經常地廣泛使用行為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1289880" y="5808600"/>
              <a:ext cx="4090680" cy="439560"/>
              <a:chOff x="1289880" y="5808600"/>
              <a:chExt cx="4090680" cy="439560"/>
            </a:xfrm>
          </p:grpSpPr>
          <p:sp>
            <p:nvSpPr>
              <p:cNvPr id="616" name=""/>
              <p:cNvSpPr/>
              <p:nvPr/>
            </p:nvSpPr>
            <p:spPr>
              <a:xfrm>
                <a:off x="1289880" y="5821200"/>
                <a:ext cx="214200" cy="4269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800" spc="-1" strike="noStrike">
                    <a:solidFill>
                      <a:srgbClr val="808080"/>
                    </a:solidFill>
                    <a:latin typeface="標楷體"/>
                    <a:ea typeface="標楷體"/>
                  </a:rPr>
                  <a:t>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76880" y="5808600"/>
                <a:ext cx="640800" cy="4269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標楷體"/>
                    <a:ea typeface="標楷體"/>
                  </a:rPr>
                  <a:t>4-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084280" y="5808600"/>
                <a:ext cx="296280" cy="4269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800" spc="-1" strike="noStrike">
                    <a:solidFill>
                      <a:srgbClr val="808080"/>
                    </a:solidFill>
                    <a:latin typeface="標楷體"/>
                    <a:ea typeface="標楷體"/>
                  </a:rPr>
                  <a:t>「發展性教學輔導系統」的發展層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2612880" y="30492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91000" y="30492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41680" y="1171440"/>
            <a:ext cx="7920" cy="64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641680" y="1817640"/>
            <a:ext cx="79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578560" y="181764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641680" y="1828800"/>
            <a:ext cx="792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578560" y="1828800"/>
            <a:ext cx="936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41680" y="2614680"/>
            <a:ext cx="79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578560" y="2614680"/>
            <a:ext cx="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41680" y="2627280"/>
            <a:ext cx="7920" cy="9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78560" y="2627280"/>
            <a:ext cx="9360" cy="9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641680" y="3624120"/>
            <a:ext cx="792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578560" y="3624120"/>
            <a:ext cx="93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641680" y="3637080"/>
            <a:ext cx="792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578560" y="3637080"/>
            <a:ext cx="936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41680" y="4633920"/>
            <a:ext cx="79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578560" y="4633920"/>
            <a:ext cx="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641680" y="4646520"/>
            <a:ext cx="7920" cy="171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78560" y="4646520"/>
            <a:ext cx="9360" cy="171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60440" y="457200"/>
            <a:ext cx="8458200" cy="5943600"/>
            <a:chOff x="460440" y="457200"/>
            <a:chExt cx="8458200" cy="5943600"/>
          </a:xfrm>
        </p:grpSpPr>
        <p:sp>
          <p:nvSpPr>
            <p:cNvPr id="639" name=""/>
            <p:cNvSpPr/>
            <p:nvPr/>
          </p:nvSpPr>
          <p:spPr>
            <a:xfrm>
              <a:off x="2215440" y="457200"/>
              <a:ext cx="244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51680" y="457200"/>
              <a:ext cx="732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4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737520" y="457200"/>
              <a:ext cx="26020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　建議的成長活動系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19960" y="1355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</a:rPr>
                <a:t>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90240" y="1327320"/>
              <a:ext cx="29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69480" y="1355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</a:rPr>
                <a:t>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506040" y="1355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</a:rPr>
                <a:t>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675600" y="132732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63200" y="1355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</a:rPr>
                <a:t>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28080" y="1327320"/>
              <a:ext cx="133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52760" y="1355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</a:rPr>
                <a:t>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27000" y="132732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913160" y="1355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</a:rPr>
                <a:t>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0440" y="1135080"/>
              <a:ext cx="270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0440" y="11350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0440" y="113508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0440" y="1135080"/>
              <a:ext cx="270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0440" y="11350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60440" y="113508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7440" y="1135080"/>
              <a:ext cx="21542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7440" y="1135080"/>
              <a:ext cx="2154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1680" y="1135080"/>
              <a:ext cx="270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41680" y="11350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41680" y="113508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68680" y="1135080"/>
              <a:ext cx="62229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68680" y="1135080"/>
              <a:ext cx="6222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891640" y="1135080"/>
              <a:ext cx="270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891640" y="11350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891640" y="113508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891640" y="1135080"/>
              <a:ext cx="270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891640" y="11350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891640" y="113508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0440" y="1171440"/>
              <a:ext cx="27000" cy="64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0440" y="1171440"/>
              <a:ext cx="1440" cy="64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641680" y="1171440"/>
              <a:ext cx="1440" cy="64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891640" y="1171440"/>
              <a:ext cx="27000" cy="64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891640" y="1171440"/>
              <a:ext cx="1440" cy="64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540240" y="2152800"/>
              <a:ext cx="123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獨自完成的成長活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34520" y="2152800"/>
              <a:ext cx="109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和他人合作的活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0440" y="1817640"/>
              <a:ext cx="27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0440" y="181764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7440" y="1817640"/>
              <a:ext cx="2154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7440" y="1817640"/>
              <a:ext cx="215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41680" y="1817640"/>
              <a:ext cx="7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641680" y="181764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649600" y="1817640"/>
              <a:ext cx="292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49600" y="1817640"/>
              <a:ext cx="292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78560" y="1817640"/>
              <a:ext cx="9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578560" y="181764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87920" y="1817640"/>
              <a:ext cx="3303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87920" y="1817640"/>
              <a:ext cx="330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891640" y="1817640"/>
              <a:ext cx="27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891640" y="181764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60440" y="1828800"/>
              <a:ext cx="27000" cy="78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60440" y="1828800"/>
              <a:ext cx="1440" cy="78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641680" y="1828800"/>
              <a:ext cx="1440" cy="78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78560" y="1828800"/>
              <a:ext cx="1440" cy="78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91640" y="1828800"/>
              <a:ext cx="27000" cy="78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891640" y="1828800"/>
              <a:ext cx="1440" cy="78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7120" y="280512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新細明體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71720" y="2805120"/>
              <a:ext cx="109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發現有效教學行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906640" y="28051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觀賞影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88720" y="2805120"/>
              <a:ext cx="10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、影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545720" y="2805120"/>
              <a:ext cx="10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、電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4360" y="2805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815200" y="3166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演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565080" y="3166920"/>
              <a:ext cx="10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、錄音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26840" y="3166920"/>
              <a:ext cx="10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、唱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31200" y="316692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閱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73560" y="2805120"/>
              <a:ext cx="123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參與有計畫的研討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860960" y="280512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出席知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890680" y="316692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性的講習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21880" y="3166920"/>
              <a:ext cx="109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修讀研究所課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0440" y="2614680"/>
              <a:ext cx="270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0440" y="26146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7440" y="2614680"/>
              <a:ext cx="2154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440" y="2614680"/>
              <a:ext cx="2154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41680" y="2614680"/>
              <a:ext cx="79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641680" y="261468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649600" y="2614680"/>
              <a:ext cx="2928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649600" y="2614680"/>
              <a:ext cx="292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78560" y="2614680"/>
              <a:ext cx="9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78560" y="261468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87920" y="2614680"/>
              <a:ext cx="3303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587920" y="2614680"/>
              <a:ext cx="33037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891640" y="2614680"/>
              <a:ext cx="270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891640" y="26146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0440" y="2627280"/>
              <a:ext cx="27000" cy="99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0440" y="2627280"/>
              <a:ext cx="1440" cy="99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641680" y="2627280"/>
              <a:ext cx="1440" cy="99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578560" y="2627280"/>
              <a:ext cx="1440" cy="99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891640" y="2627280"/>
              <a:ext cx="27000" cy="99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891640" y="2627280"/>
              <a:ext cx="1440" cy="99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7120" y="367812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新細明體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71720" y="3678120"/>
              <a:ext cx="109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對於教學行為加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51880" y="4040280"/>
              <a:ext cx="6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90280" y="404028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反應和應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815200" y="3817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思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97600" y="381780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收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954600" y="381780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組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11960" y="381780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評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177880" y="3817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860920" y="417672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寫筆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16480" y="417672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計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753520" y="3817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討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329160" y="381780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角色扮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22840" y="381780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腦力激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1160" y="3817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90680" y="417672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訪其他教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60440" y="3624120"/>
              <a:ext cx="270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60440" y="36241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7440" y="3624120"/>
              <a:ext cx="21542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7440" y="3624120"/>
              <a:ext cx="2154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641680" y="3624120"/>
              <a:ext cx="79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641680" y="362412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649600" y="3624120"/>
              <a:ext cx="2928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649600" y="3624120"/>
              <a:ext cx="292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78560" y="3624120"/>
              <a:ext cx="9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78560" y="362412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587920" y="3624120"/>
              <a:ext cx="330372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87920" y="3624120"/>
              <a:ext cx="33037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891640" y="3624120"/>
              <a:ext cx="270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891640" y="36241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0440" y="3637080"/>
              <a:ext cx="27000" cy="100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0440" y="3637080"/>
              <a:ext cx="1440" cy="10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641680" y="3637080"/>
              <a:ext cx="1440" cy="10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578560" y="3637080"/>
              <a:ext cx="1440" cy="10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891640" y="3637080"/>
              <a:ext cx="27000" cy="100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891640" y="3637080"/>
              <a:ext cx="1440" cy="10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37120" y="482616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新細明體"/>
                </a:rPr>
                <a:t>3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71720" y="4826160"/>
              <a:ext cx="109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在教室情境中研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51880" y="5187960"/>
              <a:ext cx="6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44560" y="51879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教學行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3800" y="482616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微縮教學和錄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84160" y="482616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在自己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52360" y="518796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教室中練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137480" y="518796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批判自己的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69480" y="5548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413880" y="554832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分析和調整自己的教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333400" y="5548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226680" y="591012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為了徹底執行而設計策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36400" y="482616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出席訓練活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95040" y="482616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；觀摩教學展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02160" y="5187960"/>
              <a:ext cx="192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邀請其他人進行重點觀察並提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844960" y="55483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新細明體"/>
                </a:rPr>
                <a:t>回饋資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60440" y="4633920"/>
              <a:ext cx="270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0440" y="46339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87440" y="4633920"/>
              <a:ext cx="2154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87440" y="4633920"/>
              <a:ext cx="2154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41680" y="4633920"/>
              <a:ext cx="79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41680" y="46339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49600" y="4633920"/>
              <a:ext cx="2928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49600" y="4633920"/>
              <a:ext cx="292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578560" y="4633920"/>
              <a:ext cx="9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578560" y="46339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587920" y="4633920"/>
              <a:ext cx="3303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587920" y="4633920"/>
              <a:ext cx="33037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891640" y="4633920"/>
              <a:ext cx="270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891640" y="46339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60440" y="4646520"/>
              <a:ext cx="27000" cy="171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60440" y="4646520"/>
              <a:ext cx="1440" cy="171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60440" y="6365880"/>
              <a:ext cx="270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60440" y="63658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0440" y="6365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60440" y="6365880"/>
              <a:ext cx="270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60440" y="63658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60440" y="6365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7440" y="6365880"/>
              <a:ext cx="215424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87440" y="6365880"/>
              <a:ext cx="215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41680" y="4646520"/>
              <a:ext cx="1440" cy="171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41680" y="6365880"/>
              <a:ext cx="270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641680" y="63658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641680" y="6365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668680" y="6365880"/>
              <a:ext cx="290988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668680" y="6365880"/>
              <a:ext cx="290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578560" y="4646520"/>
              <a:ext cx="1440" cy="171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578560" y="6365880"/>
              <a:ext cx="2844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578560" y="63658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8560" y="6365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607000" y="6365880"/>
              <a:ext cx="328464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607000" y="6365880"/>
              <a:ext cx="328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891640" y="4646520"/>
              <a:ext cx="27000" cy="171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891640" y="4646520"/>
              <a:ext cx="1440" cy="171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891640" y="6365880"/>
              <a:ext cx="270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891640" y="63658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891640" y="6365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891640" y="6365880"/>
              <a:ext cx="270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891640" y="63658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891640" y="6365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專業成長計畫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6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心國中傅嵉安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七年級 國文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395280" y="1484280"/>
          <a:ext cx="8265960" cy="2502000"/>
        </p:xfrm>
        <a:graphic>
          <a:graphicData uri="http://schemas.openxmlformats.org/drawingml/2006/table">
            <a:tbl>
              <a:tblPr/>
              <a:tblGrid>
                <a:gridCol w="8265960"/>
              </a:tblGrid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指出教師已有的教學成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參考「綜合報告表」（表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A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）之後，註明教師已具備能力的評鑑指標代號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已具備能力的評鑑指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A-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A-7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A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專業成長計畫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6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心國中傅嵉安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七年級 國文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82440" y="907920"/>
          <a:ext cx="8907480" cy="5564160"/>
        </p:xfrm>
        <a:graphic>
          <a:graphicData uri="http://schemas.openxmlformats.org/drawingml/2006/table">
            <a:tbl>
              <a:tblPr/>
              <a:tblGrid>
                <a:gridCol w="919440"/>
                <a:gridCol w="5521320"/>
                <a:gridCol w="1430280"/>
                <a:gridCol w="1036440"/>
              </a:tblGrid>
              <a:tr h="459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指出教師需要成長的評鑑指標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一個評鑑指標請用一張表格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需要成長的評鑑指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精熟任教學科領域知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合學生生活經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發展層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特定的成長活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作人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完成日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知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閱讀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黃錦鋐（民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6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）。國文教學法。臺北市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: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三民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請教同校國文科陳琦偵老師，在課程設計時應該注意哪些重點，以及如何將課程內容結合學生生活經驗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在領域會議中以「課程與學生生活經驗」為主題，請參與老師提出意見及作法，提供教學者比較參考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傅嵉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陳琦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李俊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6/05/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185760" y="1052640"/>
          <a:ext cx="8759880" cy="5383080"/>
        </p:xfrm>
        <a:graphic>
          <a:graphicData uri="http://schemas.openxmlformats.org/drawingml/2006/table">
            <a:tbl>
              <a:tblPr/>
              <a:tblGrid>
                <a:gridCol w="873000"/>
                <a:gridCol w="5661000"/>
                <a:gridCol w="1103400"/>
                <a:gridCol w="1122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發展層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特定的成長活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作人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完成日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探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觀摩陳琦偵老師國文教學，探討如何將學理落實於教學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場觀摩之後，再針對陳老師的教學錄影，分析她如何將課程結合學生生活經驗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傅嵉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陳琦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6/05/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試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以下一次文言文課程－「五柳先生傳」為教學主題，嘗試從生活環境、社會變化等角度著手，結合學生目前生活經驗，體會課文意義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請趙文中老師協助錄影，錄影之後分析自己是否能確實結合課文內容與學生生活經驗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傅嵉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趙文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6/05/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專業成長計畫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6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心國中傅嵉安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七年級 國文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24000" y="6380640"/>
            <a:ext cx="8496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簽名：傅嵉安     輔導者簽名：李俊達   日期：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6/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6600"/>
                </a:solidFill>
                <a:latin typeface="Times New Roman"/>
              </a:rPr>
              <a:t>系統的評鑑規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9900"/>
                </a:solidFill>
                <a:latin typeface="細明體"/>
              </a:rPr>
              <a:t>A </a:t>
            </a:r>
            <a:r>
              <a:rPr b="1" lang="zh-TW" sz="3200" spc="-1" strike="noStrike">
                <a:solidFill>
                  <a:srgbClr val="ff9900"/>
                </a:solidFill>
                <a:latin typeface="細明體"/>
              </a:rPr>
              <a:t>課程設計與教學</a:t>
            </a:r>
            <a:r>
              <a:rPr b="1" lang="zh-TW" sz="3200" spc="-1" strike="noStrike">
                <a:solidFill>
                  <a:srgbClr val="ff9900"/>
                </a:solidFill>
                <a:latin typeface="細明體"/>
                <a:ea typeface="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A-6</a:t>
            </a: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善於發問啟發思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A-7</a:t>
            </a: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應用良好溝通技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A-8 </a:t>
            </a: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善於運用學習評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A-9</a:t>
            </a: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達成預期學習目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"/>
          <p:cNvGrpSpPr/>
          <p:nvPr/>
        </p:nvGrpSpPr>
        <p:grpSpPr>
          <a:xfrm>
            <a:off x="0" y="260280"/>
            <a:ext cx="8915400" cy="6377040"/>
            <a:chOff x="0" y="260280"/>
            <a:chExt cx="8915400" cy="6377040"/>
          </a:xfrm>
        </p:grpSpPr>
        <p:grpSp>
          <p:nvGrpSpPr>
            <p:cNvPr id="836" name=""/>
            <p:cNvGrpSpPr/>
            <p:nvPr/>
          </p:nvGrpSpPr>
          <p:grpSpPr>
            <a:xfrm>
              <a:off x="0" y="260280"/>
              <a:ext cx="8915400" cy="6377040"/>
              <a:chOff x="0" y="260280"/>
              <a:chExt cx="8915400" cy="6377040"/>
            </a:xfrm>
          </p:grpSpPr>
          <p:pic>
            <p:nvPicPr>
              <p:cNvPr id="8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60280"/>
                <a:ext cx="83059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 rot="5338800">
                <a:off x="5025240" y="3088440"/>
                <a:ext cx="53337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800" spc="-1" strike="noStrike">
                    <a:solidFill>
                      <a:srgbClr val="000000"/>
                    </a:solidFill>
                    <a:latin typeface="細明體"/>
                    <a:ea typeface="標楷體"/>
                  </a:rPr>
                  <a:t>教學專業發展評鑑系統成就證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5338800">
                <a:off x="6987240" y="3809880"/>
                <a:ext cx="447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字第　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5338800">
                <a:off x="7053840" y="4749840"/>
                <a:ext cx="325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　號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5338800">
                <a:off x="5903280" y="3348000"/>
                <a:ext cx="16315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茲證明  </a:t>
                </a:r>
                <a:r>
                  <a:rPr b="1" lang="zh-TW" sz="20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傅嵉安  </a:t>
                </a:r>
                <a:r>
                  <a:rPr b="0" lang="zh-TW" sz="20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老師已經參與﹁教學專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5406600">
                <a:off x="6192360" y="1412280"/>
                <a:ext cx="107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發展評鑑系統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5388000">
                <a:off x="5576760" y="4704480"/>
                <a:ext cx="1342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，</a:t>
                </a:r>
                <a:r>
                  <a:rPr b="0" lang="zh-TW" sz="20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並在下述教學行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5338800">
                <a:off x="5728320" y="1550880"/>
                <a:ext cx="124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展示其教學成就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5384400">
                <a:off x="2797560" y="3024360"/>
                <a:ext cx="4919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細明體"/>
                    <a:ea typeface="標楷體"/>
                  </a:rPr>
                  <a:t>  </a:t>
                </a:r>
                <a:r>
                  <a:rPr b="1" lang="zh-TW" sz="2000" spc="-1" strike="noStrike">
                    <a:solidFill>
                      <a:srgbClr val="000000"/>
                    </a:solidFill>
                    <a:latin typeface="細明體"/>
                    <a:ea typeface="標楷體"/>
                  </a:rPr>
                  <a:t>4</a:t>
                </a:r>
                <a:r>
                  <a:rPr b="1" lang="zh-TW" sz="2000" spc="-1" strike="noStrike">
                    <a:solidFill>
                      <a:srgbClr val="000000"/>
                    </a:solidFill>
                    <a:latin typeface="細明體"/>
                    <a:ea typeface="標楷體"/>
                  </a:rPr>
                  <a:t>清楚呈現教材內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5441400">
                <a:off x="2359800" y="2468160"/>
                <a:ext cx="4572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　　　　傅嵉安老師的上述教學表現係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5433600">
                <a:off x="3176640" y="1655280"/>
                <a:ext cx="1878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　　　　</a:t>
                </a:r>
                <a:r>
                  <a:rPr b="0" lang="zh-TW" sz="20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愛心國中所完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5410200">
                <a:off x="925920" y="2535840"/>
                <a:ext cx="4263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8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　　　　　　　　校長　周敦頤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5416800">
                <a:off x="156600" y="2535840"/>
                <a:ext cx="4263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8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　　　　　　　　局長　吳清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5393400">
                <a:off x="-882000" y="3188160"/>
                <a:ext cx="5110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細明體"/>
                    <a:ea typeface="細明體"/>
                  </a:rPr>
                  <a:t>中華民國九十六年五月一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920" y="6051600"/>
                <a:ext cx="8610480" cy="585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2" name=""/>
            <p:cNvSpPr/>
            <p:nvPr/>
          </p:nvSpPr>
          <p:spPr>
            <a:xfrm>
              <a:off x="5030640" y="625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雅真中楷"/>
              </a:rPr>
              <a:t>宋儒朱熹「觀書有感」詩二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雅真中楷"/>
              </a:rPr>
              <a:t>半畝方塘一鑑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雅真中楷"/>
              </a:rPr>
              <a:t>天光雲影共徘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雅真中楷"/>
              </a:rPr>
              <a:t>問渠那得清如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雅真中楷"/>
              </a:rPr>
              <a:t>為有源頭活水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雅真中楷"/>
              </a:rPr>
              <a:t>昨夜江邊春水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雅真中楷"/>
              </a:rPr>
              <a:t>艨艟巨艦一毛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雅真中楷"/>
              </a:rPr>
              <a:t>向來枉費推移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雅真中楷"/>
              </a:rPr>
              <a:t>此日中流自在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觀察前會談記錄表（表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32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教學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學單元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材來源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觀察前會談時間：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一、教材內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二、教學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三、學生經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四、教學活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五、教學評量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六、觀察時所使用的發展規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七、觀察的工具和焦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八、回饋會談時間和地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師自評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（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3360" y="1700280"/>
            <a:ext cx="900432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優良    滿意   待改進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設計與教學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3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精熟任教學科領域知識…………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.. □          □          □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A-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清楚呈現教材內容…………………□          □          □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5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運用有效教學技巧………………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.. □          □          □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A-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善於發問啟發思考………………    □          □          □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應用良好溝通技巧………………    □          □          □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8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善於運用學習評量………………   □          □          □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達成預期學習目標………………    □          □          □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班級經營與輔導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-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建立有助於學習的班級常規……    □          □          □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-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營造積極的班級學習氣氛………    □          □          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  <a:ea typeface="細明體"/>
              </a:rPr>
              <a:t>意見陳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細明體"/>
                <a:ea typeface="細明體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細明體"/>
                <a:ea typeface="細明體"/>
              </a:rPr>
              <a:t>我的優點或特色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細明體"/>
                <a:ea typeface="細明體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細明體"/>
                <a:ea typeface="細明體"/>
              </a:rPr>
              <a:t>我尚可成長和改進的空間的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  <a:ea typeface="細明體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細明體"/>
                <a:ea typeface="細明體"/>
              </a:rPr>
              <a:t>我成長的構想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教師自評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（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3" name=""/>
          <p:cNvGraphicFramePr/>
          <p:nvPr/>
        </p:nvGraphicFramePr>
        <p:xfrm>
          <a:off x="0" y="3343320"/>
          <a:ext cx="200160" cy="17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343320"/>
                    <a:ext cx="20016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"/>
          <p:cNvGraphicFramePr/>
          <p:nvPr/>
        </p:nvGraphicFramePr>
        <p:xfrm>
          <a:off x="0" y="3343320"/>
          <a:ext cx="200160" cy="17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343320"/>
                    <a:ext cx="20016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"/>
          <p:cNvGraphicFramePr/>
          <p:nvPr/>
        </p:nvGraphicFramePr>
        <p:xfrm>
          <a:off x="0" y="3343320"/>
          <a:ext cx="200160" cy="171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343320"/>
                    <a:ext cx="20016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"/>
          <p:cNvGraphicFramePr/>
          <p:nvPr/>
        </p:nvGraphicFramePr>
        <p:xfrm>
          <a:off x="250920" y="1989000"/>
          <a:ext cx="8569080" cy="3240000"/>
        </p:xfrm>
        <a:graphic>
          <a:graphicData uri="http://schemas.openxmlformats.org/drawingml/2006/table">
            <a:tbl>
              <a:tblPr/>
              <a:tblGrid>
                <a:gridCol w="5271840"/>
                <a:gridCol w="576000"/>
                <a:gridCol w="1930680"/>
                <a:gridCol w="790560"/>
              </a:tblGrid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精熟任教學科領域知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正確掌握任教單元的教材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有效連結學生的新舊知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合學生生活經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70" name=""/>
          <p:cNvSpPr/>
          <p:nvPr/>
        </p:nvSpPr>
        <p:spPr>
          <a:xfrm>
            <a:off x="185760" y="1440"/>
            <a:ext cx="8782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1" name=""/>
          <p:cNvGraphicFramePr/>
          <p:nvPr/>
        </p:nvGraphicFramePr>
        <p:xfrm>
          <a:off x="185760" y="1755720"/>
          <a:ext cx="8804160" cy="5072040"/>
        </p:xfrm>
        <a:graphic>
          <a:graphicData uri="http://schemas.openxmlformats.org/drawingml/2006/table">
            <a:tbl>
              <a:tblPr/>
              <a:tblGrid>
                <a:gridCol w="5563800"/>
                <a:gridCol w="432000"/>
                <a:gridCol w="1996920"/>
                <a:gridCol w="811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清楚呈現教材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說明學習目標或學習重點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有組織條理呈現教材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正確而清楚講解重要概念、原則或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技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多舉例說明或示範以增進理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供適當的練習以熟練學習內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6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設計學習情境啟發學生思考與討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-7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適時歸納總結學習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72" name=""/>
          <p:cNvSpPr/>
          <p:nvPr/>
        </p:nvSpPr>
        <p:spPr>
          <a:xfrm>
            <a:off x="185760" y="1440"/>
            <a:ext cx="8782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3" name=""/>
          <p:cNvGraphicFramePr/>
          <p:nvPr/>
        </p:nvGraphicFramePr>
        <p:xfrm>
          <a:off x="247680" y="1871640"/>
          <a:ext cx="8402760" cy="3887640"/>
        </p:xfrm>
        <a:graphic>
          <a:graphicData uri="http://schemas.openxmlformats.org/drawingml/2006/table">
            <a:tbl>
              <a:tblPr/>
              <a:tblGrid>
                <a:gridCol w="4994280"/>
                <a:gridCol w="577800"/>
                <a:gridCol w="2054160"/>
                <a:gridCol w="776520"/>
              </a:tblGrid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運用有效教學技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引發並維持學生學習動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變化教學活動或教學策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有效掌握教學節奏和時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有效使用教學媒體或電腦網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-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根據學生個別差異調整教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74" name=""/>
          <p:cNvSpPr/>
          <p:nvPr/>
        </p:nvSpPr>
        <p:spPr>
          <a:xfrm>
            <a:off x="185760" y="1440"/>
            <a:ext cx="8782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5" name=""/>
          <p:cNvGraphicFramePr/>
          <p:nvPr/>
        </p:nvGraphicFramePr>
        <p:xfrm>
          <a:off x="322200" y="1908000"/>
          <a:ext cx="8413920" cy="4473360"/>
        </p:xfrm>
        <a:graphic>
          <a:graphicData uri="http://schemas.openxmlformats.org/drawingml/2006/table">
            <a:tbl>
              <a:tblPr/>
              <a:tblGrid>
                <a:gridCol w="5113440"/>
                <a:gridCol w="576360"/>
                <a:gridCol w="2203200"/>
                <a:gridCol w="520920"/>
              </a:tblGrid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發問啟發思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設計由淺而深的問題引導學生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思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發問後待答時間適當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（三秒以上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發問後能針對學生回答繼續延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伸問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聽答後能歸納整理學生的回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76" name=""/>
          <p:cNvSpPr/>
          <p:nvPr/>
        </p:nvSpPr>
        <p:spPr>
          <a:xfrm>
            <a:off x="185760" y="1440"/>
            <a:ext cx="8782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7" name=""/>
          <p:cNvGraphicFramePr/>
          <p:nvPr/>
        </p:nvGraphicFramePr>
        <p:xfrm>
          <a:off x="338040" y="1996920"/>
          <a:ext cx="8515440" cy="3157560"/>
        </p:xfrm>
        <a:graphic>
          <a:graphicData uri="http://schemas.openxmlformats.org/drawingml/2006/table">
            <a:tbl>
              <a:tblPr/>
              <a:tblGrid>
                <a:gridCol w="5133960"/>
                <a:gridCol w="560520"/>
                <a:gridCol w="2038320"/>
                <a:gridCol w="782640"/>
              </a:tblGrid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用良好溝通技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板書正確、工整有條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口語清晰、音量適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室走動或眼神能關照多數學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78" name=""/>
          <p:cNvSpPr/>
          <p:nvPr/>
        </p:nvSpPr>
        <p:spPr>
          <a:xfrm>
            <a:off x="185760" y="1440"/>
            <a:ext cx="8782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9900"/>
                </a:solidFill>
                <a:latin typeface="細明體"/>
              </a:rPr>
              <a:t>B  </a:t>
            </a:r>
            <a:r>
              <a:rPr b="1" lang="zh-TW" sz="3200" spc="-1" strike="noStrike">
                <a:solidFill>
                  <a:srgbClr val="ff9900"/>
                </a:solidFill>
                <a:latin typeface="細明體"/>
              </a:rPr>
              <a:t>班級經營與輔導</a:t>
            </a:r>
            <a:r>
              <a:rPr b="1" lang="zh-TW" sz="3200" spc="-1" strike="noStrike">
                <a:solidFill>
                  <a:srgbClr val="ff9900"/>
                </a:solidFill>
                <a:latin typeface="細明體"/>
                <a:ea typeface="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B-1</a:t>
            </a: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建立有助於學習的班級常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B-2</a:t>
            </a:r>
            <a:r>
              <a:rPr b="0" lang="zh-TW" sz="3200" spc="-1" strike="noStrike">
                <a:solidFill>
                  <a:srgbClr val="000000"/>
                </a:solidFill>
                <a:latin typeface="細明體"/>
              </a:rPr>
              <a:t>營造積極的班級學習氣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細明體"/>
              </a:rPr>
              <a:t>B-3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細明體"/>
              </a:rPr>
              <a:t>促進親師溝通與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細明體"/>
              </a:rPr>
              <a:t>B-4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細明體"/>
              </a:rPr>
              <a:t>落實學生輔導工作</a:t>
            </a:r>
            <a:r>
              <a:rPr b="0" lang="zh-TW" sz="2400" spc="-1" strike="noStrike">
                <a:solidFill>
                  <a:srgbClr val="000000"/>
                </a:solidFill>
                <a:latin typeface="細明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細明體"/>
              </a:rPr>
              <a:t>本系統暫不處理</a:t>
            </a:r>
            <a:r>
              <a:rPr b="0" lang="zh-TW" sz="2400" spc="-1" strike="noStrike">
                <a:solidFill>
                  <a:srgbClr val="000000"/>
                </a:solidFill>
                <a:latin typeface="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6600"/>
                </a:solidFill>
                <a:latin typeface="Times New Roman"/>
              </a:rPr>
              <a:t>系統的評鑑規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9" name=""/>
          <p:cNvGraphicFramePr/>
          <p:nvPr/>
        </p:nvGraphicFramePr>
        <p:xfrm>
          <a:off x="324000" y="1844640"/>
          <a:ext cx="8568720" cy="4392360"/>
        </p:xfrm>
        <a:graphic>
          <a:graphicData uri="http://schemas.openxmlformats.org/drawingml/2006/table">
            <a:tbl>
              <a:tblPr/>
              <a:tblGrid>
                <a:gridCol w="5136840"/>
                <a:gridCol w="526320"/>
                <a:gridCol w="2118600"/>
                <a:gridCol w="786960"/>
              </a:tblGrid>
              <a:tr h="86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運用學習評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依實際需要選擇適切而多元的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評量方式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適時檢視學生的學習情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 u="sng">
                          <a:solidFill>
                            <a:srgbClr val="000000"/>
                          </a:solidFill>
                          <a:uFillTx/>
                          <a:latin typeface="標楷體"/>
                          <a:ea typeface="標楷體"/>
                        </a:rPr>
                        <a:t>A-8-3</a:t>
                      </a:r>
                      <a:r>
                        <a:rPr b="0" lang="zh-TW" sz="2400" spc="-1" strike="noStrike" u="sng">
                          <a:solidFill>
                            <a:srgbClr val="000000"/>
                          </a:solidFill>
                          <a:uFillTx/>
                          <a:latin typeface="標楷體"/>
                          <a:ea typeface="標楷體"/>
                        </a:rPr>
                        <a:t>根據學習評量結果分析學習成</a:t>
                      </a:r>
                      <a:br>
                        <a:rPr sz="2400"/>
                      </a:br>
                      <a:r>
                        <a:rPr b="0" lang="zh-TW" sz="2400" spc="-1" strike="noStrike" u="sng">
                          <a:solidFill>
                            <a:srgbClr val="000000"/>
                          </a:solidFill>
                          <a:uFillTx/>
                          <a:latin typeface="標楷體"/>
                          <a:ea typeface="標楷體"/>
                        </a:rPr>
                        <a:t>     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 u="sng">
                          <a:solidFill>
                            <a:srgbClr val="000000"/>
                          </a:solidFill>
                          <a:uFillTx/>
                          <a:latin typeface="標楷體"/>
                          <a:ea typeface="標楷體"/>
                        </a:rPr>
                        <a:t>A-8-4</a:t>
                      </a:r>
                      <a:r>
                        <a:rPr b="0" lang="zh-TW" sz="2400" spc="-1" strike="noStrike" u="sng">
                          <a:solidFill>
                            <a:srgbClr val="000000"/>
                          </a:solidFill>
                          <a:uFillTx/>
                          <a:latin typeface="標楷體"/>
                          <a:ea typeface="標楷體"/>
                        </a:rPr>
                        <a:t>根據學生評量結果調整教學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0" name=""/>
          <p:cNvSpPr/>
          <p:nvPr/>
        </p:nvSpPr>
        <p:spPr>
          <a:xfrm>
            <a:off x="185760" y="1440"/>
            <a:ext cx="8782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1" name=""/>
          <p:cNvGraphicFramePr/>
          <p:nvPr/>
        </p:nvGraphicFramePr>
        <p:xfrm>
          <a:off x="369720" y="2011320"/>
          <a:ext cx="8406000" cy="3818160"/>
        </p:xfrm>
        <a:graphic>
          <a:graphicData uri="http://schemas.openxmlformats.org/drawingml/2006/table">
            <a:tbl>
              <a:tblPr/>
              <a:tblGrid>
                <a:gridCol w="5384880"/>
                <a:gridCol w="755640"/>
                <a:gridCol w="1497240"/>
                <a:gridCol w="768240"/>
              </a:tblGrid>
              <a:tr h="118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達成預期學習目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學習專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能理解運用所學概念與技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能理解並悅納與學習活動有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關的價值觀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>
            <a:off x="185760" y="1440"/>
            <a:ext cx="8782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3" name=""/>
          <p:cNvGraphicFramePr/>
          <p:nvPr/>
        </p:nvGraphicFramePr>
        <p:xfrm>
          <a:off x="250920" y="1916280"/>
          <a:ext cx="8593200" cy="4049640"/>
        </p:xfrm>
        <a:graphic>
          <a:graphicData uri="http://schemas.openxmlformats.org/drawingml/2006/table">
            <a:tbl>
              <a:tblPr/>
              <a:tblGrid>
                <a:gridCol w="4779720"/>
                <a:gridCol w="614520"/>
                <a:gridCol w="2405160"/>
                <a:gridCol w="79380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60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造積極的班級學習氣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布置或安排適當的學習環境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造良好和諧的師生互動關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引導學生進行同儕合作學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4" name=""/>
          <p:cNvSpPr/>
          <p:nvPr/>
        </p:nvSpPr>
        <p:spPr>
          <a:xfrm>
            <a:off x="185760" y="1440"/>
            <a:ext cx="8782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6" name=""/>
          <p:cNvGraphicFramePr/>
          <p:nvPr/>
        </p:nvGraphicFramePr>
        <p:xfrm>
          <a:off x="324000" y="1989000"/>
          <a:ext cx="8521560" cy="4446720"/>
        </p:xfrm>
        <a:graphic>
          <a:graphicData uri="http://schemas.openxmlformats.org/drawingml/2006/table">
            <a:tbl>
              <a:tblPr/>
              <a:tblGrid>
                <a:gridCol w="5365440"/>
                <a:gridCol w="847800"/>
                <a:gridCol w="1528920"/>
                <a:gridCol w="779400"/>
              </a:tblGrid>
              <a:tr h="118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與檢核重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畫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表現事實摘要敘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建立有助於學習的班級常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訂定合理的班級規範與獎懲規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維持良好教室秩序常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適時增強學生的良好表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-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妥善處理學生不當行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7" name=""/>
          <p:cNvSpPr/>
          <p:nvPr/>
        </p:nvSpPr>
        <p:spPr>
          <a:xfrm>
            <a:off x="185760" y="1440"/>
            <a:ext cx="8782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教學觀察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名稱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課程內容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觀察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學生學習意見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學生性別：男    女     日   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說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老師上課的內容，知識很豐富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上課時，老師會清楚說明上課內容重點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老師上課時，會用一些很好的方法或活動讓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學得更成功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上課時，老師很會問問題，讓我更努力學習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老師上課講的話和他的動作，我都能了解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老師會用學習單、問問題，或是其他考試的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法，來瞭解我學會了沒有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上課時，老師希望我學會的，我都能學會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-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上課時，班上同學的秩序都很好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-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我們上課的氣氛很好，同學學得很快樂。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-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1035000" y="12344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最後，我還想對老師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395280" y="1989000"/>
          <a:ext cx="8232480" cy="3868920"/>
        </p:xfrm>
        <a:graphic>
          <a:graphicData uri="http://schemas.openxmlformats.org/drawingml/2006/table">
            <a:tbl>
              <a:tblPr/>
              <a:tblGrid>
                <a:gridCol w="8232480"/>
              </a:tblGrid>
              <a:tr h="38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學生學習意見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學生性別：男    女     日   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綜合報告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5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324000" y="1585800"/>
          <a:ext cx="8483400" cy="5138640"/>
        </p:xfrm>
        <a:graphic>
          <a:graphicData uri="http://schemas.openxmlformats.org/drawingml/2006/table">
            <a:tbl>
              <a:tblPr/>
              <a:tblGrid>
                <a:gridCol w="502920"/>
                <a:gridCol w="3268800"/>
                <a:gridCol w="493920"/>
                <a:gridCol w="493560"/>
                <a:gridCol w="477720"/>
                <a:gridCol w="411120"/>
                <a:gridCol w="385920"/>
                <a:gridCol w="547560"/>
                <a:gridCol w="544680"/>
                <a:gridCol w="479520"/>
                <a:gridCol w="425160"/>
                <a:gridCol w="452520"/>
              </a:tblGrid>
              <a:tr h="730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層  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自評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室觀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意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具備能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成長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多數支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少數支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Ａ課程設計與教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3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精熟任教學科領域知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4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清楚呈現教材內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5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運用有效教學技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6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發問啟發思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7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用良好溝通技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8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善於運用學習評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-9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達成預期學習目標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5" name=""/>
          <p:cNvGraphicFramePr/>
          <p:nvPr/>
        </p:nvGraphicFramePr>
        <p:xfrm>
          <a:off x="330120" y="1773360"/>
          <a:ext cx="8499600" cy="4900320"/>
        </p:xfrm>
        <a:graphic>
          <a:graphicData uri="http://schemas.openxmlformats.org/drawingml/2006/table">
            <a:tbl>
              <a:tblPr/>
              <a:tblGrid>
                <a:gridCol w="513000"/>
                <a:gridCol w="3238200"/>
                <a:gridCol w="492120"/>
                <a:gridCol w="490680"/>
                <a:gridCol w="476280"/>
                <a:gridCol w="414360"/>
                <a:gridCol w="387360"/>
                <a:gridCol w="538200"/>
                <a:gridCol w="601560"/>
                <a:gridCol w="474840"/>
                <a:gridCol w="423720"/>
                <a:gridCol w="449280"/>
              </a:tblGrid>
              <a:tr h="819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層  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鑑指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自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室觀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意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具備能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成長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待改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多數支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少數支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3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班級經營與輔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建立有助於學習的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班級常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-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造積極的班級學</a:t>
                      </a:r>
                      <a:br>
                        <a:rPr sz="2400"/>
                      </a:b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習氣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96" name=""/>
          <p:cNvSpPr/>
          <p:nvPr/>
        </p:nvSpPr>
        <p:spPr>
          <a:xfrm>
            <a:off x="0" y="0"/>
            <a:ext cx="914400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綜合報告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5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647280" y="1602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總評意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403200" y="2081160"/>
          <a:ext cx="8291520" cy="3664080"/>
        </p:xfrm>
        <a:graphic>
          <a:graphicData uri="http://schemas.openxmlformats.org/drawingml/2006/table">
            <a:tbl>
              <a:tblPr/>
              <a:tblGrid>
                <a:gridCol w="8291520"/>
              </a:tblGrid>
              <a:tr h="366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受評鑑教師優點是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受評鑑教師待成長的地方是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具體的改進建議是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9" name=""/>
          <p:cNvSpPr/>
          <p:nvPr/>
        </p:nvSpPr>
        <p:spPr>
          <a:xfrm>
            <a:off x="0" y="0"/>
            <a:ext cx="914400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綜合報告表（表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5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壹、基本資料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任教科目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日期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貳、填寫說明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專業成長計畫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6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姓名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任教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395280" y="880920"/>
          <a:ext cx="8280000" cy="1611360"/>
        </p:xfrm>
        <a:graphic>
          <a:graphicData uri="http://schemas.openxmlformats.org/drawingml/2006/table">
            <a:tbl>
              <a:tblPr/>
              <a:tblGrid>
                <a:gridCol w="8280000"/>
              </a:tblGrid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指出教師已有的教學成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參考「綜合報告表」（表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A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）之後，註明教師已具備能力的評鑑指標代號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已具備能力的評鑑指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2" name=""/>
          <p:cNvGraphicFramePr/>
          <p:nvPr/>
        </p:nvGraphicFramePr>
        <p:xfrm>
          <a:off x="395280" y="2496960"/>
          <a:ext cx="8292960" cy="3610080"/>
        </p:xfrm>
        <a:graphic>
          <a:graphicData uri="http://schemas.openxmlformats.org/drawingml/2006/table">
            <a:tbl>
              <a:tblPr/>
              <a:tblGrid>
                <a:gridCol w="901800"/>
                <a:gridCol w="4375080"/>
                <a:gridCol w="1508040"/>
                <a:gridCol w="1508040"/>
              </a:tblGrid>
              <a:tr h="4824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指出教師需要成長的評鑑指標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一個評鑑指標請用一張表格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需要成長的評鑑指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發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層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特定的成長活動</a:t>
                      </a:r>
                      <a:br>
                        <a:rPr sz="2400"/>
                      </a:b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列舉可以採行的活動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作人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完成日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3" name=""/>
          <p:cNvSpPr/>
          <p:nvPr/>
        </p:nvSpPr>
        <p:spPr>
          <a:xfrm>
            <a:off x="349200" y="6126840"/>
            <a:ext cx="8425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師簽名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輔導者簽名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日期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539640" y="0"/>
            <a:ext cx="8026560" cy="6516720"/>
            <a:chOff x="539640" y="0"/>
            <a:chExt cx="8026560" cy="6516720"/>
          </a:xfrm>
        </p:grpSpPr>
        <p:sp>
          <p:nvSpPr>
            <p:cNvPr id="103" name=""/>
            <p:cNvSpPr/>
            <p:nvPr/>
          </p:nvSpPr>
          <p:spPr>
            <a:xfrm>
              <a:off x="2265120" y="1136520"/>
              <a:ext cx="151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教學觀察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17720" y="581040"/>
              <a:ext cx="152100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綜合報告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51240" y="3227400"/>
              <a:ext cx="1520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教師自評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51240" y="3807000"/>
              <a:ext cx="1520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教學觀察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51240" y="4386240"/>
              <a:ext cx="152064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學生學習意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38280" y="4964040"/>
              <a:ext cx="15195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綜合報告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50000" y="746280"/>
              <a:ext cx="15206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專業成長計畫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84880" y="2400480"/>
              <a:ext cx="1616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1.</a:t>
              </a: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實施成長計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84880" y="2648160"/>
              <a:ext cx="16160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2.</a:t>
              </a: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經驗分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65120" y="604800"/>
              <a:ext cx="15195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教師自評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8560" y="249120"/>
              <a:ext cx="2108160" cy="249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模式一：自評</a:t>
              </a: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觀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24000" y="2897280"/>
              <a:ext cx="2291040" cy="2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模式二：自評</a:t>
              </a: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觀察</a:t>
              </a: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學生反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19600" y="498600"/>
              <a:ext cx="1917720" cy="2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成長計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65640" y="2070000"/>
              <a:ext cx="2094120" cy="2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改進之努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38240" y="166680"/>
              <a:ext cx="3368880" cy="16542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4560" y="414360"/>
              <a:ext cx="2063520" cy="82692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57640" y="1986120"/>
              <a:ext cx="2283120" cy="9936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5120" y="2732040"/>
              <a:ext cx="3584880" cy="289404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97040" y="6269040"/>
              <a:ext cx="49784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</a:rPr>
                <a:t>教學專業發展評鑑系統之運作過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9640" y="0"/>
              <a:ext cx="1303200" cy="744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預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（信任、訓練、支持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3040" y="801720"/>
              <a:ext cx="15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99120" y="916200"/>
              <a:ext cx="54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79880" y="1325520"/>
              <a:ext cx="0" cy="15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43760" y="124308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3040" y="9540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72040" y="1325520"/>
              <a:ext cx="0" cy="41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114280" y="1738440"/>
              <a:ext cx="206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24720" y="911160"/>
              <a:ext cx="93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39120" y="911160"/>
              <a:ext cx="0" cy="157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797240" y="2482920"/>
              <a:ext cx="66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22760" y="1325520"/>
              <a:ext cx="5428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95880" y="573120"/>
              <a:ext cx="65232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32560" y="1076400"/>
              <a:ext cx="0" cy="405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50000" y="1076400"/>
              <a:ext cx="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42080" y="273204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43840" y="2935440"/>
              <a:ext cx="0" cy="23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43040" y="5754600"/>
              <a:ext cx="641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743040" y="911160"/>
              <a:ext cx="0" cy="484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02400" y="5295960"/>
              <a:ext cx="1195200" cy="247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ff0000"/>
                  </a:solidFill>
                  <a:latin typeface="Times New Roman"/>
                </a:rPr>
                <a:t>成就證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143840" y="5525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762080" y="5129280"/>
              <a:ext cx="87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806200" y="5211720"/>
              <a:ext cx="5446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806560" y="3476160"/>
              <a:ext cx="0" cy="173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06560" y="3476520"/>
              <a:ext cx="54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06560" y="4002120"/>
              <a:ext cx="54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06560" y="4716360"/>
              <a:ext cx="54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2560" y="5129280"/>
              <a:ext cx="0" cy="33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481120" y="5461200"/>
              <a:ext cx="315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495520" y="4386240"/>
              <a:ext cx="0" cy="107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3040" y="4383000"/>
              <a:ext cx="206352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38760" y="4716360"/>
              <a:ext cx="10857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3333cc"/>
                  </a:solidFill>
                  <a:latin typeface="Times New Roman"/>
                </a:rPr>
                <a:t>需要成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1880" y="5213520"/>
              <a:ext cx="86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3333cc"/>
                  </a:solidFill>
                  <a:latin typeface="Times New Roman"/>
                </a:rPr>
                <a:t>不確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37000" y="2070000"/>
              <a:ext cx="5428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2560" y="5129280"/>
              <a:ext cx="152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76880" y="4881600"/>
              <a:ext cx="8668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3333cc"/>
                  </a:solidFill>
                  <a:latin typeface="Times New Roman"/>
                </a:rPr>
                <a:t>優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13520" y="1243080"/>
              <a:ext cx="6526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在職教育活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3040" y="5791320"/>
              <a:ext cx="11952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基本程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06560" y="5791320"/>
              <a:ext cx="1195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再循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7880" y="5791320"/>
              <a:ext cx="1197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在職教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5760" y="5791320"/>
              <a:ext cx="16304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50680" y="6040440"/>
              <a:ext cx="97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16000" y="6040440"/>
              <a:ext cx="97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99120" y="6040440"/>
              <a:ext cx="97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114640" y="911160"/>
              <a:ext cx="0" cy="82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97600" y="2732040"/>
              <a:ext cx="6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8450280" y="2482920"/>
              <a:ext cx="0" cy="24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42080" y="2516400"/>
              <a:ext cx="32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51800" y="5983200"/>
              <a:ext cx="152280" cy="152640"/>
            </a:xfrm>
            <a:prstGeom prst="flowChartConnector">
              <a:avLst/>
            </a:prstGeom>
            <a:noFill/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觀察前會談記錄表（表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32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教學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學單元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材來源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觀察前會談時間：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一、教材內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二、教學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三、學生經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四、教學活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五、教學評量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六、觀察時所使用的評鑑規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七、觀察的工具和焦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八、回饋會談時間和地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觀察前會談記錄表（表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學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7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第六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年級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七年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教學單元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愛蓮說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材來源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課本及學習單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教學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傅嵉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觀察者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李俊逹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前會談時間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96/4/16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上午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1844640"/>
            <a:ext cx="86421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一、教材內容：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本次課程為「愛蓮說」，主要內容在於透過植物外形及其生長特質，引申至該項植物的抽象意涵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00:47:29Z</dcterms:created>
  <dc:creator>SALER</dc:creator>
  <dc:description/>
  <dc:language>en-US</dc:language>
  <cp:lastModifiedBy>user</cp:lastModifiedBy>
  <dcterms:modified xsi:type="dcterms:W3CDTF">2010-02-25T10:52:51Z</dcterms:modified>
  <cp:revision>24</cp:revision>
  <dc:subject/>
  <dc:title>投影片 1</dc:title>
</cp:coreProperties>
</file>