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84804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1548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6120" y="4711320"/>
            <a:ext cx="49784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AA9F-9FBF-489F-958E-8A222A809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7C78-73E4-487B-9429-8DE08AA4E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98AF-37C8-4FC3-BB8D-7D5060B98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F3D6-21A5-4973-AF5F-F39818C64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D677-AA0D-448C-BE57-6DFEA8A83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DE7F-DC3A-485A-AA47-02690DC04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ECE7-0060-4E5F-B817-1E2344A45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FA82-1D73-4468-89A6-82DEEE8F9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FF07-4521-42F8-B9B0-82CB7E1CF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8D5B-79B2-491D-ABDA-5F8C8A2FF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8F63-D299-45BC-B67E-43608D23F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8EC9-4B3A-4406-AB0D-E360EBA34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C3C4-3614-44BD-B818-A9F4A9795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A33C-821D-40F2-AF8E-902875E62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6688-5618-4F68-8626-E761C0E69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6AFE-E891-4E37-8366-DF435541E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2587-F794-44FD-962A-A33E3B473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478A-17A6-4E70-88DD-09C6BC3AE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A0D5-AD30-485F-85D1-FCC216127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23A7D-3252-402D-830D-AD5803FEB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02029-7541-4F07-8D3B-CD50BC73A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9C5F5-C386-440E-84AE-16702963D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3FFFE-E5F7-447E-9A8D-18F5391098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A70DF-ACBF-499F-8B07-6806E3ECB8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EB796-462A-4031-8161-FB7ADA842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005E5-89DB-42CB-B7EA-DEA6FF120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C12C4-CC2B-4929-88A7-0C5AF67DA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F6063-5C6C-400F-B557-2DFAEEE73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28BF2-3D94-4B4C-B8B6-85B78780D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49515-8848-42D6-972C-8264BCE0E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63DE9-5BDD-4CB0-9CA3-A9B274D88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sub11_0011ha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3906-1F95-496A-A3AC-555465D8A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7" descr=""/>
          <p:cNvPicPr/>
          <p:nvPr/>
        </p:nvPicPr>
        <p:blipFill>
          <a:blip r:embed="rId4"/>
          <a:srcRect l="8747" t="28335" r="71254" b="45007"/>
          <a:stretch/>
        </p:blipFill>
        <p:spPr>
          <a:xfrm>
            <a:off x="533520" y="6248520"/>
            <a:ext cx="609480" cy="522000"/>
          </a:xfrm>
          <a:prstGeom prst="rect">
            <a:avLst/>
          </a:prstGeom>
          <a:ln w="0">
            <a:noFill/>
          </a:ln>
        </p:spPr>
      </p:pic>
      <p:sp>
        <p:nvSpPr>
          <p:cNvPr id="6" name="Text Box 18"/>
          <p:cNvSpPr/>
          <p:nvPr/>
        </p:nvSpPr>
        <p:spPr>
          <a:xfrm>
            <a:off x="1143000" y="6248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cc00"/>
                </a:solidFill>
                <a:latin typeface="Times New Roman"/>
                <a:ea typeface="標楷體"/>
              </a:rPr>
              <a:t>教育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9"/>
          <p:cNvSpPr/>
          <p:nvPr/>
        </p:nvSpPr>
        <p:spPr>
          <a:xfrm>
            <a:off x="380880" y="6172200"/>
            <a:ext cx="830592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1856880"/>
            <a:ext cx="7238880" cy="11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8000"/>
                </a:solidFill>
                <a:latin typeface="Times New Roman"/>
              </a:rPr>
              <a:t>教師專業發展評鑑規準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764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cc"/>
                </a:solidFill>
                <a:latin typeface="標楷體"/>
              </a:rPr>
              <a:t>教育部</a:t>
            </a:r>
            <a:endParaRPr b="1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國外的經驗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-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規準研發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4360" y="1700280"/>
          <a:ext cx="7711920" cy="4294080"/>
        </p:xfrm>
        <a:graphic>
          <a:graphicData uri="http://schemas.openxmlformats.org/drawingml/2006/table">
            <a:tbl>
              <a:tblPr/>
              <a:tblGrid>
                <a:gridCol w="717480"/>
                <a:gridCol w="866520"/>
                <a:gridCol w="5588280"/>
                <a:gridCol w="539640"/>
              </a:tblGrid>
              <a:tr h="404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比較項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國別數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評鑑內容建構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3300"/>
                          </a:solidFill>
                          <a:latin typeface="標楷體"/>
                          <a:ea typeface="Times New Roman"/>
                        </a:rPr>
                        <a:t>政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日本、法國、澳大利亞、英國、德國、奧地利、美國馬里蘭州、美國德州、俄羅斯、加拿大安大略、美國加州舊金山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標楷體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學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俄羅斯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3300"/>
                          </a:solidFill>
                          <a:latin typeface="標楷體"/>
                          <a:ea typeface="Times New Roman"/>
                        </a:rPr>
                        <a:t>學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加拿大加西、德國、比利時、奧地利、美國馬里蘭州、美國德州、俄羅斯、韓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標楷體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奧地利、俄羅斯、美國加州舊金山、比利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其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奧地利、美國加州洛杉磯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標楷體"/>
              </a:rPr>
              <a:t>國內方式</a:t>
            </a:r>
            <a:r>
              <a:rPr b="0" lang="en-US" sz="4800" spc="-1" strike="noStrike">
                <a:solidFill>
                  <a:srgbClr val="008000"/>
                </a:solidFill>
                <a:latin typeface="標楷體"/>
              </a:rPr>
              <a:t>--</a:t>
            </a:r>
            <a:r>
              <a:rPr b="0" lang="zh-TW" sz="4800" spc="-1" strike="noStrike">
                <a:solidFill>
                  <a:srgbClr val="008000"/>
                </a:solidFill>
                <a:latin typeface="標楷體"/>
              </a:rPr>
              <a:t>規準研發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744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由參與試辦的教師針對</a:t>
            </a:r>
            <a:r>
              <a:rPr b="0" lang="zh-TW" sz="3200" spc="-1" strike="noStrike">
                <a:solidFill>
                  <a:srgbClr val="ff3300"/>
                </a:solidFill>
                <a:latin typeface="Times New Roman"/>
              </a:rPr>
              <a:t>每個指標作深入的探討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，最後依據實際的教學情境，作成完整的詮釋或操作型定義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可以</a:t>
            </a:r>
            <a:r>
              <a:rPr b="0" lang="zh-TW" sz="3200" spc="-1" strike="noStrike">
                <a:solidFill>
                  <a:srgbClr val="ff3300"/>
                </a:solidFill>
                <a:latin typeface="Times New Roman"/>
              </a:rPr>
              <a:t>分年分層面分領域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逐步發展指標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透過研發指標過程中的對話，讓試辦教師對指標的意涵有</a:t>
            </a:r>
            <a:r>
              <a:rPr b="0" lang="zh-TW" sz="3200" spc="-1" strike="noStrike">
                <a:solidFill>
                  <a:srgbClr val="ff3300"/>
                </a:solidFill>
                <a:latin typeface="Times New Roman"/>
              </a:rPr>
              <a:t>具體的圖像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規準的執行重點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4280" y="1844640"/>
            <a:ext cx="707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</a:rPr>
              <a:t>依據學校發展出來的規準與表格，嘗試進行評鑑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</a:rPr>
              <a:t>目前第一次試辦之學校，可以依學校實際狀況，選擇課程設計與教學或班級經營與輔導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其中一個層面或多個層面的指標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</a:rPr>
              <a:t>，進行評鑑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</a:rPr>
              <a:t>隨著經驗的累積，各校可以逐年增加評鑑的層面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國外的經驗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-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表格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55640" y="1844640"/>
          <a:ext cx="7705800" cy="4111560"/>
        </p:xfrm>
        <a:graphic>
          <a:graphicData uri="http://schemas.openxmlformats.org/drawingml/2006/table">
            <a:tbl>
              <a:tblPr/>
              <a:tblGrid>
                <a:gridCol w="587520"/>
                <a:gridCol w="514080"/>
                <a:gridCol w="3686400"/>
                <a:gridCol w="369720"/>
                <a:gridCol w="2548080"/>
              </a:tblGrid>
              <a:tr h="1220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比較項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國別數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說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評鑑格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日本、韓國、澳大利亞、美國德州、加拿大（安大略）、美國馬里蘭州、美國加州洛杉磯、英國、比利時、美國加州舊金山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日本的評鑑格式是在人事考核的評鑑格式中實施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韓國：韓國實質上仍屬人事考核，因由各校校長自訂，無法取得評鑑格式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加拿大（加西）、俄羅斯、法國、德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國內方式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--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表格研發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840" y="1981080"/>
            <a:ext cx="664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可以採用以設計好的表格，再參酌學校規準的需要，</a:t>
            </a:r>
            <a:r>
              <a:rPr b="0" lang="zh-TW" sz="3200" spc="-1" strike="noStrike">
                <a:solidFill>
                  <a:srgbClr val="ff3300"/>
                </a:solidFill>
                <a:latin typeface="Times New Roman"/>
              </a:rPr>
              <a:t>作局部的修正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可以</a:t>
            </a:r>
            <a:r>
              <a:rPr b="0" lang="zh-TW" sz="3200" spc="-1" strike="noStrike">
                <a:solidFill>
                  <a:srgbClr val="ff3300"/>
                </a:solidFill>
                <a:latin typeface="Times New Roman"/>
              </a:rPr>
              <a:t>依學校需求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，發展出屬於學校個別使用的表格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國外評鑑實施方式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42920" y="1916280"/>
          <a:ext cx="7313760" cy="4114800"/>
        </p:xfrm>
        <a:graphic>
          <a:graphicData uri="http://schemas.openxmlformats.org/drawingml/2006/table">
            <a:tbl>
              <a:tblPr/>
              <a:tblGrid>
                <a:gridCol w="5289480"/>
                <a:gridCol w="20242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方式項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國別地區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觀察後討論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學生學習成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製作教學檔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編寫教學計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定期教學視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自我檢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教學觀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不定期教學視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個人晤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900000" y="620640"/>
          <a:ext cx="7669440" cy="5197680"/>
        </p:xfrm>
        <a:graphic>
          <a:graphicData uri="http://schemas.openxmlformats.org/drawingml/2006/table">
            <a:tbl>
              <a:tblPr/>
              <a:tblGrid>
                <a:gridCol w="7093080"/>
                <a:gridCol w="576360"/>
              </a:tblGrid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觀察前討論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學生作業檢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教育專業履歷介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教育專業測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教師同儕檢視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特殊貢獻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學生學習進度報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觀察課外活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專業成長計畫、與學生、家長、同儕的溝通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教師學科知識、教學表現、專業行為及對學校社區貢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不計名家長問卷單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不計名學生問卷單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國內評鑑實施方式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34920" y="1981080"/>
            <a:ext cx="662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國內目前採用的方式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教學觀察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檔案評量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標楷體"/>
              </a:rPr>
              <a:t>執行重點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7500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標楷體"/>
              </a:rPr>
              <a:t>如採用教學觀察作為評鑑方式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標楷體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標楷體"/>
              </a:rPr>
              <a:t>1.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</a:rPr>
              <a:t>協助安排共同空堂時間，以利進行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觀察前及觀察後的對話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標楷體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標楷體"/>
              </a:rPr>
              <a:t>2.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</a:rPr>
              <a:t>校長召開教學觀察會議針對觀察次數、運作流程及觀察倫理等建立實施規範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標楷體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標楷體"/>
              </a:rPr>
              <a:t>3.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</a:rPr>
              <a:t>各校可彈性運用錄影作為教學觀察的輔助工具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標楷體"/>
              </a:rPr>
              <a:t>如採用檔案作為評鑑方式時，可考慮使用中教司研發的</a:t>
            </a:r>
            <a:r>
              <a:rPr b="0" lang="en-US" sz="2800" spc="-1" strike="noStrike">
                <a:solidFill>
                  <a:srgbClr val="3333cc"/>
                </a:solidFill>
                <a:latin typeface="標楷體"/>
              </a:rPr>
              <a:t>wideKM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</a:rPr>
              <a:t>電子檔案系統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ttp://elearning.ice.ntnu.edu.tw/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教師專業發展評鑑的參考規準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身體檢查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19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提供一個檢視、對話、反思、回饋的系統讓教師可以了解自己專業上的優點和缺失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55" name="Diagram 4"/>
          <p:cNvGrpSpPr/>
          <p:nvPr/>
        </p:nvGrpSpPr>
        <p:grpSpPr>
          <a:xfrm>
            <a:off x="4405320" y="1915920"/>
            <a:ext cx="4290120" cy="4257720"/>
            <a:chOff x="4405320" y="1915920"/>
            <a:chExt cx="4290120" cy="4257720"/>
          </a:xfrm>
        </p:grpSpPr>
        <p:sp>
          <p:nvSpPr>
            <p:cNvPr id="56" name="_s2052"/>
            <p:cNvSpPr/>
            <p:nvPr/>
          </p:nvSpPr>
          <p:spPr>
            <a:xfrm>
              <a:off x="5674680" y="1937880"/>
              <a:ext cx="1753200" cy="1777320"/>
            </a:xfrm>
            <a:custGeom>
              <a:avLst/>
              <a:gdLst>
                <a:gd name="textAreaLeft" fmla="*/ 0 w 1753200"/>
                <a:gd name="textAreaRight" fmla="*/ 1753560 w 1753200"/>
                <a:gd name="textAreaTop" fmla="*/ 0 h 1777320"/>
                <a:gd name="textAreaBottom" fmla="*/ 1777680 h 177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aeebeb"/>
            </a:solidFill>
            <a:ln w="9360">
              <a:solidFill>
                <a:srgbClr val="145151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2053"/>
            <p:cNvSpPr/>
            <p:nvPr/>
          </p:nvSpPr>
          <p:spPr>
            <a:xfrm rot="3060000">
              <a:off x="6532200" y="2373840"/>
              <a:ext cx="1777320" cy="1753920"/>
            </a:xfrm>
            <a:custGeom>
              <a:avLst/>
              <a:gdLst>
                <a:gd name="textAreaLeft" fmla="*/ 0 w 1777320"/>
                <a:gd name="textAreaRight" fmla="*/ 1777680 w 1777320"/>
                <a:gd name="textAreaTop" fmla="*/ 0 h 1753920"/>
                <a:gd name="textAreaBottom" fmla="*/ 1754280 h 175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71dcdc"/>
            </a:solidFill>
            <a:ln w="9360">
              <a:solidFill>
                <a:srgbClr val="145151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2054"/>
            <p:cNvSpPr/>
            <p:nvPr/>
          </p:nvSpPr>
          <p:spPr>
            <a:xfrm rot="6180000">
              <a:off x="6748920" y="3330360"/>
              <a:ext cx="1777320" cy="1753200"/>
            </a:xfrm>
            <a:custGeom>
              <a:avLst/>
              <a:gdLst>
                <a:gd name="textAreaLeft" fmla="*/ 0 w 1777320"/>
                <a:gd name="textAreaRight" fmla="*/ 1777680 w 1777320"/>
                <a:gd name="textAreaTop" fmla="*/ 0 h 1753200"/>
                <a:gd name="textAreaBottom" fmla="*/ 1753560 h 175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145151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2055"/>
            <p:cNvSpPr/>
            <p:nvPr/>
          </p:nvSpPr>
          <p:spPr>
            <a:xfrm rot="9240000">
              <a:off x="6156360" y="4084200"/>
              <a:ext cx="1753200" cy="1777320"/>
            </a:xfrm>
            <a:custGeom>
              <a:avLst/>
              <a:gdLst>
                <a:gd name="textAreaLeft" fmla="*/ 0 w 1753200"/>
                <a:gd name="textAreaRight" fmla="*/ 1753560 w 1753200"/>
                <a:gd name="textAreaTop" fmla="*/ 0 h 1777320"/>
                <a:gd name="textAreaBottom" fmla="*/ 1777680 h 177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2eb8b8"/>
            </a:solidFill>
            <a:ln w="9360">
              <a:solidFill>
                <a:srgbClr val="145151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2056"/>
            <p:cNvSpPr/>
            <p:nvPr/>
          </p:nvSpPr>
          <p:spPr>
            <a:xfrm rot="12360000">
              <a:off x="5190120" y="4082040"/>
              <a:ext cx="1753200" cy="1777680"/>
            </a:xfrm>
            <a:custGeom>
              <a:avLst/>
              <a:gdLst>
                <a:gd name="textAreaLeft" fmla="*/ 0 w 1753200"/>
                <a:gd name="textAreaRight" fmla="*/ 1753560 w 1753200"/>
                <a:gd name="textAreaTop" fmla="*/ 0 h 1777680"/>
                <a:gd name="textAreaBottom" fmla="*/ 1778040 h 17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28a3a3"/>
            </a:solidFill>
            <a:ln w="9360">
              <a:solidFill>
                <a:srgbClr val="145151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2057"/>
            <p:cNvSpPr/>
            <p:nvPr/>
          </p:nvSpPr>
          <p:spPr>
            <a:xfrm rot="15420000">
              <a:off x="4578120" y="3327840"/>
              <a:ext cx="1777680" cy="1753200"/>
            </a:xfrm>
            <a:custGeom>
              <a:avLst/>
              <a:gdLst>
                <a:gd name="textAreaLeft" fmla="*/ 0 w 1777680"/>
                <a:gd name="textAreaRight" fmla="*/ 1778040 w 1777680"/>
                <a:gd name="textAreaTop" fmla="*/ 0 h 1753200"/>
                <a:gd name="textAreaBottom" fmla="*/ 1753560 h 175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269999"/>
            </a:solidFill>
            <a:ln w="9360">
              <a:solidFill>
                <a:srgbClr val="145151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2058"/>
            <p:cNvSpPr/>
            <p:nvPr/>
          </p:nvSpPr>
          <p:spPr>
            <a:xfrm rot="18540000">
              <a:off x="4795560" y="2373480"/>
              <a:ext cx="1777320" cy="1753920"/>
            </a:xfrm>
            <a:custGeom>
              <a:avLst/>
              <a:gdLst>
                <a:gd name="textAreaLeft" fmla="*/ 0 w 1777320"/>
                <a:gd name="textAreaRight" fmla="*/ 1777680 w 1777320"/>
                <a:gd name="textAreaTop" fmla="*/ 0 h 1753920"/>
                <a:gd name="textAreaBottom" fmla="*/ 1754280 h 175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238e8e"/>
            </a:solidFill>
            <a:ln w="9360">
              <a:solidFill>
                <a:srgbClr val="145151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2059"/>
            <p:cNvSpPr/>
            <p:nvPr/>
          </p:nvSpPr>
          <p:spPr>
            <a:xfrm>
              <a:off x="7007400" y="1915920"/>
              <a:ext cx="685800" cy="6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透過自評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進行自我檢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2060"/>
            <p:cNvSpPr/>
            <p:nvPr/>
          </p:nvSpPr>
          <p:spPr>
            <a:xfrm>
              <a:off x="8009640" y="3186000"/>
              <a:ext cx="685800" cy="6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進行他評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_s2061"/>
            <p:cNvSpPr/>
            <p:nvPr/>
          </p:nvSpPr>
          <p:spPr>
            <a:xfrm>
              <a:off x="5405400" y="1915920"/>
              <a:ext cx="685800" cy="6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自我覺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2062"/>
            <p:cNvSpPr/>
            <p:nvPr/>
          </p:nvSpPr>
          <p:spPr>
            <a:xfrm>
              <a:off x="7653600" y="4771800"/>
              <a:ext cx="686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透過教學觀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檢視教學歷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2063"/>
            <p:cNvSpPr/>
            <p:nvPr/>
          </p:nvSpPr>
          <p:spPr>
            <a:xfrm>
              <a:off x="6209280" y="5477760"/>
              <a:ext cx="686160" cy="6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透過檔案評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反思教學呈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2064"/>
            <p:cNvSpPr/>
            <p:nvPr/>
          </p:nvSpPr>
          <p:spPr>
            <a:xfrm>
              <a:off x="4763160" y="4773600"/>
              <a:ext cx="685800" cy="6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整體評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_s2065"/>
            <p:cNvSpPr/>
            <p:nvPr/>
          </p:nvSpPr>
          <p:spPr>
            <a:xfrm>
              <a:off x="4405320" y="3188160"/>
              <a:ext cx="686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自我成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目次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國內外中小學教師專業評鑑規準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二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教育部規劃之參考評鑑規準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3300"/>
                </a:solidFill>
                <a:latin typeface="Times New Roman"/>
              </a:rPr>
              <a:t>一、國內外中小學教師專業評鑑規準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349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教師專業發展評鑑參考規準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指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標楷體"/>
              </a:rPr>
              <a:t>教師教學專業評鑑之標準、</a:t>
            </a:r>
            <a:br>
              <a:rPr sz="3600"/>
            </a:br>
            <a:r>
              <a:rPr b="0" lang="zh-TW" sz="3600" spc="-1" strike="noStrike">
                <a:solidFill>
                  <a:srgbClr val="ff0000"/>
                </a:solidFill>
                <a:latin typeface="標楷體"/>
              </a:rPr>
              <a:t>  規準、指標</a:t>
            </a:r>
            <a:r>
              <a:rPr b="0" lang="zh-TW" sz="4000" spc="-1" strike="noStrike">
                <a:solidFill>
                  <a:srgbClr val="ff0000"/>
                </a:solidFill>
                <a:latin typeface="Times New Roman"/>
              </a:rPr>
              <a:t> （續）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6000" y="1844280"/>
            <a:ext cx="73389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二、台灣：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（一）國民中小學教師教學專業能力指標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（潘慧玲等）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（二）台北縣教學專業評鑑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（三）發展性教學輔導系統（張德銳等）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（四）中小學教師教學評鑑工具（張新仁等）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652140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標楷體"/>
              </a:rPr>
              <a:t>教師教學專業評鑑之標準、</a:t>
            </a:r>
            <a:br>
              <a:rPr sz="3600"/>
            </a:br>
            <a:r>
              <a:rPr b="0" lang="zh-TW" sz="3600" spc="-1" strike="noStrike">
                <a:solidFill>
                  <a:srgbClr val="ff0000"/>
                </a:solidFill>
                <a:latin typeface="標楷體"/>
              </a:rPr>
              <a:t>  規準、指標</a:t>
            </a:r>
            <a:r>
              <a:rPr b="0" lang="zh-TW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TW" sz="3600" spc="-1" strike="noStrike">
                <a:solidFill>
                  <a:srgbClr val="ff0000"/>
                </a:solidFill>
                <a:latin typeface="Times New Roman"/>
              </a:rPr>
              <a:t>（續）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6600ff"/>
                </a:solidFill>
                <a:latin typeface="標楷體"/>
              </a:rPr>
              <a:t>台灣：</a:t>
            </a: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6600ff"/>
                </a:solidFill>
                <a:latin typeface="標楷體"/>
              </a:rPr>
              <a:t>＊國民中小學教師教學專業能力指標 </a:t>
            </a: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台灣師範大學教育研究中心接受教育部委託執行之專案（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91.7-93.6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提供新世紀專業教師之指引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652140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68360" y="4581360"/>
            <a:ext cx="1371600" cy="127008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管理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3141720"/>
            <a:ext cx="1371600" cy="127008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教學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2492280"/>
            <a:ext cx="1371600" cy="127008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規劃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59280" y="2997360"/>
            <a:ext cx="1371600" cy="126972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專業發展能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4437000"/>
            <a:ext cx="1371600" cy="127008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評鑑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3640" y="3500280"/>
            <a:ext cx="1987560" cy="18338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教師教學專業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Times New Roman"/>
              </a:rPr>
              <a:t>五大層面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341360"/>
            <a:ext cx="8058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包括教師的規劃能力、教學能力、管理能力、評鑑能力及專業發展能力等</a:t>
            </a:r>
            <a:r>
              <a:rPr b="1" lang="zh-TW" sz="2800" spc="-1" strike="noStrike">
                <a:solidFill>
                  <a:srgbClr val="6600ff"/>
                </a:solidFill>
                <a:latin typeface="Times New Roman"/>
              </a:rPr>
              <a:t>五大層面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。共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35</a:t>
            </a:r>
            <a:r>
              <a:rPr b="1" lang="zh-TW" sz="2800" spc="-1" strike="noStrike">
                <a:solidFill>
                  <a:srgbClr val="6600ff"/>
                </a:solidFill>
                <a:latin typeface="Times New Roman"/>
              </a:rPr>
              <a:t>項指標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652140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Times New Roman"/>
              </a:rPr>
              <a:t>表現水準四等級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00ff"/>
                </a:solidFill>
                <a:latin typeface="Times New Roman"/>
              </a:rPr>
              <a:t>優異：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能深入瞭解指標之意義，掌握涵蓋面向，並能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15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主動積極表現出來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良好：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能大致瞭解指標之意義，清楚涵蓋面向，且願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15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意表現出來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尚可：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能粗略瞭解指標之意義，但對涵蓋面向不完全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15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清楚，只能被動有限的表現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待改進：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對指標之意義和涵蓋面向瞭解不足，且未能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15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表現出來 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652140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標楷體"/>
              </a:rPr>
              <a:t>教師教學專業評鑑之標準、</a:t>
            </a:r>
            <a:br>
              <a:rPr sz="3600"/>
            </a:br>
            <a:r>
              <a:rPr b="0" lang="zh-TW" sz="3600" spc="-1" strike="noStrike">
                <a:solidFill>
                  <a:srgbClr val="ff0000"/>
                </a:solidFill>
                <a:latin typeface="標楷體"/>
              </a:rPr>
              <a:t>  規準、指標</a:t>
            </a:r>
            <a:r>
              <a:rPr b="0" lang="zh-TW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TW" sz="3600" spc="-1" strike="noStrike">
                <a:solidFill>
                  <a:srgbClr val="ff0000"/>
                </a:solidFill>
                <a:latin typeface="Times New Roman"/>
              </a:rPr>
              <a:t>（續）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6600ff"/>
                </a:solidFill>
                <a:latin typeface="標楷體"/>
              </a:rPr>
              <a:t>台灣：</a:t>
            </a: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6600ff"/>
                </a:solidFill>
                <a:latin typeface="標楷體"/>
              </a:rPr>
              <a:t>＊台北縣教學專業評鑑 </a:t>
            </a: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試辦時間：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94.2-95.7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以「國民中小學教師教學專業能力指標」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為基礎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調整為「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規劃、教學與管理、專業發展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」三向度，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5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條指標。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652140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標楷體"/>
              </a:rPr>
              <a:t>教師教學專業評鑑之標準、</a:t>
            </a:r>
            <a:br>
              <a:rPr sz="3600"/>
            </a:br>
            <a:r>
              <a:rPr b="0" lang="zh-TW" sz="3600" spc="-1" strike="noStrike">
                <a:solidFill>
                  <a:srgbClr val="ff0000"/>
                </a:solidFill>
                <a:latin typeface="標楷體"/>
              </a:rPr>
              <a:t>  規準、指標</a:t>
            </a:r>
            <a:r>
              <a:rPr b="0" lang="zh-TW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TW" sz="3600" spc="-1" strike="noStrike">
                <a:solidFill>
                  <a:srgbClr val="ff0000"/>
                </a:solidFill>
                <a:latin typeface="Times New Roman"/>
              </a:rPr>
              <a:t>（續）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6600ff"/>
                </a:solidFill>
                <a:latin typeface="標楷體"/>
              </a:rPr>
              <a:t>台灣：</a:t>
            </a:r>
            <a:endParaRPr b="1" lang="en-US" sz="3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6600ff"/>
                </a:solidFill>
                <a:latin typeface="標楷體"/>
              </a:rPr>
              <a:t>＊發展性教學輔導系統 </a:t>
            </a:r>
            <a:endParaRPr b="1" lang="en-US" sz="3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-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台北市立教育大學國民教育研究所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-5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個教學領域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52140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700" spc="-1" strike="noStrike">
                <a:solidFill>
                  <a:srgbClr val="ff0000"/>
                </a:solidFill>
                <a:latin typeface="標楷體"/>
              </a:rPr>
              <a:t>發展性教學輔導系統</a:t>
            </a:r>
            <a:endParaRPr b="1" lang="en-US" sz="47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9297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9900"/>
                </a:solidFill>
                <a:latin typeface="標楷體"/>
              </a:rPr>
              <a:t>教學清晰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A1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掌握所授教材的概念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A1.1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能充分了解所授教材的概念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A1.2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能將概念轉換成教學活動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A2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清楚地教導概念及技能，提供完整的知識架構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A2.1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能有組織，有系統，由簡到繁地呈現教材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A2.2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能將過去所習得的知識與現在所教導的概念相連結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A2.3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能提供多種例證或範例，引導學生觸類旁通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A2.4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設計有意義的練習或作業，指導學生確實完成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A2.5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於每節課結束前總結或摘要學習要點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652140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700" spc="-1" strike="noStrike">
                <a:solidFill>
                  <a:srgbClr val="ff0000"/>
                </a:solidFill>
                <a:latin typeface="標楷體"/>
              </a:rPr>
              <a:t>發展性教學輔導系統</a:t>
            </a:r>
            <a:r>
              <a:rPr b="1" lang="en-US" sz="4700" spc="-1" strike="noStrike">
                <a:solidFill>
                  <a:srgbClr val="ff0000"/>
                </a:solidFill>
                <a:latin typeface="標楷體"/>
              </a:rPr>
              <a:t>(</a:t>
            </a:r>
            <a:r>
              <a:rPr b="1" lang="zh-TW" sz="4700" spc="-1" strike="noStrike">
                <a:solidFill>
                  <a:srgbClr val="ff0000"/>
                </a:solidFill>
                <a:latin typeface="標楷體"/>
              </a:rPr>
              <a:t>續</a:t>
            </a:r>
            <a:r>
              <a:rPr b="1" lang="en-US" sz="4700" spc="-1" strike="noStrike">
                <a:solidFill>
                  <a:srgbClr val="ff0000"/>
                </a:solidFill>
                <a:latin typeface="標楷體"/>
              </a:rPr>
              <a:t>)</a:t>
            </a:r>
            <a:endParaRPr b="1" lang="en-US" sz="47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816480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9900"/>
                </a:solidFill>
                <a:latin typeface="標楷體"/>
              </a:rPr>
              <a:t>活潑多樣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Times New Roman"/>
              </a:rPr>
              <a:t>B1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引起並維持學生學習動機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B1.1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提出和學生生活相關，或有興趣想知道的問題，引起學生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  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學習興趣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B1.2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能以新鮮有趣的事物或活動，維持學生注意力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B2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運用多元的教學方法及學習活動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B2.1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依教材之需要，應用多元</a:t>
            </a: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(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三種以上</a:t>
            </a: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)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的教學方法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B2.2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能以學生為主體，提供學生充分</a:t>
            </a: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(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百分之八十以上</a:t>
            </a: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)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參與學習活動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  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的機會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B2.3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能促進學生相互合作、共同討論或學習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652140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基本構想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在教師專業成長整體架構中，建立一個讓教師可以了解自己教學之優劣得失及原因，並且從不斷的自我了解與省視中獲得成長契機的回饋機制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700" spc="-1" strike="noStrike">
                <a:solidFill>
                  <a:srgbClr val="ff0000"/>
                </a:solidFill>
                <a:latin typeface="標楷體"/>
              </a:rPr>
              <a:t>發展性教學輔導系統</a:t>
            </a:r>
            <a:r>
              <a:rPr b="1" lang="en-US" sz="4700" spc="-1" strike="noStrike">
                <a:solidFill>
                  <a:srgbClr val="ff0000"/>
                </a:solidFill>
                <a:latin typeface="標楷體"/>
              </a:rPr>
              <a:t>(</a:t>
            </a:r>
            <a:r>
              <a:rPr b="1" lang="zh-TW" sz="4700" spc="-1" strike="noStrike">
                <a:solidFill>
                  <a:srgbClr val="ff0000"/>
                </a:solidFill>
                <a:latin typeface="標楷體"/>
              </a:rPr>
              <a:t>續</a:t>
            </a:r>
            <a:r>
              <a:rPr b="1" lang="en-US" sz="4700" spc="-1" strike="noStrike">
                <a:solidFill>
                  <a:srgbClr val="ff0000"/>
                </a:solidFill>
                <a:latin typeface="標楷體"/>
              </a:rPr>
              <a:t>)</a:t>
            </a:r>
            <a:endParaRPr b="1" lang="en-US" sz="47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9900"/>
                </a:solidFill>
                <a:latin typeface="標楷體"/>
              </a:rPr>
              <a:t>活潑多樣</a:t>
            </a:r>
            <a:r>
              <a:rPr b="1" lang="en-US" sz="2400" spc="-1" strike="noStrike">
                <a:solidFill>
                  <a:srgbClr val="009900"/>
                </a:solidFill>
                <a:latin typeface="標楷體"/>
              </a:rPr>
              <a:t>﹙</a:t>
            </a:r>
            <a:r>
              <a:rPr b="1" lang="zh-TW" sz="2400" spc="-1" strike="noStrike">
                <a:solidFill>
                  <a:srgbClr val="009900"/>
                </a:solidFill>
                <a:latin typeface="標楷體"/>
              </a:rPr>
              <a:t>續</a:t>
            </a:r>
            <a:r>
              <a:rPr b="1" lang="en-US" sz="2400" spc="-1" strike="noStrike">
                <a:solidFill>
                  <a:srgbClr val="009900"/>
                </a:solidFill>
                <a:latin typeface="標楷體"/>
              </a:rPr>
              <a:t>﹚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Times New Roman"/>
              </a:rPr>
              <a:t>B3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使用各種教學媒體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B3.1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能依教學需要選用合適的媒體與資源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B3.2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能正確地操作視聽器材或教具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B4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善於各種發問技巧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B4.1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能設計問題由淺而深，考察學生是否真正了解教學內容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B4.2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能使用開放式問題，以激發討論，促進學生深入思考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B4.3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發問後待答時間適當</a:t>
            </a: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(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三秒以上</a:t>
            </a: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)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，容許學生有思考聯想的時間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B4.4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發問後能針對學生回答繼續延伸問題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ff0000"/>
                </a:solidFill>
                <a:latin typeface="標楷體"/>
              </a:rPr>
              <a:t>發展性教學輔導系統（續）</a:t>
            </a:r>
            <a:endParaRPr b="1" lang="en-US" sz="43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9293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9900"/>
                </a:solidFill>
                <a:latin typeface="標楷體"/>
              </a:rPr>
              <a:t>有效溝通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Times New Roman"/>
              </a:rPr>
              <a:t>C1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運用良好的語文技巧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C1.1 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音量足夠，咬字清晰，使全班學生都聽得清楚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C1.2 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使用學生能理解的語言文字，解釋上課內容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C2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適當地運用身體語言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C2.1 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適當地使用眼神、面部表情或手勢，加強溝通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C2.2 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適度的移動位置，增進溝通效果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C3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用心注意學生發表，促進師生互動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C3.1 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鼓勵學生發表，傾聽學生說話，不隨便干擾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C3.2 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複述或澄清學生說話的內容，以確定了解其意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C3.3 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對學生的反應做建設性的回饋，避免負面的批評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652140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ff0000"/>
                </a:solidFill>
                <a:latin typeface="標楷體"/>
              </a:rPr>
              <a:t>發展性教學輔導系統（續）</a:t>
            </a:r>
            <a:endParaRPr b="1" lang="en-US" sz="43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79297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班級經營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Times New Roman"/>
              </a:rPr>
              <a:t>D1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妥善布置教學情境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D1.1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依教學活動的類型，適當安排學生座位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D1.2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配合教學，布置有關的圖片、圖表或展示學生作品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D2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建立良好的教室常規和程序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D2.1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訂定合理的班級規約和活動程序，訓練並執行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D2.2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實施個人與團體之榮譽制度，鼓勵學生自律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D3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有效運用管教方法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D3.1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善於運用讚美、公開表揚等社會性獎勵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D3.2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對於學生不當行為，立即明確妥善地處理 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652140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ff0000"/>
                </a:solidFill>
                <a:latin typeface="標楷體"/>
              </a:rPr>
              <a:t>發展性教學輔導系統（續）</a:t>
            </a:r>
            <a:endParaRPr b="1" lang="en-US" sz="43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9297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9900"/>
                </a:solidFill>
                <a:latin typeface="標楷體"/>
              </a:rPr>
              <a:t>掌握目標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Times New Roman"/>
              </a:rPr>
              <a:t>E1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充分地完成教學準備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E1.1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考量學習內容及學生能力，決定教學目標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E1.2 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能依據教學目標來設計活動、練習及作業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E2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有效掌握教學時間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E2.1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上課時儘快地進入教學活動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E2.2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巧妙地銜接教學活動，維持流暢的教學節奏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E2.3 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利用走動、察看等監督技巧，促使學生積極學習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652140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ff0000"/>
                </a:solidFill>
                <a:latin typeface="標楷體"/>
              </a:rPr>
              <a:t>發展性教學輔導系統（續）</a:t>
            </a:r>
            <a:endParaRPr b="1" lang="en-US" sz="43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9900"/>
                </a:solidFill>
                <a:latin typeface="標楷體"/>
              </a:rPr>
              <a:t>掌握目標（續）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Times New Roman"/>
              </a:rPr>
              <a:t>E3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評量學生表現並提供回饋與指導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E3.1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利用多元的評量方式，瞭解學生的學習成果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E3.2 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鼓勵進步的學生，使同儕有學習的典範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E3.3 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對特殊需要的學生，採取補救教學或加深加廣的措施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E4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達成預期學習效果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E4.1 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學生用心學習專注於學習活動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E4.2 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學生能理解並運用所學的概念和技能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標楷體"/>
              </a:rPr>
              <a:t>E4.3 </a:t>
            </a:r>
            <a:r>
              <a:rPr b="1" lang="zh-TW" sz="1800" spc="-1" strike="noStrike">
                <a:solidFill>
                  <a:srgbClr val="3333cc"/>
                </a:solidFill>
                <a:latin typeface="標楷體"/>
              </a:rPr>
              <a:t>學生能對學習活動有關的價值，做合理的判斷</a:t>
            </a:r>
            <a:r>
              <a:rPr b="1" lang="zh-TW" sz="1600" spc="-1" strike="noStrike">
                <a:solidFill>
                  <a:srgbClr val="3333cc"/>
                </a:solidFill>
                <a:latin typeface="標楷體"/>
              </a:rPr>
              <a:t>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標楷體"/>
              </a:rPr>
              <a:t>教師教學專業評鑑之標準、</a:t>
            </a:r>
            <a:br>
              <a:rPr sz="3600"/>
            </a:br>
            <a:r>
              <a:rPr b="0" lang="zh-TW" sz="3600" spc="-1" strike="noStrike">
                <a:solidFill>
                  <a:srgbClr val="ff0000"/>
                </a:solidFill>
                <a:latin typeface="標楷體"/>
              </a:rPr>
              <a:t>  規準、指標</a:t>
            </a:r>
            <a:r>
              <a:rPr b="0" lang="zh-TW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TW" sz="3600" spc="-1" strike="noStrike">
                <a:solidFill>
                  <a:srgbClr val="ff0000"/>
                </a:solidFill>
                <a:latin typeface="Times New Roman"/>
              </a:rPr>
              <a:t>（續）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6600ff"/>
                </a:solidFill>
                <a:latin typeface="標楷體"/>
              </a:rPr>
              <a:t>台灣：</a:t>
            </a: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6600ff"/>
                </a:solidFill>
                <a:latin typeface="標楷體"/>
              </a:rPr>
              <a:t>＊中小學教師教學評鑑工具 </a:t>
            </a: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高雄師範大學教育系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教師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班級教學觀察表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教師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專業檔案評量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分為三等第：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優良、滿意、待改進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652140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700" spc="-1" strike="noStrike">
                <a:solidFill>
                  <a:srgbClr val="ff0000"/>
                </a:solidFill>
                <a:latin typeface="標楷體"/>
              </a:rPr>
              <a:t>中小學教師教學評鑑工具</a:t>
            </a:r>
            <a:endParaRPr b="1" lang="en-US" sz="47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9297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教師班級教學觀察表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分為六大規準，每一規準下分不同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之評鑑項目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652140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700" spc="-1" strike="noStrike">
                <a:solidFill>
                  <a:srgbClr val="ff0000"/>
                </a:solidFill>
                <a:latin typeface="標楷體"/>
              </a:rPr>
              <a:t>中小學教師教學評鑑工具</a:t>
            </a:r>
            <a:endParaRPr b="1" lang="en-US" sz="47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9297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9900"/>
                </a:solidFill>
                <a:latin typeface="Times New Roman"/>
              </a:rPr>
              <a:t>六大規準：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精熟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學科單元知識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清楚呈現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內容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靈活運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策略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掌握有效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班級經營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善用良好溝通技巧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有效引導實驗或實作活動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652140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700" spc="-1" strike="noStrike">
                <a:solidFill>
                  <a:srgbClr val="ff0000"/>
                </a:solidFill>
                <a:latin typeface="標楷體"/>
              </a:rPr>
              <a:t>中小學教師教學評鑑工具</a:t>
            </a:r>
            <a:endParaRPr b="1" lang="en-US" sz="47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79297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教師專業檔案評量：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檔案目錄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個人專業背景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課程教學設計與省思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學生學習成果評量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班級經營與輔導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（國小科任、中學專任教師可選填）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研究發展與進修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敬業精神與態度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652140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二、教育部規劃之參考評鑑規準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標楷體"/>
              </a:rPr>
              <a:t>引領學校行政走向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1981080"/>
            <a:ext cx="7388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</a:rPr>
              <a:t>領導焦點</a:t>
            </a:r>
            <a:r>
              <a:rPr b="0" lang="en-US" sz="3200" spc="-1" strike="noStrike">
                <a:solidFill>
                  <a:srgbClr val="3333cc"/>
                </a:solidFill>
                <a:latin typeface="標楷體"/>
              </a:rPr>
              <a:t>--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</a:rPr>
              <a:t>從行政轉移到教學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</a:rPr>
              <a:t>聚焦在如何協助教師有效的進行教學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標楷體"/>
              </a:rPr>
              <a:t>Focus on studants</a:t>
            </a:r>
            <a:r>
              <a:rPr b="0" lang="en-US" sz="3200" spc="-1" strike="noStrike">
                <a:solidFill>
                  <a:srgbClr val="3333cc"/>
                </a:solidFill>
                <a:latin typeface="標楷體"/>
              </a:rPr>
              <a:t> 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</a:rPr>
              <a:t>期待學生的學習表現和成效能獲得有效提升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201600" y="1413000"/>
          <a:ext cx="8763120" cy="4338360"/>
        </p:xfrm>
        <a:graphic>
          <a:graphicData uri="http://schemas.openxmlformats.org/drawingml/2006/table">
            <a:tbl>
              <a:tblPr/>
              <a:tblGrid>
                <a:gridCol w="8763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層面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標楷體"/>
                          <a:ea typeface="Times New Roman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：課程設計與教學</a:t>
                      </a: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1252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：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1252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華康儷中黑"/>
                          <a:ea typeface="華康儷中黑"/>
                        </a:rPr>
                        <a:t>        </a:t>
                      </a: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A-1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展現課程設計能力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1252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        </a:t>
                      </a: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A-2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研擬適切的教學計畫</a:t>
                      </a: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教案</a:t>
                      </a: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1252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        </a:t>
                      </a: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A-3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精熟任教學科領域知識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1252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        </a:t>
                      </a: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A-4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清楚呈現教材內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1252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        </a:t>
                      </a: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A-5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運用有效教學技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1252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        </a:t>
                      </a: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A-6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善於運用學習評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1252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        </a:t>
                      </a: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A-7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應用良好溝通技巧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2112120" y="333000"/>
            <a:ext cx="48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教師專業發展評鑑規準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006.10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179280" y="1455840"/>
          <a:ext cx="8763120" cy="3485520"/>
        </p:xfrm>
        <a:graphic>
          <a:graphicData uri="http://schemas.openxmlformats.org/drawingml/2006/table">
            <a:tbl>
              <a:tblPr/>
              <a:tblGrid>
                <a:gridCol w="876312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層面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B</a:t>
                      </a: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：班級經營與輔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B-1 </a:t>
                      </a: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建立有助於學習的班級常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B-2 </a:t>
                      </a: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營造積極的班級學習氣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B-3 </a:t>
                      </a: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促進親師溝通與合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B-4 </a:t>
                      </a: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落實學生輔導工作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152280" y="1557360"/>
          <a:ext cx="8839440" cy="3455640"/>
        </p:xfrm>
        <a:graphic>
          <a:graphicData uri="http://schemas.openxmlformats.org/drawingml/2006/table">
            <a:tbl>
              <a:tblPr/>
              <a:tblGrid>
                <a:gridCol w="88394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層面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C</a:t>
                      </a: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：研究發展與進修</a:t>
                      </a: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C-1 </a:t>
                      </a: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參與教學研究工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C-2 </a:t>
                      </a: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研發教材、教法或教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C-3</a:t>
                      </a: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參與校內外教師進修研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C-4 </a:t>
                      </a: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反思教學並尋求專業成長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52280" y="1557360"/>
          <a:ext cx="8839440" cy="3124080"/>
        </p:xfrm>
        <a:graphic>
          <a:graphicData uri="http://schemas.openxmlformats.org/drawingml/2006/table">
            <a:tbl>
              <a:tblPr/>
              <a:tblGrid>
                <a:gridCol w="8839440"/>
              </a:tblGrid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層面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D</a:t>
                      </a: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：敬業精神與態度</a:t>
                      </a: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D-1</a:t>
                      </a: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信守教育專業倫理規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D-2</a:t>
                      </a: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願意投入時間與精力服務教育社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D-3</a:t>
                      </a: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建立與學校同事、家長及社區良好的合作關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85760" y="692280"/>
          <a:ext cx="8763120" cy="5533920"/>
        </p:xfrm>
        <a:graphic>
          <a:graphicData uri="http://schemas.openxmlformats.org/drawingml/2006/table">
            <a:tbl>
              <a:tblPr/>
              <a:tblGrid>
                <a:gridCol w="503280"/>
                <a:gridCol w="1218960"/>
                <a:gridCol w="4978440"/>
                <a:gridCol w="514440"/>
                <a:gridCol w="515880"/>
                <a:gridCol w="517680"/>
                <a:gridCol w="514440"/>
              </a:tblGrid>
              <a:tr h="489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層面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評鑑指標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檢核項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資料來源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師自評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觀察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檔案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其他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6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課程設計與教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A-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展現課程設計能力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65080" indent="-86508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A-1-1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選用合適的教材</a:t>
                      </a:r>
                      <a:r>
                        <a:rPr b="1" lang="zh-TW" sz="10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A-1-2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研擬任教科目授課大綱或教學進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　　　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　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1254240" y="25020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＊表示可選擇是否採用之檢核項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00880" y="3944880"/>
            <a:ext cx="0" cy="21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16760" y="3944880"/>
            <a:ext cx="0" cy="21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434440" y="3944880"/>
            <a:ext cx="0" cy="21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57320" y="260280"/>
          <a:ext cx="8805600" cy="6215040"/>
        </p:xfrm>
        <a:graphic>
          <a:graphicData uri="http://schemas.openxmlformats.org/drawingml/2006/table">
            <a:tbl>
              <a:tblPr/>
              <a:tblGrid>
                <a:gridCol w="493560"/>
                <a:gridCol w="1617480"/>
                <a:gridCol w="4751640"/>
                <a:gridCol w="485640"/>
                <a:gridCol w="486000"/>
                <a:gridCol w="485640"/>
                <a:gridCol w="485640"/>
              </a:tblGrid>
              <a:tr h="489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層面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評鑑指標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檢核項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資料來源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師自評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觀察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檔案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其他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A.</a:t>
                      </a:r>
                      <a:r>
                        <a:rPr b="1" lang="zh-TW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課程設計與教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A-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研擬適切的教學計畫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98560" indent="-898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2-1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符合課程單元的教學目標</a:t>
                      </a: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(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分段能力指標</a:t>
                      </a: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98560" indent="-898560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2-2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依據既定的教學目標和學生程度，規劃適切的學習教材和教學資源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2-3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依據既定的教學目標和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    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生程度，規劃適切的學習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    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活動和進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404640"/>
          <a:ext cx="8229600" cy="6039000"/>
        </p:xfrm>
        <a:graphic>
          <a:graphicData uri="http://schemas.openxmlformats.org/drawingml/2006/table">
            <a:tbl>
              <a:tblPr/>
              <a:tblGrid>
                <a:gridCol w="461880"/>
                <a:gridCol w="1174680"/>
                <a:gridCol w="4776840"/>
                <a:gridCol w="453960"/>
                <a:gridCol w="454320"/>
                <a:gridCol w="453960"/>
                <a:gridCol w="453960"/>
              </a:tblGrid>
              <a:tr h="68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層面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評鑑指標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檢核項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資料來源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師自評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觀察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檔案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其他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A.</a:t>
                      </a:r>
                      <a:r>
                        <a:rPr b="1" lang="zh-TW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課程設計與教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A-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研擬適切的教學計畫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2-4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依據既定的教學目標和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　　生程度，規劃適切的學習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　　評量方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2-5 </a:t>
                      </a: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針對單元教學作省思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98560" indent="-898560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2-6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依學生學習發展和個別差異設計教學計畫</a:t>
                      </a:r>
                      <a:r>
                        <a:rPr b="1" lang="zh-TW" sz="2600" spc="-1" strike="noStrike" baseline="30000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＊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28600" y="695160"/>
          <a:ext cx="8736120" cy="5542200"/>
        </p:xfrm>
        <a:graphic>
          <a:graphicData uri="http://schemas.openxmlformats.org/drawingml/2006/table">
            <a:tbl>
              <a:tblPr/>
              <a:tblGrid>
                <a:gridCol w="498600"/>
                <a:gridCol w="1180800"/>
                <a:gridCol w="5065920"/>
                <a:gridCol w="498600"/>
                <a:gridCol w="500040"/>
                <a:gridCol w="500040"/>
                <a:gridCol w="492120"/>
              </a:tblGrid>
              <a:tr h="598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層面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評鑑指標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          </a:t>
                      </a:r>
                      <a:r>
                        <a:rPr b="1" lang="zh-TW" sz="32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檢核項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資料來源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師自評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觀察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檔案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其他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課程設計與教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A-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精熟任教學科領域知識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3-1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正確掌握單元教材內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3-2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有效連結學生的新舊知識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3-3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結合學生生活經驗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57320" y="333360"/>
          <a:ext cx="8799480" cy="5514840"/>
        </p:xfrm>
        <a:graphic>
          <a:graphicData uri="http://schemas.openxmlformats.org/drawingml/2006/table">
            <a:tbl>
              <a:tblPr/>
              <a:tblGrid>
                <a:gridCol w="527040"/>
                <a:gridCol w="1295280"/>
                <a:gridCol w="5256360"/>
                <a:gridCol w="430200"/>
                <a:gridCol w="430200"/>
                <a:gridCol w="430200"/>
                <a:gridCol w="430200"/>
              </a:tblGrid>
              <a:tr h="489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層面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評鑑指標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檢核項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資料來源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師自評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觀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檔案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其他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4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課程設計與教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A-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清楚呈現教材內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4-1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說明學習目標或學習重點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4-2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有組織條理呈現教材內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98560" indent="-898560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A-4-3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正確而清楚講解重要概念、原則或技能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4-4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多舉例說明或示範以增進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　　　解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395280" y="260280"/>
          <a:ext cx="8182080" cy="6078600"/>
        </p:xfrm>
        <a:graphic>
          <a:graphicData uri="http://schemas.openxmlformats.org/drawingml/2006/table">
            <a:tbl>
              <a:tblPr/>
              <a:tblGrid>
                <a:gridCol w="488880"/>
                <a:gridCol w="1212840"/>
                <a:gridCol w="4881600"/>
                <a:gridCol w="398520"/>
                <a:gridCol w="399960"/>
                <a:gridCol w="399960"/>
                <a:gridCol w="400320"/>
              </a:tblGrid>
              <a:tr h="51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層面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評鑑指標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檢核項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資料來源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師自評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觀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檔案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其他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課程設計與教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A-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清楚呈現教材內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4-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５提供適當的練習以熟練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　　　習內容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4-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６澄清迷思概念，或引導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　　　值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A-4-7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設計學習情境啟發學生思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　　　考與討論（進行師生討論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　　　、小組討論、小組發表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4-8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完成每個學習活動後，適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　　　時歸納總結學習重點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目前實施重點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71400" y="1557360"/>
            <a:ext cx="6429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</a:rPr>
              <a:t>根據評鑑結果對教師專業表現給予肯定和回饋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</a:rPr>
              <a:t>對於教師的個別成長需求，提供適當協助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</a:rPr>
              <a:t>對於整體性教師成長需求，提供校內外在職進修機會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57320" y="401760"/>
          <a:ext cx="8804160" cy="6075360"/>
        </p:xfrm>
        <a:graphic>
          <a:graphicData uri="http://schemas.openxmlformats.org/drawingml/2006/table">
            <a:tbl>
              <a:tblPr/>
              <a:tblGrid>
                <a:gridCol w="527040"/>
                <a:gridCol w="1150920"/>
                <a:gridCol w="5113080"/>
                <a:gridCol w="503280"/>
                <a:gridCol w="503280"/>
                <a:gridCol w="503280"/>
                <a:gridCol w="503280"/>
              </a:tblGrid>
              <a:tr h="487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層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評鑑標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檢核項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資料來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師自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觀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檔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其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課程設計與教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A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運用有效教學技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5-1 </a:t>
                      </a: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引發並維持學生學習動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5-2 </a:t>
                      </a: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善於變化教學活動和策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98560" indent="-898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5-3 </a:t>
                      </a: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活動轉換與銜接順暢進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5-4 </a:t>
                      </a: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有效掌握教學節奏和時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5-5 </a:t>
                      </a: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善用問答技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5-6 </a:t>
                      </a: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使用電腦網路或教學媒體和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　　　助於學生學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98560" indent="-898560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5-7 </a:t>
                      </a: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根據學生個別差異調整教學</a:t>
                      </a:r>
                      <a:r>
                        <a:rPr b="1" lang="zh-TW" sz="2400" spc="-1" strike="noStrike" baseline="30000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63440" y="108000"/>
          <a:ext cx="8852040" cy="6489720"/>
        </p:xfrm>
        <a:graphic>
          <a:graphicData uri="http://schemas.openxmlformats.org/drawingml/2006/table">
            <a:tbl>
              <a:tblPr/>
              <a:tblGrid>
                <a:gridCol w="504720"/>
                <a:gridCol w="1024200"/>
                <a:gridCol w="5456160"/>
                <a:gridCol w="466560"/>
                <a:gridCol w="466920"/>
                <a:gridCol w="466560"/>
                <a:gridCol w="466920"/>
              </a:tblGrid>
              <a:tr h="607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層面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評鑑指標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檢核項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資料來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師自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觀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檔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華康儷中黑"/>
                        </a:rPr>
                        <a:t>其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課程設計與教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A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善於運用學習評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6-1 </a:t>
                      </a: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適時檢視學生的學習情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6-2 </a:t>
                      </a: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依實際需要選擇適切的評量方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6-3 </a:t>
                      </a: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根據學習評量結果分析學習成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A-6-4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根據學生評量結果調整教學</a:t>
                      </a:r>
                      <a:r>
                        <a:rPr b="1" lang="zh-TW" sz="2400" spc="-1" strike="noStrike" baseline="30000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A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應用良好溝通技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7-1 </a:t>
                      </a: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板書正確、工整有條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7-2 </a:t>
                      </a: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口語清晰、音量適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7-3 </a:t>
                      </a: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室走動或眼神能關照多數學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A-7-4</a:t>
                      </a: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師生互動良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 </a:t>
                      </a: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 </a:t>
                      </a: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華康儷中黑"/>
                        </a:rPr>
                        <a:t> </a:t>
                      </a:r>
                      <a:r>
                        <a:rPr b="1" lang="zh-TW" sz="2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1835280" y="6037200"/>
            <a:ext cx="718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79280" y="404640"/>
          <a:ext cx="8736120" cy="5837040"/>
        </p:xfrm>
        <a:graphic>
          <a:graphicData uri="http://schemas.openxmlformats.org/drawingml/2006/table">
            <a:tbl>
              <a:tblPr/>
              <a:tblGrid>
                <a:gridCol w="473040"/>
                <a:gridCol w="1255680"/>
                <a:gridCol w="4970520"/>
                <a:gridCol w="511200"/>
                <a:gridCol w="507960"/>
                <a:gridCol w="509760"/>
                <a:gridCol w="507960"/>
              </a:tblGrid>
              <a:tr h="496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層面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評鑑指標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檢核項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資料來源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師自評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觀察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檔案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其他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B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班級經營與輔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B-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建立有助於學習的班級常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61840" indent="-861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B-1-1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訂定合理的班級規範與獎懲規定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B-1-2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室秩序常規維持良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65080" indent="-865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B-1-3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適時增強學生的良好表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65080" indent="-865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B-1-4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妥善處理學生的不當行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228600" y="765000"/>
          <a:ext cx="8734320" cy="5945400"/>
        </p:xfrm>
        <a:graphic>
          <a:graphicData uri="http://schemas.openxmlformats.org/drawingml/2006/table">
            <a:tbl>
              <a:tblPr/>
              <a:tblGrid>
                <a:gridCol w="460440"/>
                <a:gridCol w="1218960"/>
                <a:gridCol w="5112000"/>
                <a:gridCol w="485640"/>
                <a:gridCol w="486000"/>
                <a:gridCol w="485640"/>
                <a:gridCol w="485640"/>
              </a:tblGrid>
              <a:tr h="489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層面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評鑑指標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檢核項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資料來源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師自評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觀察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檔案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其他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B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班級經營與輔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B-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營造積極的班級學習氣氛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B-2-1 </a:t>
                      </a: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善於運用學生自治組織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B-2-2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佈置或安排適當的學習環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B-2-3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師表現教學熱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B-2-4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學生能專注於學習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28600" y="620640"/>
          <a:ext cx="8736120" cy="5827680"/>
        </p:xfrm>
        <a:graphic>
          <a:graphicData uri="http://schemas.openxmlformats.org/drawingml/2006/table">
            <a:tbl>
              <a:tblPr/>
              <a:tblGrid>
                <a:gridCol w="477720"/>
                <a:gridCol w="1201680"/>
                <a:gridCol w="5000760"/>
                <a:gridCol w="512640"/>
                <a:gridCol w="514440"/>
                <a:gridCol w="515880"/>
                <a:gridCol w="513000"/>
              </a:tblGrid>
              <a:tr h="489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層面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評鑑指標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檢核項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資料來源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師自評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觀察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檔案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其他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B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班級經營與輔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B-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促進親師溝通與合作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49240" indent="-849240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B-3-1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向家長清楚說明教學、評量和班級經營的理念和作法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B-3-2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告知家長學生學習情形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         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各項表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65080" indent="-865080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B-3-3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有效獲得家長合作提供學校各項資源和服務</a:t>
                      </a:r>
                      <a:r>
                        <a:rPr b="1" lang="zh-TW" sz="2600" spc="-1" strike="noStrike" baseline="30000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＊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250920" y="620640"/>
          <a:ext cx="8664480" cy="5827680"/>
        </p:xfrm>
        <a:graphic>
          <a:graphicData uri="http://schemas.openxmlformats.org/drawingml/2006/table">
            <a:tbl>
              <a:tblPr/>
              <a:tblGrid>
                <a:gridCol w="466560"/>
                <a:gridCol w="1190520"/>
                <a:gridCol w="4967640"/>
                <a:gridCol w="510840"/>
                <a:gridCol w="509760"/>
                <a:gridCol w="509400"/>
                <a:gridCol w="509760"/>
              </a:tblGrid>
              <a:tr h="489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層面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評鑑標準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檢核項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資料來源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師自評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觀察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檔案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其他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B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班級經營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與輔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B-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落實學生輔導工作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49240" indent="-849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B-4-1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瞭解任教班級學生的基本資料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49240" indent="-849240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B-4-2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輔導學生生活規範、學習困擾或行為偏差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B-4-3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詳實建立學生輔導資料</a:t>
                      </a:r>
                      <a:r>
                        <a:rPr b="1" lang="zh-TW" sz="2600" spc="-1" strike="noStrike" baseline="30000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＊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63440" y="620640"/>
          <a:ext cx="8812440" cy="6008760"/>
        </p:xfrm>
        <a:graphic>
          <a:graphicData uri="http://schemas.openxmlformats.org/drawingml/2006/table">
            <a:tbl>
              <a:tblPr/>
              <a:tblGrid>
                <a:gridCol w="476280"/>
                <a:gridCol w="1123920"/>
                <a:gridCol w="5256360"/>
                <a:gridCol w="488880"/>
                <a:gridCol w="488880"/>
                <a:gridCol w="488880"/>
                <a:gridCol w="489240"/>
              </a:tblGrid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層面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評鑑指標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檢核項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資料來源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師自評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觀察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檔案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其他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C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研究發展與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進修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C-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參與教學研究工作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68320" indent="-868320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C-1-1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參與校內各種教學研究會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82720" indent="-882720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C-1-2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與校內外教師同儕分享教學或專業工作心得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98560" indent="-898560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C-1-3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發現教育問題進行相關研究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98560" indent="-898560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98560" indent="-898560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C-1-4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將研究或進修成果應用於教學工作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908000" y="5384880"/>
            <a:ext cx="706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08000" y="627120"/>
          <a:ext cx="8916840" cy="5935680"/>
        </p:xfrm>
        <a:graphic>
          <a:graphicData uri="http://schemas.openxmlformats.org/drawingml/2006/table">
            <a:tbl>
              <a:tblPr/>
              <a:tblGrid>
                <a:gridCol w="477720"/>
                <a:gridCol w="1177920"/>
                <a:gridCol w="5400720"/>
                <a:gridCol w="465120"/>
                <a:gridCol w="465120"/>
                <a:gridCol w="465120"/>
                <a:gridCol w="465120"/>
              </a:tblGrid>
              <a:tr h="595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層面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評鑑指標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檢核項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資料來源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師自評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觀察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檔案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其他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C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研究發展與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進修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C-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研發教材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、</a:t>
                      </a: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教法或教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68320" indent="-868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C-2-1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根據教學需要，自製教具或教學媒體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2480" indent="-852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C-2-2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掌握教育新知，改進或創新 教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65080" indent="-865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C-2-3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與校內外教師同儕研發教材</a:t>
                      </a:r>
                      <a:r>
                        <a:rPr b="1" lang="zh-TW" sz="2600" spc="-1" strike="noStrike" baseline="30000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＊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68360" y="520560"/>
          <a:ext cx="8082000" cy="5827680"/>
        </p:xfrm>
        <a:graphic>
          <a:graphicData uri="http://schemas.openxmlformats.org/drawingml/2006/table">
            <a:tbl>
              <a:tblPr/>
              <a:tblGrid>
                <a:gridCol w="431640"/>
                <a:gridCol w="1068480"/>
                <a:gridCol w="4894200"/>
                <a:gridCol w="422280"/>
                <a:gridCol w="422280"/>
                <a:gridCol w="422280"/>
                <a:gridCol w="420840"/>
              </a:tblGrid>
              <a:tr h="489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層面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評鑑指標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檢核項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資料來源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師自評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觀察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檔案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其他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0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C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研究發展與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進修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C-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參與校內外教師進修研習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C-3-1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從事教師個人的自我成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　　活動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C-3-2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參與校內專業進修研習或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　　成長團體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C-3-3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參與校外專業進修研習或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　　成長團體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19240" y="84240"/>
          <a:ext cx="8700840" cy="6245280"/>
        </p:xfrm>
        <a:graphic>
          <a:graphicData uri="http://schemas.openxmlformats.org/drawingml/2006/table">
            <a:tbl>
              <a:tblPr/>
              <a:tblGrid>
                <a:gridCol w="502920"/>
                <a:gridCol w="1185840"/>
                <a:gridCol w="5303880"/>
                <a:gridCol w="427320"/>
                <a:gridCol w="426960"/>
                <a:gridCol w="426960"/>
                <a:gridCol w="426960"/>
              </a:tblGrid>
              <a:tr h="547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層面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評鑑指標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檢核項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資料來源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師自評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觀察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教學檔案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其他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C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研究發展與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ccccff"/>
                          </a:solidFill>
                          <a:latin typeface="標楷體"/>
                          <a:ea typeface="Times New Roman"/>
                        </a:rPr>
                        <a:t>進修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C-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反思教學並尋求專業成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12880" indent="-812880">
                        <a:lnSpc>
                          <a:spcPct val="100000"/>
                        </a:lnSpc>
                        <a:tabLst>
                          <a:tab algn="l" pos="0"/>
                          <a:tab algn="l" pos="620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C-4-1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進行自我教學省思，了解自己的教學優缺點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12880" indent="-812880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C-4-2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根據同事、學生或家長回饋意見，強化教學省思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65080" indent="-865080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C-4-3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依據省思結果，提出專業成長計畫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12880" indent="-812880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C-4-4 </a:t>
                      </a: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標楷體"/>
                          <a:ea typeface="Times New Roman"/>
                        </a:rPr>
                        <a:t>整理教學文件及省思結果，建立教學檔案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標楷體"/>
              </a:rPr>
              <a:t>規準研發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92360" y="1981080"/>
            <a:ext cx="6765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國外的經驗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目前的作法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980720" y="1190520"/>
            <a:ext cx="4953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本計畫工作項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en-US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1. </a:t>
            </a:r>
            <a:r>
              <a:rPr b="0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發展教師專業成長評鑑標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  </a:t>
            </a:r>
            <a:r>
              <a:rPr b="0" lang="en-US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2. </a:t>
            </a:r>
            <a:r>
              <a:rPr b="0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發展教師專業成長評鑑工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2.1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教師自評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2.2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教學觀察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2.3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教學檔案檢核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2.4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綜合報告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2.5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專業成長計畫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348000" y="1844640"/>
            <a:ext cx="280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報告完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謝謝大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國外的經驗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-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規準層面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26920" y="1484280"/>
          <a:ext cx="7423200" cy="4540320"/>
        </p:xfrm>
        <a:graphic>
          <a:graphicData uri="http://schemas.openxmlformats.org/drawingml/2006/table">
            <a:tbl>
              <a:tblPr/>
              <a:tblGrid>
                <a:gridCol w="4159440"/>
                <a:gridCol w="3263760"/>
              </a:tblGrid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規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國別地區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3300"/>
                          </a:solidFill>
                          <a:latin typeface="標楷體"/>
                          <a:ea typeface="Times New Roman"/>
                        </a:rPr>
                        <a:t>專業知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3300"/>
                          </a:solidFill>
                          <a:latin typeface="標楷體"/>
                          <a:ea typeface="Times New Roman"/>
                        </a:rPr>
                        <a:t>教學能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3300"/>
                          </a:solidFill>
                          <a:latin typeface="標楷體"/>
                          <a:ea typeface="Times New Roman"/>
                        </a:rPr>
                        <a:t>教學態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3300"/>
                          </a:solidFill>
                          <a:latin typeface="標楷體"/>
                          <a:ea typeface="Times New Roman"/>
                        </a:rPr>
                        <a:t>課程設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教學準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與學生互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應用教學資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溝通能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領導能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971640" y="549360"/>
          <a:ext cx="7313400" cy="5449680"/>
        </p:xfrm>
        <a:graphic>
          <a:graphicData uri="http://schemas.openxmlformats.org/drawingml/2006/table">
            <a:tbl>
              <a:tblPr/>
              <a:tblGrid>
                <a:gridCol w="3657600"/>
                <a:gridCol w="3655800"/>
              </a:tblGrid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班級管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與家長溝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教學情境佈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與社區合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學生成績表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進修活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與同事合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教師出缺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研究能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多元評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行政能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儀態、世界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標楷體"/>
              </a:rPr>
              <a:t>國內方式</a:t>
            </a:r>
            <a:r>
              <a:rPr b="0" lang="en-US" sz="4800" spc="-1" strike="noStrike">
                <a:solidFill>
                  <a:srgbClr val="008000"/>
                </a:solidFill>
                <a:latin typeface="標楷體"/>
              </a:rPr>
              <a:t>--</a:t>
            </a:r>
            <a:r>
              <a:rPr b="0" lang="zh-TW" sz="4800" spc="-1" strike="noStrike">
                <a:solidFill>
                  <a:srgbClr val="008000"/>
                </a:solidFill>
                <a:latin typeface="標楷體"/>
              </a:rPr>
              <a:t>規準層面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</a:rPr>
              <a:t>評鑑內容：包括下列四個層面：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0000"/>
                </a:solidFill>
                <a:latin typeface="標楷體"/>
              </a:rPr>
              <a:t>課程設計與教學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0000"/>
                </a:solidFill>
                <a:latin typeface="標楷體"/>
              </a:rPr>
              <a:t>班級經營與輔導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0000"/>
                </a:solidFill>
                <a:latin typeface="標楷體"/>
              </a:rPr>
              <a:t>研究發展與進修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0000"/>
                </a:solidFill>
                <a:latin typeface="標楷體"/>
              </a:rPr>
              <a:t>敬業精神及態度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06:12:53Z</dcterms:created>
  <dc:creator>moecc</dc:creator>
  <dc:description/>
  <dc:language>en-US</dc:language>
  <cp:lastModifiedBy>user</cp:lastModifiedBy>
  <dcterms:modified xsi:type="dcterms:W3CDTF">2010-02-25T10:45:17Z</dcterms:modified>
  <cp:revision>163</cp:revision>
  <dc:subject/>
  <dc:title>PowerPoint 簡報</dc:title>
</cp:coreProperties>
</file>