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2A9-31D0-4DA1-A7F7-5E18A88438F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D7D9-6933-4E6E-808C-DC7FD2AAD65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7F5F-4F23-4EBC-97E1-8686BBEF16F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8BAE-2BFD-423E-BAEC-17DAB8FB799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015-44CA-40F9-AFF6-74A826645BF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DD06-6A49-4EE9-ADF6-8A6837164C1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C4DE-58DD-4826-AD5B-E522E959A03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BF0C-9344-48FA-A244-27B747B8872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EA5-F022-4CB6-8252-2F5D08B8722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76B5-5F1D-4F4E-8EC5-14046282480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D7DF-65B5-4272-A77C-13C64A1CF81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C9F5-78E9-4F33-BD82-E8A83591362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1BBE-D01F-4BB2-93F7-A3DC0434DE9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CBD0-9B42-40A6-9A82-BC828335CB7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1CD4-E560-43A1-9AAD-CB6B3ADE752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C86F-E176-4239-A24E-6F8892EC2E8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0C08-8D18-48BE-ABDB-705A2409ECF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F81E-0F2D-4C19-8335-ED6F8DB1E7E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E7B3-77A4-41CF-A129-CA251976560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BB0-C8BC-4DC8-B7C4-6055AF8A7E7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459B-1D60-4D72-ABB0-2DC2F5EB9F2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916-B1FE-4605-8537-83FBD447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5640" y="3706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544-4355-4BB7-BEBE-D7C3D028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5640" y="3706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8320" y="3706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6A6-768C-4B58-B55D-918A7200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3640" y="155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1280" y="155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5640" y="3706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3640" y="3706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1280" y="3706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D8E-9856-4746-B0D5-60636D4A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4AA3-101A-457F-975F-692D3275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B963-A3DF-4B4F-83A2-E2C222C5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7196-8326-4B07-BA08-9F3B543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BFE-254B-4194-80BD-DFD4CAF3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FAEE-05D0-4803-94FA-AC2E14F7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00000" y="-360"/>
            <a:ext cx="779328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DC6B-2333-447C-801B-0A2C46E3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55640" y="3706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0CE5-FCDD-4208-BD19-372839E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3A1-9E38-4824-8624-153BC184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8320" y="3706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C17D-BD6B-4898-95C9-EFDE0A88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55640" y="3706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B353-0390-4591-BAE5-FA928FB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55640" y="3706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403-D54C-4074-B381-DBFB2A8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55640" y="3706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8320" y="3706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39C6-9F2E-4319-8010-E60272BF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83640" y="155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1280" y="155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55640" y="3706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83640" y="3706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1280" y="3706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BBEF-9FB9-4B82-896E-27FF3787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C96-E0DD-4DC8-B14D-97ED264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AFA-88B3-4801-A997-6482D5B1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FA7-6460-427C-844B-6CD73CB4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00000" y="-360"/>
            <a:ext cx="779328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F9F-8C95-4495-AEEE-CDF09D3D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640" y="3706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ACD-2848-402F-B693-11B9134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8320" y="3706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020-3040-4BAA-A34F-49A347B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8320" y="155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706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979-EED7-4A96-837D-4469CF8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1280" y="62064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6206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71640" y="692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6922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54936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253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84E5-690B-4EC1-B6D2-F416A6CFD2CF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9AA2-5193-4390-83A9-BF85978188AD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abcd/Local%20Settings/Temp/Rar$DI00.187/httpwww.edu.twEDU_WEBWebEDURESindex.htm.htm" TargetMode="External"/><Relationship Id="rId2" Type="http://schemas.openxmlformats.org/officeDocument/2006/relationships/hyperlink" Target="file:///../Local%20Settings/Temporary%20Internet%20Files/abcd/Local%20Settings/Temp/Rar$DI00.187/httpwww.edu.twEDU_WEBWebEDURESindex.htm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abcd/Local%20Settings/Temp/Rar$DI00.187/&#25945;&#23416;&#23560;&#26989;&#30332;&#23637;&#31995;&#32113;.doc" TargetMode="External"/><Relationship Id="rId2" Type="http://schemas.openxmlformats.org/officeDocument/2006/relationships/hyperlink" Target="file:///../Local%20Settings/Temporary%20Internet%20Files/abcd/Local%20Settings/Temp/Rar$DI00.187/&#25945;&#23416;&#23560;&#26989;&#30332;&#23637;&#31995;&#32113;.doc" TargetMode="External"/><Relationship Id="rId3" Type="http://schemas.openxmlformats.org/officeDocument/2006/relationships/hyperlink" Target="file:///../Local%20Settings/Temporary%20Internet%20Files/abcd/Local%20Settings/Temp/Rar$DI00.187/&#21488;&#21271;&#32291;&#65306;&#25512;&#25945;&#24107;&#23560;&#26989;&#35413;&#37969;&#24037;&#20316;&#35430;&#36774;&#35336;&#30059;.doc" TargetMode="External"/><Relationship Id="rId4" Type="http://schemas.openxmlformats.org/officeDocument/2006/relationships/hyperlink" Target="file:///../Local%20Settings/Temporary%20Internet%20Files/abcd/Local%20Settings/Temp/Rar$DI00.187/&#39640;&#38596;&#24066;&#65306;&#22283;&#27665;&#23567;&#23416;&#23416;&#26657;&#35413;&#37969;&#23526;&#26045;&#35201;&#40670;&#33287;&#23416;&#26657;&#35413;&#37969;&#25351;&#27161;.doc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華康正顏楷體W7(P)"/>
                <a:ea typeface="華康正顏楷體W7(P)"/>
              </a:rPr>
              <a:t>辦理中小學</a:t>
            </a:r>
            <a:br>
              <a:rPr sz="5400"/>
            </a:br>
            <a:r>
              <a:rPr b="0" lang="zh-TW" sz="5400" spc="-1" strike="noStrike">
                <a:solidFill>
                  <a:srgbClr val="ff0000"/>
                </a:solidFill>
                <a:latin typeface="華康正顏楷體W7(P)"/>
                <a:ea typeface="華康正顏楷體W7(P)"/>
              </a:rPr>
              <a:t>教師專業發展評鑑</a:t>
            </a:r>
            <a:br>
              <a:rPr sz="5400"/>
            </a:br>
            <a:r>
              <a:rPr b="0" lang="zh-TW" sz="5400" spc="-1" strike="noStrike">
                <a:solidFill>
                  <a:srgbClr val="ff0000"/>
                </a:solidFill>
                <a:latin typeface="華康正顏楷體W7(P)"/>
                <a:ea typeface="華康正顏楷體W7(P)"/>
              </a:rPr>
              <a:t>計畫說明</a:t>
            </a:r>
            <a:r>
              <a:rPr b="0" lang="zh-TW" sz="4400" spc="-1" strike="noStrike">
                <a:solidFill>
                  <a:srgbClr val="ffff00"/>
                </a:solidFill>
                <a:latin typeface="華康正顏楷體W5(P)"/>
                <a:ea typeface="華康正顏楷體W5(P)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33cc"/>
                </a:solidFill>
                <a:latin typeface="Tahoma"/>
                <a:ea typeface="標楷體"/>
              </a:rPr>
              <a:t>教育部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內容與規準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評鑑內容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0" lang="zh-TW" sz="2800" spc="-1" strike="noStrike">
                <a:solidFill>
                  <a:srgbClr val="ffffff"/>
                </a:solidFill>
                <a:latin typeface="華康儷中黑"/>
                <a:ea typeface="華康儷中黑"/>
              </a:rPr>
              <a:t>包括下列四個層面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課程設計與教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班級經營與輔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研究發展與進修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敬業精神及態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此規定是有彈性的，允許試辦主管機關及學校</a:t>
            </a:r>
            <a:r>
              <a:rPr b="0" lang="zh-TW" sz="28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因地制宜</a:t>
            </a:r>
            <a:r>
              <a:rPr b="0" lang="zh-TW" sz="28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，每年可選</a:t>
            </a:r>
            <a:r>
              <a:rPr b="0" lang="zh-TW" sz="28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一個層面或數個層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評鑑規準：</a:t>
            </a:r>
            <a:r>
              <a:rPr b="0" lang="zh-TW" sz="28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可參考國內外的其他教師專業評鑑規準後研議制訂之。參考網址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教育部補助試辦教師專業發展評鑑</a:t>
            </a:r>
            <a:r>
              <a:rPr b="0" lang="zh-TW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規準之參考資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華康儷中黑"/>
                <a:ea typeface="華康儷中黑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華康儷中黑"/>
                <a:ea typeface="華康儷中黑"/>
                <a:hlinkClick r:id="rId2"/>
              </a:rPr>
              <a:t>www.edu.tw/EDU_WEB/Web/EDURES/index.htm</a:t>
            </a:r>
            <a:r>
              <a:rPr b="0" lang="en-US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教育部</a:t>
            </a:r>
            <a:r>
              <a:rPr b="0" lang="en-US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教研會</a:t>
            </a:r>
            <a:r>
              <a:rPr b="0" lang="en-US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/</a:t>
            </a:r>
            <a:r>
              <a:rPr b="0" lang="zh-TW" sz="2400" spc="-1" strike="noStrike">
                <a:solidFill>
                  <a:srgbClr val="ff00ff"/>
                </a:solidFill>
                <a:latin typeface="華康儷中黑"/>
                <a:ea typeface="華康儷中黑"/>
              </a:rPr>
              <a:t>電子公告</a:t>
            </a:r>
            <a:r>
              <a:rPr b="0" lang="en-US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華康正顏楷體W7(P)"/>
              </a:rPr>
              <a:t>內容與規準（續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875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（一）</a:t>
            </a:r>
            <a:r>
              <a:rPr b="0" lang="zh-TW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張新仁：中小學教師教學評鑑工具之發展編製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（二）潘慧玲：發展國民中小學教師教學專業能力指標之研究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（三）張德銳：發展性教學輔導系統手冊</a:t>
            </a:r>
            <a:r>
              <a:rPr b="0" lang="en-US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〈</a:t>
            </a:r>
            <a:r>
              <a:rPr b="0" lang="zh-TW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簡易版</a:t>
            </a:r>
            <a:r>
              <a:rPr b="0" lang="en-US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（四）台北市：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華康儷中黑"/>
                <a:ea typeface="華康儷中黑"/>
                <a:hlinkClick r:id="rId1"/>
              </a:rPr>
              <a:t>教學專業發展系統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華康儷中黑"/>
                <a:ea typeface="華康儷中黑"/>
                <a:hlinkClick r:id="rId2"/>
              </a:rPr>
              <a:t>.d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（五）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華康儷中黑"/>
                <a:ea typeface="華康儷中黑"/>
                <a:hlinkClick r:id="rId3"/>
              </a:rPr>
              <a:t>台北縣：推動「教學精進、專業昇華」方案－以試辦學校「形成性導向」 之教學專業評鑑工作試辦計畫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（六）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華康儷中黑"/>
                <a:ea typeface="華康儷中黑"/>
                <a:hlinkClick r:id="rId4"/>
              </a:rPr>
              <a:t>高雄市：國民小學學校評鑑實施要點與學校評鑑指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（七）發展性教學檔案系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ahoma"/>
                <a:ea typeface="華康正顏楷體W5(P)"/>
              </a:rPr>
              <a:t> </a:t>
            </a:r>
            <a:r>
              <a:rPr b="0" lang="zh-TW" sz="4800" spc="-1" strike="noStrike">
                <a:solidFill>
                  <a:srgbClr val="ff0000"/>
                </a:solidFill>
                <a:latin typeface="華康正顏楷體W7(P)"/>
                <a:ea typeface="華康正顏楷體W7(P)"/>
              </a:rPr>
              <a:t>試辦方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7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105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於</a:t>
            </a:r>
            <a:r>
              <a:rPr b="0" lang="zh-TW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自願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原則下，鼓勵學校向縣市教育局  申請試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5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辦理學校</a:t>
            </a:r>
            <a:r>
              <a:rPr b="0" lang="zh-TW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教師亦依自願方式辦理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5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辦理計畫期程</a:t>
            </a:r>
            <a:r>
              <a:rPr b="0" lang="zh-TW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二至三年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5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辦李學校</a:t>
            </a:r>
            <a:r>
              <a:rPr b="0" lang="zh-TW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逐年</a:t>
            </a:r>
            <a:r>
              <a:rPr b="0" lang="en-US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(</a:t>
            </a:r>
            <a:r>
              <a:rPr b="0" lang="zh-TW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多年</a:t>
            </a:r>
            <a:r>
              <a:rPr b="0" lang="en-US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)</a:t>
            </a:r>
            <a:r>
              <a:rPr b="0" lang="zh-TW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提出申請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，教育行政單位審查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5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學校實施前，應就評鑑目的、評鑑內容、評鑑規準及實施方式，為適當宣導和訓練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5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每年檢討評估可行性，決定是否繼續辦理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-243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評鑑方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1483920"/>
            <a:ext cx="7343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自我評鑑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學校自行發展自我評鑑檢核表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由受評教師填寫，逐項檢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校內評鑑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由學校教師專業發展評鑑小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安排評鑑人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進行定期或不定期評鑑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-3160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辦理期程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自我評鑑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每年一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校內評鑑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每年一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-387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評鑑方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3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應兼重過程及結果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得採多元途徑辦理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Tahoma"/>
                <a:ea typeface="華康儷中黑"/>
              </a:rPr>
              <a:t>教學觀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cc"/>
                </a:solidFill>
                <a:latin typeface="Tahoma"/>
                <a:ea typeface="華康儷中黑"/>
              </a:rPr>
              <a:t>教學檔案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晤談教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蒐集學生、家長教學反應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0720" y="-387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評鑑方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34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教學觀察之實施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由校長召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以</a:t>
            </a:r>
            <a:r>
              <a:rPr b="0" lang="zh-TW" sz="3600" spc="-1" strike="noStrike">
                <a:solidFill>
                  <a:srgbClr val="0033cc"/>
                </a:solidFill>
                <a:latin typeface="Tahoma"/>
                <a:ea typeface="華康儷中黑"/>
              </a:rPr>
              <a:t>同領域或同學年教師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為觀察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必要時得加入學校教師專業發展評鑑小組推薦之教師或學者專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-2430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華康正顏楷體W7(P)"/>
                <a:ea typeface="華康正顏楷體W7(P)"/>
              </a:rPr>
              <a:t>評鑑方式</a:t>
            </a:r>
            <a:r>
              <a:rPr b="0" lang="en-US" sz="4400" spc="-1" strike="noStrike">
                <a:solidFill>
                  <a:srgbClr val="ff0000"/>
                </a:solidFill>
                <a:latin typeface="華康正顏楷體W7(P)"/>
                <a:ea typeface="華康正顏楷體W7(P)"/>
              </a:rPr>
              <a:t>(</a:t>
            </a:r>
            <a:r>
              <a:rPr b="0" lang="zh-TW" sz="4400" spc="-1" strike="noStrike">
                <a:solidFill>
                  <a:srgbClr val="ff0000"/>
                </a:solidFill>
                <a:latin typeface="華康正顏楷體W7(P)"/>
                <a:ea typeface="華康正顏楷體W7(P)"/>
              </a:rPr>
              <a:t>二</a:t>
            </a:r>
            <a:r>
              <a:rPr b="0" lang="en-US" sz="4400" spc="-1" strike="noStrike">
                <a:solidFill>
                  <a:srgbClr val="ff0000"/>
                </a:solidFill>
                <a:latin typeface="華康正顏楷體W7(P)"/>
                <a:ea typeface="華康正顏楷體W7(P)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314000"/>
            <a:ext cx="7885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學校應將個別受評教師之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評鑑結果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，以書面個別通知教師並予以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保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根據評鑑結果對教師專業表現給予肯定和回饋；對於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個別教師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成長需求，提供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適當協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對於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整體性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教師成長需求，提供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校內外在職進修機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對於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初任教學二年內之教師或教學有困難之教師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，得安排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教學輔導教師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予以協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為未達規準之教師，應於接獲通知一個月內，由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評鑑小組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華康儷中黑"/>
              </a:rPr>
              <a:t>與之共同規劃其相關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  <a:ea typeface="華康儷中黑"/>
              </a:rPr>
              <a:t>輔導協助成長計畫並進行複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0720" y="-387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學校教師專業發展評鑑小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7343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由辦理之學校設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負責推動評鑑工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小組成員應包括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cc"/>
                </a:solidFill>
                <a:latin typeface="Tahoma"/>
                <a:ea typeface="華康儷中黑"/>
              </a:rPr>
              <a:t>校長（召集人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cc"/>
                </a:solidFill>
                <a:latin typeface="Tahoma"/>
                <a:ea typeface="華康儷中黑"/>
              </a:rPr>
              <a:t>教務主任（執行秘書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cc"/>
                </a:solidFill>
                <a:latin typeface="Tahoma"/>
                <a:ea typeface="華康儷中黑"/>
              </a:rPr>
              <a:t>教師（會）代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cc"/>
                </a:solidFill>
                <a:latin typeface="Tahoma"/>
                <a:ea typeface="華康儷中黑"/>
              </a:rPr>
              <a:t>家長會代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人數及選出方式，由校務會議決定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應重視教師之參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負責工作：推動教師專業發展評鑑工作，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研擬辦理計畫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評鑑小組負責推薦評鑑人員，不必然是評鑑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92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應包括：評鑑目的、評鑑內容、評鑑規準、評鑑方式、學校教師專業發展評鑑小組的組成比例及產生方式、評鑑人員之比例及產生方式、評鑑實施時程評鑑結果之應用及經費需求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經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華康儷中黑"/>
              </a:rPr>
              <a:t>校務會議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通過後，報請主管教育行政機關申請試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000" y="-360"/>
            <a:ext cx="81644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「學校教師專業發展評鑑計畫」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內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目次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417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背景說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評鑑目的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評鑑的精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內容與規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評鑑方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評鑑組織、成員與職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「學校教師專業發展評鑑計畫」內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92720" y="1267920"/>
            <a:ext cx="3851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辦理經費補助與審查作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配套措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試辦時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華康中黑體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中黑體"/>
              </a:rPr>
              <a:t>經驗與傳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中黑體"/>
              </a:rPr>
              <a:t>學校的推動策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15640" y="1483920"/>
            <a:ext cx="748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由</a:t>
            </a:r>
            <a:r>
              <a:rPr b="0" lang="zh-TW" sz="36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主管教育行政機關</a:t>
            </a: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設置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華康儷中黑"/>
                <a:ea typeface="華康儷中黑"/>
              </a:rPr>
              <a:t>訂定教師專業發展評鑑參考規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華康儷中黑"/>
                <a:ea typeface="華康儷中黑"/>
              </a:rPr>
              <a:t>審議學校教師專業發展評鑑計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辦理輔導、考評實施成效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建立專業成長輔導機制並規劃相關工作</a:t>
            </a:r>
            <a:r>
              <a:rPr b="0" lang="zh-TW" sz="3600" spc="-1" strike="noStrike">
                <a:solidFill>
                  <a:srgbClr val="3333cc"/>
                </a:solidFill>
                <a:latin typeface="華康儷中黑"/>
                <a:ea typeface="華康儷中黑"/>
              </a:rPr>
              <a:t>（含教學輔導教師之資格、遴選、權利義務、輔導方式等規定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50720" y="-3160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教師專業發展評鑑推動委員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0720" y="-3160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推動委員會之組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3456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成員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ahoma"/>
                <a:ea typeface="華康儷中黑"/>
              </a:rPr>
              <a:t>教育行政人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ahoma"/>
                <a:ea typeface="華康儷中黑"/>
              </a:rPr>
              <a:t>學校行政人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ahoma"/>
                <a:ea typeface="華康儷中黑"/>
              </a:rPr>
              <a:t>學者專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ahoma"/>
                <a:ea typeface="華康儷中黑"/>
              </a:rPr>
              <a:t>同級教師會代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ahoma"/>
                <a:ea typeface="華康儷中黑"/>
              </a:rPr>
              <a:t>家長團體代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組成方式及比例由主管教育行政機關定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具備中小學教學經驗五年以上之代表，不得少於委員總額二分之一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207720"/>
            <a:ext cx="77932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5(P)"/>
              </a:rPr>
              <a:t>申請與審查作業之職責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依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學校整體配合性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規劃內容適切性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計畫內容可行性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申請經費合理性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及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學校參與教師比例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等五項指標，</a:t>
            </a:r>
            <a:r>
              <a:rPr b="0" lang="zh-TW" sz="32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審查學校教師專業發展評鑑計畫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，並應</a:t>
            </a:r>
            <a:r>
              <a:rPr b="0" lang="zh-TW" sz="3200" spc="-1" strike="noStrike" u="sng">
                <a:solidFill>
                  <a:srgbClr val="0033cc"/>
                </a:solidFill>
                <a:uFillTx/>
                <a:latin typeface="華康儷中黑"/>
                <a:ea typeface="華康儷中黑"/>
              </a:rPr>
              <a:t>研擬各縣市辦理教師專業發展評鑑計畫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華康儷中黑"/>
                <a:ea typeface="華康儷中黑"/>
              </a:rPr>
              <a:t>(</a:t>
            </a:r>
            <a:r>
              <a:rPr b="0" lang="zh-TW" sz="3200" spc="-1" strike="noStrike" u="sng">
                <a:solidFill>
                  <a:srgbClr val="0033cc"/>
                </a:solidFill>
                <a:uFillTx/>
                <a:latin typeface="華康儷中黑"/>
                <a:ea typeface="華康儷中黑"/>
              </a:rPr>
              <a:t>含後設評鑑機制及經費明細表</a:t>
            </a:r>
            <a:r>
              <a:rPr b="0" lang="en-US" sz="32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併同學校教師專業發展評鑑計畫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初審結果及相關資料</a:t>
            </a:r>
            <a:r>
              <a:rPr b="0" lang="zh-TW" sz="32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報請教育部主管單位複核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4046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教育部主管單位審查作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5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應組成專案小組召開</a:t>
            </a:r>
            <a:r>
              <a:rPr b="1" lang="zh-TW" sz="3200" spc="-1" strike="noStrike">
                <a:solidFill>
                  <a:srgbClr val="ff3300"/>
                </a:solidFill>
                <a:latin typeface="華康儷中黑"/>
                <a:ea typeface="華康儷中黑"/>
              </a:rPr>
              <a:t>複審會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並得邀請學者專家、教師團體代表及家長團體代表參與，</a:t>
            </a:r>
            <a:r>
              <a:rPr b="1" lang="zh-TW" sz="3200" spc="-1" strike="noStrike">
                <a:solidFill>
                  <a:srgbClr val="ff3300"/>
                </a:solidFill>
                <a:latin typeface="華康儷中黑"/>
                <a:ea typeface="華康儷中黑"/>
              </a:rPr>
              <a:t>審查各縣市教師專業發展評鑑辦理計畫</a:t>
            </a:r>
            <a:r>
              <a:rPr b="1" lang="en-US" sz="3200" spc="-1" strike="noStrike">
                <a:solidFill>
                  <a:srgbClr val="0000ff"/>
                </a:solidFill>
                <a:latin typeface="華康儷中黑"/>
                <a:ea typeface="華康儷中黑"/>
              </a:rPr>
              <a:t>(</a:t>
            </a:r>
            <a:r>
              <a:rPr b="1" lang="zh-TW" sz="3200" spc="-1" strike="noStrike">
                <a:solidFill>
                  <a:srgbClr val="0000ff"/>
                </a:solidFill>
                <a:latin typeface="華康儷中黑"/>
                <a:ea typeface="華康儷中黑"/>
              </a:rPr>
              <a:t>含後設評鑑機制及經費明細表</a:t>
            </a:r>
            <a:r>
              <a:rPr b="1" lang="en-US" sz="3200" spc="-1" strike="noStrike">
                <a:solidFill>
                  <a:srgbClr val="0000ff"/>
                </a:solidFill>
                <a:latin typeface="華康儷中黑"/>
                <a:ea typeface="華康儷中黑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1" lang="zh-TW" sz="3200" spc="-1" strike="noStrike">
                <a:solidFill>
                  <a:srgbClr val="ff3300"/>
                </a:solidFill>
                <a:latin typeface="華康儷中黑"/>
                <a:ea typeface="華康儷中黑"/>
              </a:rPr>
              <a:t>學校教師專業發展評鑑計畫及相關資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依審查結果及經費狀況，擇優循行政程序辦理經費補助事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辦理經費補助原則及標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各縣市政府補助之額度，原則依申請辦理教師專業發展評鑑之</a:t>
            </a:r>
            <a:r>
              <a:rPr b="0" lang="zh-TW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學校校數及教師人數計</a:t>
            </a:r>
            <a:r>
              <a:rPr b="0" lang="en-US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參加形式</a:t>
            </a:r>
            <a:r>
              <a:rPr b="0" lang="en-US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試辦學校得設</a:t>
            </a:r>
            <a:r>
              <a:rPr b="0" lang="zh-TW" sz="32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教學輔導教師，每輔導一名教師，得酌減授課二節課，最多以減授四節課為上限。補助其代課鐘點費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44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補助經費項目以</a:t>
            </a:r>
            <a:r>
              <a:rPr b="0" lang="zh-TW" sz="32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業務費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含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出席費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宣導費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培訓費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研習費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華康儷中黑"/>
                <a:ea typeface="華康儷中黑"/>
              </a:rPr>
              <a:t>代課鐘點費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、</a:t>
            </a:r>
            <a:r>
              <a:rPr b="0" lang="zh-TW" sz="32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差旅費、雜支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等為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088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配套措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01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一、</a:t>
            </a:r>
            <a:r>
              <a:rPr b="0" lang="zh-TW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完成中小學教師專業評鑑宣導手冊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二、</a:t>
            </a:r>
            <a:r>
              <a:rPr b="0" lang="zh-TW" sz="30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分區辦理宣導說明會並擬定作業程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教研會：分北、中兩區，調訓對象為縣市政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        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課（股）長、督學</a:t>
            </a:r>
            <a:r>
              <a:rPr b="0" lang="zh-TW" sz="32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、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承辦人員、國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        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輔導團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國教司：分南、北、東三區，調訓對象為國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        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小校長、主任、組長</a:t>
            </a:r>
            <a:r>
              <a:rPr b="0" lang="zh-TW" sz="32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、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教師</a:t>
            </a:r>
            <a:r>
              <a:rPr b="0" lang="zh-TW" sz="32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、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教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        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會代表、家長團體代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中部辦公室：調訓對象為高中職學校行政人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        </a:t>
            </a: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和教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三、</a:t>
            </a:r>
            <a:r>
              <a:rPr b="0" lang="zh-TW" sz="28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完成各種實施案例</a:t>
            </a:r>
            <a:r>
              <a:rPr b="0" lang="en-US" sz="28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(</a:t>
            </a:r>
            <a:r>
              <a:rPr b="0" lang="zh-TW" sz="28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含計畫書寫引導</a:t>
            </a:r>
            <a:r>
              <a:rPr b="0" lang="en-US" sz="28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1c1c"/>
                </a:solidFill>
                <a:latin typeface="華康儷中黑"/>
                <a:ea typeface="華康儷中黑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088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配套措施（續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8101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三、申請作業時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938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四月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試辦學校向縣市教育局提出申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938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五月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縣市政府教育局初審後向國教司或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中部辦公室提出申請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938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六月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國教司、中部辦公室審查核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938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七月、八月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辦理各項研習和人才培育（縣市政府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負責國中小，中部辦公室負責高中職）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配套措施（續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388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   </a:t>
            </a:r>
            <a:r>
              <a:rPr b="0" lang="zh-TW" sz="36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四、培育教師專業評鑑人才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規劃推動知能研習：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由辦理學校「教師專業發展評鑑小組」成員參加，課程共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一天</a:t>
            </a:r>
            <a:r>
              <a:rPr b="0" lang="en-US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6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小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初</a:t>
            </a:r>
            <a:r>
              <a:rPr b="0" lang="en-US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(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進</a:t>
            </a:r>
            <a:r>
              <a:rPr b="0" lang="en-US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)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階培訓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：由辦理學校自願參與之專任教師參加（含評鑑人員和受評者），課程共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三天</a:t>
            </a:r>
            <a:r>
              <a:rPr b="0" lang="en-US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18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小時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教學輔導教師培訓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：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五年以上合格教師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，完    成初階培訓，且具有實際參與評鑑經驗者參加，課程共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十天</a:t>
            </a:r>
            <a:r>
              <a:rPr b="0" lang="en-US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60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小時</a:t>
            </a:r>
            <a:r>
              <a:rPr b="0" lang="en-US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。</a:t>
            </a:r>
            <a:r>
              <a:rPr b="0" lang="en-US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可再參加講師培訓</a:t>
            </a:r>
            <a:r>
              <a:rPr b="0" lang="en-US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講師培訓：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完成初階培訓，且表達能力卓越者參加。可主講初階課程，共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五天</a:t>
            </a:r>
            <a:r>
              <a:rPr b="0" lang="en-US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30</a:t>
            </a:r>
            <a:r>
              <a:rPr b="0" lang="zh-TW" sz="3000" spc="-1" strike="noStrike">
                <a:solidFill>
                  <a:srgbClr val="0033cc"/>
                </a:solidFill>
                <a:latin typeface="華康儷中黑"/>
                <a:ea typeface="華康儷中黑"/>
              </a:rPr>
              <a:t>小時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。</a:t>
            </a:r>
            <a:r>
              <a:rPr b="0" lang="en-US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可再參加教學輔導教師培訓</a:t>
            </a:r>
            <a:r>
              <a:rPr b="0" lang="en-US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教學輔導教師之職責（續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05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1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在其他教學性事務上提供建議與協助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270000">
              <a:lnSpc>
                <a:spcPct val="125000"/>
              </a:lnSpc>
              <a:spcBef>
                <a:spcPts val="1125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分享教學資源與材料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270000">
              <a:lnSpc>
                <a:spcPct val="125000"/>
              </a:lnSpc>
              <a:spcBef>
                <a:spcPts val="1125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協助設計課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270000">
              <a:lnSpc>
                <a:spcPct val="125000"/>
              </a:lnSpc>
              <a:spcBef>
                <a:spcPts val="1125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示範教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270000">
              <a:lnSpc>
                <a:spcPct val="125000"/>
              </a:lnSpc>
              <a:spcBef>
                <a:spcPts val="1125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協助改善班級經營與親師溝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270000">
              <a:lnSpc>
                <a:spcPct val="125000"/>
              </a:lnSpc>
              <a:spcBef>
                <a:spcPts val="1125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協助進行學習評量等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24000" y="1700280"/>
            <a:ext cx="41734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培育教師專業評鑑人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3141720"/>
            <a:ext cx="2520720" cy="10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推動知能研習</a:t>
            </a:r>
            <a:r>
              <a:rPr b="0" lang="zh-TW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（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天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5013360"/>
            <a:ext cx="2519280" cy="91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教學輔導教師培訓</a:t>
            </a:r>
            <a:r>
              <a:rPr b="0" lang="zh-TW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（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10</a:t>
            </a:r>
            <a:r>
              <a:rPr b="0" lang="zh-TW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天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5013360"/>
            <a:ext cx="21528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講師培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（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4-6</a:t>
            </a:r>
            <a:r>
              <a:rPr b="0" lang="zh-TW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天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87600" y="2567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27280" y="2708280"/>
            <a:ext cx="3386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54480" y="2174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421000"/>
            <a:ext cx="144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4508640"/>
            <a:ext cx="24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414972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2637000"/>
            <a:ext cx="176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708280"/>
            <a:ext cx="172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4508640"/>
            <a:ext cx="7920" cy="47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4508640"/>
            <a:ext cx="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3213000"/>
            <a:ext cx="2500200" cy="9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初</a:t>
            </a:r>
            <a:r>
              <a:rPr b="0" lang="en-US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0" lang="zh-TW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進</a:t>
            </a:r>
            <a:r>
              <a:rPr b="0" lang="en-US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0" lang="zh-TW" sz="3000" spc="-1" strike="noStrike">
                <a:solidFill>
                  <a:srgbClr val="333399"/>
                </a:solidFill>
                <a:latin typeface="標楷體"/>
                <a:ea typeface="標楷體"/>
              </a:rPr>
              <a:t>階研習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（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3</a:t>
            </a:r>
            <a:r>
              <a:rPr b="0" lang="zh-TW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天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-243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背景說明－法源依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目前立法院一讀通過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華康儷中黑"/>
              </a:rPr>
              <a:t>「教師法」部分條文修正草案第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華康儷中黑"/>
              </a:rPr>
              <a:t>23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華康儷中黑"/>
              </a:rPr>
              <a:t>條之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華康儷中黑"/>
              </a:rPr>
              <a:t>1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華康儷中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「   為提升教師專業成長及達成教學與輔導之成效，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華康儷中黑"/>
              </a:rPr>
              <a:t>高級中等以下學校教師應接受評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華康儷中黑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前項評鑑之類別、內容、標準、方式程序及其他相關事項之辦法，由中央主管機關定之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推動知能研習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協助瞭解實施計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協助瞭解規劃與推動的可行策略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參加對象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學校「評鑑推動小組」成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育局承辦人員和主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直轄市、縣（市）「推動委員會」成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推動知能研習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主辦單位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試辦縣市之教育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研習時數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天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小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實施方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講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-3812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問與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推動知能研習（續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5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研習課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師專業發展評鑑的基本概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師專業發展評鑑的參考規準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推動「教師專業發展評鑑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的運作參考策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評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研習參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全程參與者給予研習時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評鑑人員初階研習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目的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協助瞭解試辦實施計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培訓可擔任評鑑工作的基本人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參加對象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資格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資深教師（除特殊情形外，建議以三年以上正式教學年資為原則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願意擔任評鑑人員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評鑑人員初階研習（續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2204640"/>
            <a:ext cx="730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參加人數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研習時數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天，每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小時，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小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實施方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專題研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講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實作與演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評鑑人員初階研習（續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6000" y="2276640"/>
            <a:ext cx="730872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研習課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師專業發展評鑑的基本概念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師專業發展評鑑的參考規準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師自評及專業成長計畫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學觀察系統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學檔案的製作與評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評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研習參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學觀察與教學檔案的實作評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合格者授予初階培訓研習證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評鑑人員進階研習（續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2276640"/>
            <a:ext cx="730872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研習課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學檔案製作與運用（含學習檔案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室觀察與會談技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學策略與實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專業成長計畫與實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評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研習參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學觀察與教學檔案的實作評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合格者授予進階培訓研習證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教學輔導教師培訓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66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目的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培訓各校教學輔導教師及可至他校評鑑之人力資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培訓提升教師在對初任教師及教學有困難之教師之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學輔導能力與應用技巧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教學輔導教師培訓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848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參加對象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資格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244520" indent="-704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年以上正式教師之年資，並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年以上實際教學經驗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如學校有實際困難時，得專案報請教育局核定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4520" indent="-704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具有評鑑人員初階證書，並有自評及校內評鑑的實際經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4520" indent="-704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具學科或學習領域教學相關知能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4520" indent="-704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有擔任教學輔導教師之意願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4520" indent="-704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能進行教學示範，並輔導其他教師教學，提供相關教育諮詢服務，協助教師解決問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教學輔導教師培訓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309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參加人數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7316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研習時數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73160" indent="-53352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天，每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小時，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小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實施方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73160" indent="-53352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專題研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7316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講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7316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實作與演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7840" y="-360"/>
            <a:ext cx="80661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背景說明</a:t>
            </a: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－法源依據（續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05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在「教師法」部分條文修正草案尚未通過前，現階段暫依下列規定辦理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一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教育基本法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條、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條、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13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9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13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日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14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日教育部全國教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發展會議結論與建議事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推動「教育部補助試辦教師專業發展評鑑實施計畫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三、</a:t>
            </a:r>
            <a:r>
              <a:rPr b="0" lang="en-US" sz="32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98</a:t>
            </a:r>
            <a:r>
              <a:rPr b="0" lang="zh-TW" sz="3200" spc="-1" strike="noStrike">
                <a:solidFill>
                  <a:srgbClr val="333399"/>
                </a:solidFill>
                <a:latin typeface="華康儷中黑"/>
                <a:ea typeface="華康儷中黑"/>
              </a:rPr>
              <a:t>學年度「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教育部補助辦理教師專業發展評鑑實施要點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教學輔導教師培訓研習（續）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000" y="1962000"/>
            <a:ext cx="7956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研習課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學輔導的理論與實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人際關係與溝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課程教學與班級經營（含親師溝通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室觀察與會談技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學檔案製作（含學習檔案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教學行動研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評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研習參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學習檔案評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合格者授予教學輔導教師證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建立教學輔導教師機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教學輔導教師的服務對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初任教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新進至學校服務之教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自願成長，有意願接受輔導之教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270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學有困難的教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799"/>
              </a:spcBef>
              <a:buNone/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建立教學輔導教師機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教學輔導教師之資格、遴選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權利義務、輔導方式等規定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由主管教育行政機關定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請參考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育部「縣市政府辦理教學輔導教師實施計畫（參考範例） 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「臺北市立國民中小學教學輔導教師試辦方案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40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研擬後設評鑑機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委託學者專家，研擬教師專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發展評鑑的後設評鑑機制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並據以實施後設評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其結果作為次年度補助額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和計畫推動之參考依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發展參考規準及實施手冊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教育部有系統的委託國內學術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究單位，進行下列教師專業發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評鑑的相關研究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評鑑參考規準的建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評鑑工具的研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評鑑操作手冊的研擬、試用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與修訂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411280" y="2349360"/>
            <a:ext cx="4176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校內辦理期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ahoma"/>
              </a:rPr>
              <a:t>宣傳階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57360"/>
            <a:ext cx="7201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辦理校內教師專業發評鑑計畫宣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初次申請試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-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凝聚共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續辦學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-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精進成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ahoma"/>
              </a:rPr>
              <a:t>發展階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77336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定期召開相關會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推動小組會議，評鑑會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薦派參與計畫教師參與評鑑人員初階培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按領域人數規劃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建立教師專業發展評鑑校本規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依據教育部學者專家規準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建立各領域教師專業發展評鑑規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</a:rPr>
              <a:t>依據領域需求增減校本規準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Tahoma"/>
              </a:rPr>
              <a:t>實施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1628640"/>
            <a:ext cx="820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教師自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上學期完成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教師校內他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下學期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月底完成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辦理教師專業成長課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各領域或全校性研習、教學輔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教師產生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ahoma"/>
              </a:rPr>
              <a:t>檢討回饋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857600" y="1989000"/>
            <a:ext cx="590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辦理檢討會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整個計畫的修正與調整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後設評鑑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追蹤與輔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規準的修整與成長的追蹤，教學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導教師的執行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8487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當教師專業發展評鑑出現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8501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為什麼要做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一定要做嗎？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評鑑的真正目的是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專業成長對學生學習是否有幫助？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我願意專業成長，但不需要加入計劃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配套在哪裡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50720" y="-3160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讓我們一起互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華康儷中黑"/>
              </a:rPr>
              <a:t>因為用心，所以溫馨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華康儷中黑"/>
              </a:rPr>
              <a:t>因為真心，所以真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華康儷中黑"/>
              </a:rPr>
              <a:t>因此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cc"/>
                </a:solidFill>
                <a:latin typeface="Tahoma"/>
                <a:ea typeface="華康儷中黑"/>
              </a:rPr>
              <a:t>心動不如馬上行動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33cc"/>
                </a:solidFill>
                <a:latin typeface="Tahoma"/>
                <a:ea typeface="華康正顏楷體W7(P)"/>
              </a:rPr>
              <a:t>報告完畢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33cc"/>
                </a:solidFill>
                <a:latin typeface="Tahoma"/>
                <a:ea typeface="華康正顏楷體W7(P)"/>
              </a:rPr>
              <a:t>謝謝大家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222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4320" y="92160"/>
            <a:ext cx="745632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老師擔心的是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002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參與評鑑工作是不是會加重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評鑑後教師是否會被標籤化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評鑑人員的專業足夠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評鑑是否有背後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…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評鑑過程與結果是否會被公開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華康儷中黑"/>
              </a:rPr>
              <a:t>會與考績掛鉤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-3160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於是，我們可以這麼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76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cc"/>
                </a:solidFill>
                <a:latin typeface="Tahoma"/>
                <a:ea typeface="華康儷中黑"/>
              </a:rPr>
              <a:t>教師專業發展評鑑＝健康檢查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76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cc"/>
                </a:solidFill>
                <a:latin typeface="Tahoma"/>
                <a:ea typeface="華康儷中黑"/>
              </a:rPr>
              <a:t>評鑑是為了「精進」，而非為了「證明」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76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以自我評鑑出發，促進對話、發現問題、研擬改進策略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(</a:t>
            </a:r>
            <a:r>
              <a:rPr b="0" lang="zh-TW" sz="3400" spc="-1" strike="noStrike">
                <a:solidFill>
                  <a:srgbClr val="3333cc"/>
                </a:solidFill>
                <a:latin typeface="Tahoma"/>
                <a:ea typeface="華康儷中黑"/>
              </a:rPr>
              <a:t>自評即省思</a:t>
            </a:r>
            <a:r>
              <a:rPr b="0" lang="en-US" sz="3400" spc="-1" strike="noStrike">
                <a:solidFill>
                  <a:srgbClr val="3333cc"/>
                </a:solidFill>
                <a:latin typeface="Tahoma"/>
                <a:ea typeface="華康儷中黑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76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提供一個檢視、對話、反思、回饋的系統讓教師們可以了解專業如何精進  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(</a:t>
            </a:r>
            <a:r>
              <a:rPr b="0" lang="zh-TW" sz="3400" spc="-1" strike="noStrike">
                <a:solidFill>
                  <a:srgbClr val="3333cc"/>
                </a:solidFill>
                <a:latin typeface="Tahoma"/>
                <a:ea typeface="華康儷中黑"/>
              </a:rPr>
              <a:t>他評即對話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華康儷中黑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華康儷中黑"/>
              </a:rPr>
              <a:t>從不斷的自我了解與省視中獲得回饋，並以此釐清未來專業發展的方向，作為規劃未來</a:t>
            </a:r>
            <a:r>
              <a:rPr b="0" lang="zh-TW" sz="3200" spc="-1" strike="noStrike">
                <a:solidFill>
                  <a:srgbClr val="0033cc"/>
                </a:solidFill>
                <a:latin typeface="Tahoma"/>
                <a:ea typeface="華康儷中黑"/>
              </a:rPr>
              <a:t>專業發展的依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因此，評鑑的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125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華康儷中黑"/>
              </a:rPr>
              <a:t>教師專業發展評鑑係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華康儷中黑"/>
              </a:rPr>
              <a:t>「形成性教師評鑑」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華康儷中黑"/>
              </a:rPr>
              <a:t>→和教師績效考核、不適任教師處理、教師分級制度脫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25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華康儷中黑"/>
              </a:rPr>
              <a:t>目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華康儷中黑"/>
              </a:rPr>
              <a:t>在運用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華康儷中黑"/>
              </a:rPr>
              <a:t>另一雙善意的眼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華康儷中黑"/>
              </a:rPr>
              <a:t>協助教師在同儕對話中，提升教學品質，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華康儷中黑"/>
              </a:rPr>
              <a:t>促進教師的專業發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25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華康儷中黑"/>
              </a:rPr>
              <a:t>目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華康儷中黑"/>
              </a:rPr>
              <a:t>在協助教師瞭解教學之優點、待改進之處，並進一步協助教師改進教學或提供適當的在職進修課程和計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136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136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ahoma"/>
                <a:ea typeface="華康正顏楷體W7(P)"/>
              </a:rPr>
              <a:t>而評鑑的精神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以</a:t>
            </a:r>
            <a:r>
              <a:rPr b="0" lang="zh-TW" sz="3600" spc="-1" strike="noStrike">
                <a:solidFill>
                  <a:srgbClr val="3333cc"/>
                </a:solidFill>
                <a:latin typeface="華康儷中黑"/>
                <a:ea typeface="華康儷中黑"/>
              </a:rPr>
              <a:t>教師專業發展</a:t>
            </a: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為主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鼓勵學校試辦，教師自願參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鼓勵教師以自我省思及同儕專業對話為成長策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以精進</a:t>
            </a:r>
            <a:r>
              <a:rPr b="0" lang="zh-TW" sz="3600" spc="-1" strike="noStrike">
                <a:solidFill>
                  <a:srgbClr val="3333cc"/>
                </a:solidFill>
                <a:latin typeface="華康儷中黑"/>
                <a:ea typeface="華康儷中黑"/>
              </a:rPr>
              <a:t>教學和班級經營</a:t>
            </a: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為主要成長內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儷中黑"/>
                <a:ea typeface="華康儷中黑"/>
              </a:rPr>
              <a:t>學生的學習表現有效提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08:41:41Z</dcterms:created>
  <dc:creator>慧淑</dc:creator>
  <dc:description/>
  <dc:language>en-US</dc:language>
  <cp:lastModifiedBy>user</cp:lastModifiedBy>
  <dcterms:modified xsi:type="dcterms:W3CDTF">2010-02-25T10:44:22Z</dcterms:modified>
  <cp:revision>187</cp:revision>
  <dc:subject/>
  <dc:title>教師專業發展評鑑宣導手冊 </dc:title>
</cp:coreProperties>
</file>