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7D9-D71D-411A-944B-CA5E21C0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B75-7B9A-4514-93FB-68BE84F4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92E-0513-4DD4-AC7F-BBD63EDE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E1A-D74F-4309-88D9-A272F5D1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1262-7854-47C8-B219-B4AA4CEF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EA2-350B-41B8-A4E3-38430EDC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B645-A830-4283-8137-10218625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24FC-924F-442A-BE94-95E2024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8E8-1E41-4044-9C86-EB8D976F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D59A-D4BA-425A-9C17-E0D68C72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7793-E190-4169-8656-52D7CCE7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FB7-FF7A-4EAD-AA2F-6685E77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70FF-D56F-4DC0-907E-A99ABE3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CA75-A9CA-42E7-BD4D-1DA8D6C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75ED-B66A-4543-9D96-374B1A7B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AD8B-1D00-4C7C-8243-D6CA6CF1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8ED5-872F-4022-8090-D593420A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F10-822E-47C9-B7F0-84A6EA95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91E-B953-4476-972A-EF13673D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DAA-7842-42C8-9590-33767D2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6A5-7732-4234-9221-626489C5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E3A-E55C-4096-B083-19BA4854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466-9FD1-4FF1-8DE8-C70A291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0DD-DB46-4DA2-89C1-9A020DA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FE8C-0219-41F1-8329-2B4C2A9654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D7C6-3888-4525-BE4A-AF68941848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OPQRSTUV/&#23560;&#26989;&#25104;&#38263;&#33287;&#30465;&#24605;.ppt" TargetMode="External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OPQRSTUV/&#23560;&#26989;&#25104;&#38263;&#33287;&#30465;&#24605;.ppt" TargetMode="External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7816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教師專業發展評鑑</a:t>
            </a:r>
            <a:r>
              <a:rPr b="0" lang="en-US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-</a:t>
            </a:r>
            <a:br>
              <a:rPr sz="4400"/>
            </a:b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自評與專業成長計畫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臺北市立教育大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張德銳、丁一顧、李俊達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簡賢昌、高紅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468360" y="98280"/>
          <a:ext cx="8675640" cy="6162840"/>
        </p:xfrm>
        <a:graphic>
          <a:graphicData uri="http://schemas.openxmlformats.org/drawingml/2006/table">
            <a:tbl>
              <a:tblPr/>
              <a:tblGrid>
                <a:gridCol w="8675640"/>
              </a:tblGrid>
              <a:tr h="61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優  滿  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良  意  改                                           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 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研究發展與進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-1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參與教學研究工作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□ □ □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-2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研發教材、教法或教具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□ □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-3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參與校內外教師進修研習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□ □ □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-4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反思教學並尋求專業成長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□ □ 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98280"/>
          <a:ext cx="9035640" cy="5994720"/>
        </p:xfrm>
        <a:graphic>
          <a:graphicData uri="http://schemas.openxmlformats.org/drawingml/2006/table">
            <a:tbl>
              <a:tblPr/>
              <a:tblGrid>
                <a:gridCol w="9035640"/>
              </a:tblGrid>
              <a:tr h="59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優  滿  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良  意  改                                           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D 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敬業精神與態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D-1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信守教育專業倫理規範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□ □ □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D-2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願意投入時間與精力奉獻教育社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□ □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D-3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與學校同事、家長及社區好的合作關係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□ □ □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68360" y="98280"/>
          <a:ext cx="8675640" cy="6162840"/>
        </p:xfrm>
        <a:graphic>
          <a:graphicData uri="http://schemas.openxmlformats.org/drawingml/2006/table">
            <a:tbl>
              <a:tblPr/>
              <a:tblGrid>
                <a:gridCol w="8675640"/>
              </a:tblGrid>
              <a:tr h="61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壹、基本資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姓名：陳雯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級：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任教科目：歷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日期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5.11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貳、填寫說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自評表的目的係為了協助您自我覺察教學上的優缺點，進而產生自我改善的作用。為了達到自我診斷的目的，請您在閱讀完評鑑指標後，以慎重的態度，勾選最能真實代表您表現情形的欄位，然後在後面的意見陳述中，具體補充說明您整體表現的優劣得失以及自我改善的構想。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98280"/>
          <a:ext cx="8675640" cy="6151680"/>
        </p:xfrm>
        <a:graphic>
          <a:graphicData uri="http://schemas.openxmlformats.org/drawingml/2006/table">
            <a:tbl>
              <a:tblPr/>
              <a:tblGrid>
                <a:gridCol w="8675640"/>
              </a:tblGrid>
              <a:tr h="69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優  滿  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良  意  改                                           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課程設計與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1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展現課程設計能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□ 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2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研擬適切的教學計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□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□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□ □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…□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…□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…□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…□ □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…□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4247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8080"/>
                </a:solidFill>
                <a:latin typeface="標楷體"/>
                <a:ea typeface="標楷體"/>
              </a:rPr>
              <a:t>意見陳述（請就上述勾選狀況提供文字上之說明，如果空白不夠填寫，請自行加頁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808080"/>
                </a:solidFill>
                <a:latin typeface="標楷體"/>
                <a:ea typeface="標楷體"/>
              </a:rPr>
              <a:t>我的優點或特色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在課程設計與教學活動方面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，對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科教材熟悉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，有條理呈現完整教學活動，表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清晰生動有趣，能引起學生學習的注意力，協助學生掌握學習重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808080"/>
                </a:solidFill>
                <a:latin typeface="標楷體"/>
                <a:ea typeface="標楷體"/>
              </a:rPr>
              <a:t>我尚可成長和改進的空間的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缺乏運用多元評量方法以及並依據評量結果調整教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標楷體"/>
                <a:ea typeface="標楷體"/>
              </a:rPr>
              <a:t>3.</a:t>
            </a:r>
            <a:r>
              <a:rPr b="1" lang="zh-TW" sz="2400" spc="-1" strike="noStrike">
                <a:solidFill>
                  <a:srgbClr val="808080"/>
                </a:solidFill>
                <a:latin typeface="標楷體"/>
                <a:ea typeface="標楷體"/>
              </a:rPr>
              <a:t>我成長的構想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閱讀多元評量相關書籍或向有經驗的教師同儕請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觀察其他教師的教學，特別注意多元評量在教學之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錄影自己教學過程分析學習評量之多元運用狀況。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  <a:ea typeface="標楷體"/>
              </a:rPr>
              <a:t>自我評鑑與專業成長計畫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5267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教師自我評鑑係一種</a:t>
            </a:r>
            <a:r>
              <a:rPr b="0" lang="zh-TW" sz="3200" spc="-1" strike="noStrike">
                <a:solidFill>
                  <a:srgbClr val="0033cc"/>
                </a:solidFill>
                <a:latin typeface="Arial"/>
                <a:ea typeface="標楷體"/>
              </a:rPr>
              <a:t>發現問題、蒐集資訊、自我省思、成長改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的歷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教師自我評鑑要發揮功效，必須在最後一個階段上，著力於規劃與</a:t>
            </a:r>
            <a:r>
              <a:rPr b="0" lang="zh-TW" sz="3200" spc="-1" strike="noStrike">
                <a:solidFill>
                  <a:srgbClr val="0033cc"/>
                </a:solidFill>
                <a:latin typeface="Arial"/>
                <a:ea typeface="標楷體"/>
              </a:rPr>
              <a:t>執行專業成長計畫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才能竟全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886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  <a:ea typeface="標楷體"/>
              </a:rPr>
              <a:t>專業成長計畫的內涵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參與自我評鑑的教師自行設定，或者和評鑑者共同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協商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後，以具體的文字記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受評鑑教師可以採行的專業成長活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完成每個活動的預定時間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評鑑者必需提供給受評鑑教師的協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304920"/>
            <a:ext cx="8305920" cy="5943240"/>
            <a:chOff x="380880" y="304920"/>
            <a:chExt cx="8305920" cy="5943240"/>
          </a:xfrm>
        </p:grpSpPr>
        <p:grpSp>
          <p:nvGrpSpPr>
            <p:cNvPr id="180" name=""/>
            <p:cNvGrpSpPr/>
            <p:nvPr/>
          </p:nvGrpSpPr>
          <p:grpSpPr>
            <a:xfrm>
              <a:off x="380880" y="304920"/>
              <a:ext cx="8305920" cy="5410080"/>
              <a:chOff x="380880" y="304920"/>
              <a:chExt cx="8305920" cy="5410080"/>
            </a:xfrm>
          </p:grpSpPr>
          <p:sp>
            <p:nvSpPr>
              <p:cNvPr id="181" name=""/>
              <p:cNvSpPr/>
              <p:nvPr/>
            </p:nvSpPr>
            <p:spPr>
              <a:xfrm>
                <a:off x="380880" y="379440"/>
                <a:ext cx="1817640" cy="5164200"/>
              </a:xfrm>
              <a:prstGeom prst="rightArrow">
                <a:avLst>
                  <a:gd name="adj1" fmla="val 80120"/>
                  <a:gd name="adj2" fmla="val 24977"/>
                </a:avLst>
              </a:prstGeom>
              <a:solidFill>
                <a:srgbClr val="ffff99"/>
              </a:solidFill>
              <a:ln w="936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閱讀和研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參與討論會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觀賞影片和錄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影帶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知  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知道行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68560" y="304920"/>
                <a:ext cx="19461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調查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觀察他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分析自行運用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的情況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比較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選擇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計劃使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探  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探究行為的多種應用途徑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86200" y="304920"/>
                <a:ext cx="19461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角色扮演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在小團體中練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習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在教室中練習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紀錄試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批評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調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試  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試驗行為直到能夠掌握為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72080" y="304920"/>
                <a:ext cx="19479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有規則地使用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設計策略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把技術精純化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建  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建立行為在個人的教學行為庫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59760" y="795240"/>
                <a:ext cx="1427040" cy="4429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擴大使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發展資源檔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與同事分享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知識和技巧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決  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決定經常地廣泛使用行為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219320" y="5808600"/>
              <a:ext cx="3627720" cy="439560"/>
              <a:chOff x="1219320" y="5808600"/>
              <a:chExt cx="3627720" cy="439560"/>
            </a:xfrm>
          </p:grpSpPr>
          <p:sp>
            <p:nvSpPr>
              <p:cNvPr id="187" name=""/>
              <p:cNvSpPr/>
              <p:nvPr/>
            </p:nvSpPr>
            <p:spPr>
              <a:xfrm>
                <a:off x="1219320" y="5821200"/>
                <a:ext cx="144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30520" y="5808600"/>
                <a:ext cx="144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50760" y="5808600"/>
                <a:ext cx="29628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808080"/>
                    </a:solidFill>
                    <a:latin typeface="標楷體"/>
                    <a:ea typeface="標楷體"/>
                  </a:rPr>
                  <a:t>「教學專業成長」的發展層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534520" y="228600"/>
            <a:ext cx="326880" cy="22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406440"/>
          <a:ext cx="9101160" cy="539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6440"/>
                    <a:ext cx="910116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534520" y="228600"/>
            <a:ext cx="326880" cy="22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0" y="404640"/>
          <a:ext cx="9420120" cy="59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4640"/>
                    <a:ext cx="94201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0066"/>
                </a:solidFill>
                <a:latin typeface="Arial"/>
                <a:ea typeface="標楷體"/>
              </a:rPr>
              <a:t>自我評鑑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意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重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947960"/>
            <a:ext cx="4038480" cy="3952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42920" y="4437000"/>
            <a:ext cx="29005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新細明體"/>
              </a:rPr>
              <a:t>Ask for mor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34520" y="228600"/>
            <a:ext cx="326880" cy="22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7920" y="260280"/>
          <a:ext cx="9085320" cy="540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0280"/>
                    <a:ext cx="90853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182240" y="58244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專業成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doc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34520" y="228600"/>
            <a:ext cx="326880" cy="22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262080"/>
          <a:ext cx="9398160" cy="568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"/>
                    <a:ext cx="9398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534520" y="228600"/>
            <a:ext cx="326880" cy="22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7920" y="-3240"/>
          <a:ext cx="9563040" cy="624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0" y="-3240"/>
                    <a:ext cx="956304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  <a:ea typeface="標楷體"/>
              </a:rPr>
              <a:t>自我評鑑的意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681440" cy="44114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教師運用各種評鑑工具，針對自己的專業知識、表現和信念，蒐集資訊並加以深刻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反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以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發展和改善自我專業表現的歷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962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  <a:ea typeface="標楷體"/>
              </a:rPr>
              <a:t>自我評鑑的意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871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以教師本身做為評鑑者和被評鑑者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對象係針對自己的專業知識、技能和情意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資料來源有</a:t>
            </a:r>
            <a:r>
              <a:rPr b="0" lang="zh-TW" sz="3200" spc="-1" strike="noStrike">
                <a:solidFill>
                  <a:srgbClr val="0033cc"/>
                </a:solidFill>
                <a:latin typeface="Arial"/>
                <a:ea typeface="標楷體"/>
              </a:rPr>
              <a:t>自我檢核表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zh-TW" sz="3200" spc="-1" strike="noStrike">
                <a:solidFill>
                  <a:srgbClr val="0033cc"/>
                </a:solidFill>
                <a:latin typeface="Arial"/>
                <a:ea typeface="標楷體"/>
              </a:rPr>
              <a:t>同儕回饋資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、學生或家長反應等資料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資料蒐集後，必須歷經</a:t>
            </a:r>
            <a:r>
              <a:rPr b="0" lang="zh-TW" sz="3200" spc="-1" strike="noStrike">
                <a:solidFill>
                  <a:srgbClr val="0033cc"/>
                </a:solidFill>
                <a:latin typeface="Arial"/>
                <a:ea typeface="標楷體"/>
              </a:rPr>
              <a:t>深思熟慮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，以判斷專業表現的優點和缺失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目的在</a:t>
            </a:r>
            <a:r>
              <a:rPr b="0" lang="zh-TW" sz="3200" spc="-1" strike="noStrike">
                <a:solidFill>
                  <a:srgbClr val="0033cc"/>
                </a:solidFill>
                <a:latin typeface="Arial"/>
                <a:ea typeface="標楷體"/>
              </a:rPr>
              <a:t>自我發展和成長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0066"/>
                </a:solidFill>
                <a:latin typeface="Arial"/>
                <a:ea typeface="標楷體"/>
              </a:rPr>
              <a:t>自我評鑑的重要性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51280" y="2158560"/>
            <a:ext cx="47592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係一種有效的教師評鑑方式，因為惟有</a:t>
            </a:r>
            <a:r>
              <a:rPr b="0" lang="zh-TW" sz="3600" spc="-1" strike="noStrike">
                <a:solidFill>
                  <a:srgbClr val="0033cc"/>
                </a:solidFill>
                <a:latin typeface="Arial"/>
                <a:ea typeface="標楷體"/>
              </a:rPr>
              <a:t>教師自己本身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，才能對自我的教學表現具有最實在且</a:t>
            </a:r>
            <a:r>
              <a:rPr b="0" lang="zh-TW" sz="3600" spc="-1" strike="noStrike">
                <a:solidFill>
                  <a:srgbClr val="0033cc"/>
                </a:solidFill>
                <a:latin typeface="Arial"/>
                <a:ea typeface="標楷體"/>
              </a:rPr>
              <a:t>最深刻的了解和反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3298680"/>
            <a:ext cx="33829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  <a:ea typeface="標楷體"/>
              </a:rPr>
              <a:t>自我評鑑的方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自評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自評報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教室日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媒體紀錄與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第三者協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學生回饋與表現資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教學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教學行動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2016000"/>
            <a:ext cx="40384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765000"/>
          <a:ext cx="8675640" cy="5929200"/>
        </p:xfrm>
        <a:graphic>
          <a:graphicData uri="http://schemas.openxmlformats.org/drawingml/2006/table">
            <a:tbl>
              <a:tblPr/>
              <a:tblGrid>
                <a:gridCol w="867564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壹、基本資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姓名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____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任教年級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____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任教科目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_____     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日期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貳、填寫說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自評表的目的係為了協助您自我覺察教學上的優缺點，進而產生自我改善的作用。為了達到自我診斷的目的，請您在閱讀完評鑑指標後，以慎重的態度，勾選最能真實代表您表現情形的欄位，然後在後面的意見陳述中，具體補充說明您整體表現的優劣得失以及自我改善的構想。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9280" y="476280"/>
          <a:ext cx="8748720" cy="613872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615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優  滿  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良  意  改                                           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課程設計與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1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展現課程設計能力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□  □  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2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研擬適切的教學計畫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□  □ 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□  □  □</a:t>
                      </a:r>
                      <a:r>
                        <a:rPr b="1" lang="en-US" sz="1700" spc="-1" strike="noStrike">
                          <a:solidFill>
                            <a:srgbClr val="80808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□ □ □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□ □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□ □ 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□ □ 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468360" y="333360"/>
          <a:ext cx="8424720" cy="61387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613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優  滿  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良  意  改                                           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 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班級經營與輔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□ □ □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□ □ 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3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促進親師溝通與合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□ □ □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4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落實學生輔導工作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……………………………□ □ 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08:41:41Z</dcterms:created>
  <dc:creator>慧淑</dc:creator>
  <dc:description/>
  <dc:language>en-US</dc:language>
  <cp:lastModifiedBy>user</cp:lastModifiedBy>
  <dcterms:modified xsi:type="dcterms:W3CDTF">2010-02-25T10:46:02Z</dcterms:modified>
  <cp:revision>243</cp:revision>
  <dc:subject/>
  <dc:title>教師專業發展評鑑宣導手冊 </dc:title>
</cp:coreProperties>
</file>