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wmf" ContentType="image/x-wmf"/>
  <Override PartName="/ppt/media/image7.jpeg" ContentType="image/jpeg"/>
  <Override PartName="/ppt/media/image10.wmf" ContentType="image/x-wmf"/>
  <Override PartName="/ppt/media/image6.wmf" ContentType="image/x-wmf"/>
  <Override PartName="/ppt/media/image11.wmf" ContentType="image/x-wmf"/>
  <Override PartName="/ppt/media/image9.jpeg" ContentType="image/jpeg"/>
  <Override PartName="/ppt/media/image12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A807-DFE5-4873-8A00-0EE505D04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295A-8DEC-480B-B40A-E5D1E1490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F547-9A1B-4E30-A8C5-E570B7E63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82CE-CCBE-43AF-BF24-E01ED0F5A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0563D-984F-4BDF-A999-60FC3203E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F1CB1-9DC8-401A-A4C3-D5BFA4433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577DD-9D56-44F6-BD16-B0FDC00C4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4B3EE-B16A-41E8-8989-7FBD26858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D7DE9-5DC5-4739-A7D8-934487290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B7634-6AAF-42E7-8EAD-6DCE26491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93AD0-1771-4AC6-BFD3-73FD2BAB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B454-6FC2-4D06-ABE9-BD9238EED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98736-72B7-4679-81BB-E37B9075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4E406-972C-4B25-A01A-E3ADD6A4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5A401-89A6-4C3B-AC1E-8C3631E80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68BA1-D45A-4621-97AD-8AD45D9E2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B9086-674C-4961-BAED-0B4376EFF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0187-4686-46D7-80C6-A70BAB03F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1CFB-7091-4CB8-B687-3CBF21E01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CC8B-9267-4C2A-85E1-953625897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A0CD-AE7D-47F6-B737-5B56DEFE7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5734-1E12-4787-810F-6671F716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9C36-B6B2-4D98-A528-F72B0291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BB54-4E2B-4DEA-946C-1BE52675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1FF9D-DB35-402E-9A20-4B43DB088A4D}" type="datetime">
              <a:rPr b="0" lang="zh-TW" sz="1400" spc="-1" strike="noStrike">
                <a:solidFill>
                  <a:srgbClr val="000000"/>
                </a:solidFill>
                <a:latin typeface="Tahoma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43F17-6F25-47B3-8D11-7A78A131ACF6}" type="slidenum">
              <a:rPr b="0" lang="zh-TW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FA7EF-BA13-44EF-9691-A3B192CB21C2}" type="datetime">
              <a:rPr b="0" lang="zh-TW" sz="1400" spc="-1" strike="noStrike">
                <a:solidFill>
                  <a:srgbClr val="1c1c1c"/>
                </a:solidFill>
                <a:latin typeface="Tahoma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85E9F-279A-4CD3-8D4E-5BD8A2303F55}" type="slidenum">
              <a:rPr b="0" lang="zh-TW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Tahoma"/>
                <a:ea typeface="標楷體"/>
              </a:rPr>
              <a:t>教師專業發展檔案系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403280" y="486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臺北市立教育大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張德銳、丁一顧、高紅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李俊達、康心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835280" y="1052640"/>
            <a:ext cx="5111640" cy="3944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282D3-C755-40A1-A2E4-0893197A67F4}" type="slidenum">
              <a:t>1</a:t>
            </a:fld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24000" y="25992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標楷體"/>
                <a:ea typeface="標楷體"/>
              </a:rPr>
              <a:t>D</a:t>
            </a:r>
            <a:r>
              <a:rPr b="1" lang="zh-TW" sz="4400" spc="-1" strike="noStrike">
                <a:solidFill>
                  <a:srgbClr val="333399"/>
                </a:solidFill>
                <a:latin typeface="標楷體"/>
                <a:ea typeface="標楷體"/>
              </a:rPr>
              <a:t>敬業精神與態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7280" y="1700280"/>
            <a:ext cx="763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D1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信守教育專業倫理規範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D2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願意投入時間與精力奉獻教育社群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D3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建立與學校同事、家長及社區良好的合作關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FF1D-46D7-47AE-BA7E-C5CBEA47B560}" type="slidenum">
              <a:t>10</a:t>
            </a:fld>
          </a:p>
        </p:txBody>
      </p:sp>
    </p:spTree>
  </p:cSld>
  <p:transition>
    <p:fade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333399"/>
                </a:solidFill>
                <a:latin typeface="Tahoma"/>
                <a:ea typeface="標楷體"/>
              </a:rPr>
              <a:t>教師專業發展檔案活動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6095880"/>
            <a:ext cx="41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4191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27280" y="2060640"/>
            <a:ext cx="3529080" cy="6426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c5feff">
                  <a:alpha val="80392"/>
                </a:srgbClr>
              </a:gs>
              <a:gs pos="100000">
                <a:srgbClr val="99ccff"/>
              </a:gs>
            </a:gsLst>
            <a:lin ang="8100000"/>
          </a:gradFill>
          <a:ln cap="rnd" w="316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ahoma"/>
              </a:rPr>
              <a:t>課程設計與教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08320" y="1844640"/>
            <a:ext cx="1277640" cy="4608720"/>
          </a:xfrm>
          <a:prstGeom prst="rect">
            <a:avLst/>
          </a:prstGeom>
          <a:gradFill rotWithShape="0">
            <a:gsLst>
              <a:gs pos="0">
                <a:srgbClr val="fde383"/>
              </a:gs>
              <a:gs pos="50000">
                <a:srgbClr val="ffff99"/>
              </a:gs>
              <a:gs pos="100000">
                <a:srgbClr val="fde383"/>
              </a:gs>
            </a:gsLst>
            <a:lin ang="81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ahoma"/>
              </a:rPr>
              <a:t>認識自己與認識環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8120" y="2276640"/>
            <a:ext cx="1277640" cy="3527280"/>
          </a:xfrm>
          <a:prstGeom prst="rect">
            <a:avLst/>
          </a:prstGeom>
          <a:gradFill rotWithShape="0">
            <a:gsLst>
              <a:gs pos="0">
                <a:srgbClr val="fde383"/>
              </a:gs>
              <a:gs pos="50000">
                <a:srgbClr val="ffff00"/>
              </a:gs>
              <a:gs pos="100000">
                <a:srgbClr val="fde383"/>
              </a:gs>
            </a:gsLst>
            <a:lin ang="81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ahoma"/>
              </a:rPr>
              <a:t>專業省思與成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27280" y="2997360"/>
            <a:ext cx="3529080" cy="6426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c5feff">
                  <a:alpha val="80392"/>
                </a:srgbClr>
              </a:gs>
              <a:gs pos="100000">
                <a:srgbClr val="99ccff"/>
              </a:gs>
            </a:gsLst>
            <a:lin ang="8100000"/>
          </a:gradFill>
          <a:ln cap="rnd" w="316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ahoma"/>
              </a:rPr>
              <a:t>班級經營與輔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700360" y="3933720"/>
            <a:ext cx="3456000" cy="6426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c5feff"/>
              </a:gs>
              <a:gs pos="100000">
                <a:srgbClr val="99ccff"/>
              </a:gs>
            </a:gsLst>
            <a:lin ang="8100000"/>
          </a:gradFill>
          <a:ln cap="rnd" w="316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ahoma"/>
              </a:rPr>
              <a:t>研究發展與進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00360" y="4869000"/>
            <a:ext cx="3456000" cy="6426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c5feff">
                  <a:alpha val="80392"/>
                </a:srgbClr>
              </a:gs>
              <a:gs pos="100000">
                <a:srgbClr val="99ccff"/>
              </a:gs>
            </a:gsLst>
            <a:lin ang="8100000"/>
          </a:gradFill>
          <a:ln cap="rnd" w="316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ahoma"/>
              </a:rPr>
              <a:t>敬業精神與態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79640" y="3573360"/>
            <a:ext cx="576360" cy="432000"/>
          </a:xfrm>
          <a:prstGeom prst="rightArrow">
            <a:avLst>
              <a:gd name="adj1" fmla="val 50000"/>
              <a:gd name="adj2" fmla="val 33354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00720" y="3645000"/>
            <a:ext cx="576360" cy="431640"/>
          </a:xfrm>
          <a:prstGeom prst="rightArrow">
            <a:avLst>
              <a:gd name="adj1" fmla="val 50000"/>
              <a:gd name="adj2" fmla="val 33382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7EAD-E6C2-4327-B2C4-E441EE92166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500"/>
                            </p:stCondLst>
                            <p:childTnLst>
                              <p:par>
                                <p:cTn id="3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1081080" cy="63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ffffff"/>
                </a:solidFill>
                <a:latin typeface="Tahoma"/>
                <a:ea typeface="標楷體"/>
              </a:rPr>
              <a:t>專業發展檔案製作模式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3419640" y="2924280"/>
            <a:ext cx="237636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蒐  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348000" y="4508640"/>
            <a:ext cx="2376360" cy="581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選  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48000" y="6019920"/>
            <a:ext cx="2376360" cy="5814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省  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211640" y="3571920"/>
            <a:ext cx="576360" cy="647640"/>
          </a:xfrm>
          <a:prstGeom prst="downArrow">
            <a:avLst>
              <a:gd name="adj1" fmla="val 50000"/>
              <a:gd name="adj2" fmla="val 28092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11640" y="5156280"/>
            <a:ext cx="576360" cy="647640"/>
          </a:xfrm>
          <a:prstGeom prst="downArrow">
            <a:avLst>
              <a:gd name="adj1" fmla="val 50000"/>
              <a:gd name="adj2" fmla="val 28092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43640" y="31305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84720" y="3357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72360" y="4797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32720" y="45813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300720" y="630864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04000" y="6021360"/>
            <a:ext cx="115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2526-A035-461F-BE75-591CB9828D22}" type="slidenum">
              <a:t>12</a:t>
            </a:fld>
          </a:p>
        </p:txBody>
      </p:sp>
    </p:spTree>
  </p:cSld>
  <p:transition spd="slow">
    <p:checker dir="horz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788000" y="3708360"/>
            <a:ext cx="4356000" cy="31496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338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Tahoma"/>
                <a:ea typeface="標楷體"/>
              </a:rPr>
              <a:t>蒐集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280" y="2060640"/>
            <a:ext cx="47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00"/>
                </a:solidFill>
                <a:latin typeface="Tahoma"/>
                <a:ea typeface="標楷體"/>
              </a:rPr>
              <a:t>進行某一學科在某一段時間內，教師教學相關表現資料的蒐集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c5feff"/>
                </a:solidFill>
                <a:latin typeface="Tahoma"/>
                <a:ea typeface="標楷體"/>
              </a:rPr>
              <a:t>蒐集的資料可包括：文件、圖片、照片、檔案等相關證據資料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B652-7810-4339-BA28-78A0FB4931C8}" type="slidenum">
              <a:t>13</a:t>
            </a:fld>
          </a:p>
        </p:txBody>
      </p:sp>
    </p:spTree>
  </p:cSld>
  <p:transition>
    <p:fade thruBlk="true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77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0" dur="770" fill="hold"/>
                                        <p:tgtEl>
                                          <p:spTgt spid="1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2" dur="77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4" dur="77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000"/>
                            </p:stCondLst>
                            <p:childTnLst>
                              <p:par>
                                <p:cTn id="41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30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Tahoma"/>
                <a:ea typeface="標楷體"/>
              </a:rPr>
              <a:t>選擇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Tahoma"/>
                <a:ea typeface="標楷體"/>
              </a:rPr>
              <a:t>依據教師評鑑規準，</a:t>
            </a:r>
            <a:r>
              <a:rPr b="0" lang="zh-TW" sz="3600" spc="-1" strike="noStrike">
                <a:solidFill>
                  <a:srgbClr val="ffff00"/>
                </a:solidFill>
                <a:latin typeface="標楷體"/>
                <a:ea typeface="標楷體"/>
              </a:rPr>
              <a:t>決定擬呈現的檔案文件。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c5feff"/>
                </a:solidFill>
                <a:latin typeface="標楷體"/>
                <a:ea typeface="標楷體"/>
              </a:rPr>
              <a:t>選擇的檔案資料應要有代表性的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標楷體"/>
                <a:ea typeface="標楷體"/>
              </a:rPr>
              <a:t>一件檔案文件資料可同時符合不同評鑑指標。</a:t>
            </a:r>
            <a:r>
              <a:rPr b="0" lang="zh-TW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c5feff"/>
                </a:solidFill>
                <a:latin typeface="標楷體"/>
                <a:ea typeface="標楷體"/>
              </a:rPr>
              <a:t>所選擇的每個檔案要包含有「標題」「內容註解」及「反省思考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924360" y="333360"/>
            <a:ext cx="1450800" cy="182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2F25-EB69-41FD-8818-806BE5FEAD40}" type="slidenum">
              <a:t>14</a:t>
            </a:fld>
          </a:p>
        </p:txBody>
      </p:sp>
    </p:spTree>
  </p:cSld>
  <p:transition>
    <p:fade thruBlk="true"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360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Tahoma"/>
                <a:ea typeface="標楷體"/>
              </a:rPr>
              <a:t>省思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987640" y="836640"/>
            <a:ext cx="596736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標楷體"/>
                <a:ea typeface="標楷體"/>
              </a:rPr>
              <a:t>(</a:t>
            </a:r>
            <a:r>
              <a:rPr b="0" lang="zh-TW" sz="3600" spc="-1" strike="noStrike">
                <a:solidFill>
                  <a:srgbClr val="ffff00"/>
                </a:solidFill>
                <a:latin typeface="標楷體"/>
                <a:ea typeface="標楷體"/>
              </a:rPr>
              <a:t>二</a:t>
            </a:r>
            <a:r>
              <a:rPr b="0" lang="en-US" sz="3600" spc="-1" strike="noStrike">
                <a:solidFill>
                  <a:srgbClr val="ffff00"/>
                </a:solidFill>
                <a:latin typeface="標楷體"/>
                <a:ea typeface="標楷體"/>
              </a:rPr>
              <a:t>)</a:t>
            </a:r>
            <a:r>
              <a:rPr b="0" lang="zh-TW" sz="3600" spc="-1" strike="noStrike">
                <a:solidFill>
                  <a:srgbClr val="ffff00"/>
                </a:solidFill>
                <a:latin typeface="標楷體"/>
                <a:ea typeface="標楷體"/>
              </a:rPr>
              <a:t>針對所完成的整個層面的檔案內容進進行優缺點的評估與分析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標楷體"/>
                <a:ea typeface="標楷體"/>
              </a:rPr>
              <a:t> </a:t>
            </a:r>
            <a:r>
              <a:rPr b="0" lang="zh-TW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5feff"/>
                </a:solidFill>
                <a:latin typeface="標楷體"/>
                <a:ea typeface="標楷體"/>
              </a:rPr>
              <a:t>(</a:t>
            </a:r>
            <a:r>
              <a:rPr b="0" lang="zh-TW" sz="3600" spc="-1" strike="noStrike">
                <a:solidFill>
                  <a:srgbClr val="c5feff"/>
                </a:solidFill>
                <a:latin typeface="標楷體"/>
                <a:ea typeface="標楷體"/>
              </a:rPr>
              <a:t>一</a:t>
            </a:r>
            <a:r>
              <a:rPr b="0" lang="en-US" sz="3600" spc="-1" strike="noStrike">
                <a:solidFill>
                  <a:srgbClr val="c5feff"/>
                </a:solidFill>
                <a:latin typeface="標楷體"/>
                <a:ea typeface="標楷體"/>
              </a:rPr>
              <a:t>)</a:t>
            </a:r>
            <a:r>
              <a:rPr b="0" lang="zh-TW" sz="3600" spc="-1" strike="noStrike">
                <a:solidFill>
                  <a:srgbClr val="c5feff"/>
                </a:solidFill>
                <a:latin typeface="標楷體"/>
                <a:ea typeface="標楷體"/>
              </a:rPr>
              <a:t>對所完成的每一個檔案文件進行小省思或撰寫心情小故事。</a:t>
            </a: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rcRect l="19832" t="2642" r="10850" b="3226"/>
          <a:stretch/>
        </p:blipFill>
        <p:spPr>
          <a:xfrm>
            <a:off x="324000" y="1197000"/>
            <a:ext cx="2479680" cy="504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E291-BEBB-438B-9BEE-CE8FDA37B975}" type="slidenum">
              <a:t>15</a:t>
            </a:fld>
          </a:p>
        </p:txBody>
      </p:sp>
    </p:spTree>
  </p:cSld>
  <p:transition>
    <p:fade thruBlk="true"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0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000" y="4042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Tahoma"/>
                <a:ea typeface="標楷體"/>
              </a:rPr>
              <a:t>檔案製作模式、活動與評鑑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1042920" y="3284640"/>
            <a:ext cx="741672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檔案製作模式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蒐集、選擇、省思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42920" y="5950080"/>
            <a:ext cx="748836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檔案評鑑：活動六：專業省思與成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43040" y="2495520"/>
            <a:ext cx="5184720" cy="423000"/>
          </a:xfrm>
          <a:prstGeom prst="rect">
            <a:avLst/>
          </a:prstGeom>
          <a:solidFill>
            <a:srgbClr val="c5f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活動一：認識自己與認識環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44480" y="4175280"/>
            <a:ext cx="5178600" cy="1639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活動二：課程設計與教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活動三：班級經營與輔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活動四：研究發展與進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活動五：敬業精神與態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003C-BA31-4EDF-A200-DC0128CC29C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Tahoma"/>
                <a:ea typeface="標楷體"/>
              </a:rPr>
              <a:t>教師專業發展檔案的特色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標楷體"/>
                <a:ea typeface="標楷體"/>
              </a:rPr>
              <a:t>強調省思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c5feff"/>
                </a:solidFill>
                <a:latin typeface="標楷體"/>
                <a:ea typeface="標楷體"/>
              </a:rPr>
              <a:t>重視實證資料的蒐集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標楷體"/>
                <a:ea typeface="標楷體"/>
              </a:rPr>
              <a:t>鼓勵專業對話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c5feff"/>
                </a:solidFill>
                <a:latin typeface="標楷體"/>
                <a:ea typeface="標楷體"/>
              </a:rPr>
              <a:t>具有結構性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標楷體"/>
                <a:ea typeface="標楷體"/>
              </a:rPr>
              <a:t>具有彈性及發展性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c5feff"/>
                </a:solidFill>
                <a:latin typeface="標楷體"/>
                <a:ea typeface="標楷體"/>
              </a:rPr>
              <a:t>具有參照的規準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36C6-F302-42E2-A5BD-A48EFFB4A5F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ahoma"/>
                <a:ea typeface="標楷體"/>
              </a:rPr>
              <a:t>教師專業發展檔案的限制與突破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000" y="23493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00"/>
                </a:solidFill>
                <a:latin typeface="標楷體"/>
                <a:ea typeface="標楷體"/>
              </a:rPr>
              <a:t>需要花費較多的時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c5feff"/>
                </a:solidFill>
                <a:latin typeface="標楷體"/>
                <a:ea typeface="標楷體"/>
              </a:rPr>
              <a:t>缺乏根據學科領域發展的規準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58920" y="23493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00"/>
                </a:solidFill>
                <a:latin typeface="標楷體"/>
                <a:ea typeface="標楷體"/>
              </a:rPr>
              <a:t>建立教學團隊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00"/>
                </a:solidFill>
                <a:latin typeface="標楷體"/>
                <a:ea typeface="標楷體"/>
              </a:rPr>
              <a:t>加強同儕協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00"/>
                </a:solidFill>
                <a:latin typeface="標楷體"/>
                <a:ea typeface="標楷體"/>
              </a:rPr>
              <a:t>拉長建立檔案的時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c5feff"/>
                </a:solidFill>
                <a:latin typeface="標楷體"/>
                <a:ea typeface="標楷體"/>
              </a:rPr>
              <a:t>鼓勵教學者根據學科特性及本身需求，增刪修補出新規準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FE79-3112-4F27-9517-7CFFA3E2A86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0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8280360" cy="58053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46784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333399"/>
                </a:solidFill>
                <a:latin typeface="Tahoma"/>
                <a:ea typeface="標楷體"/>
              </a:rPr>
              <a:t>教師專業發展檔案</a:t>
            </a:r>
            <a:r>
              <a:rPr b="1" lang="zh-TW" sz="4600" spc="-1" strike="noStrike">
                <a:solidFill>
                  <a:srgbClr val="000000"/>
                </a:solidFill>
                <a:latin typeface="Tahoma"/>
                <a:ea typeface="標楷體"/>
              </a:rPr>
              <a:t>的意義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684360" y="1268280"/>
            <a:ext cx="2303280" cy="10688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一</a:t>
            </a:r>
            <a:r>
              <a:rPr b="1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)</a:t>
            </a:r>
            <a:r>
              <a:rPr b="1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是一套有組織、有系統、有結構的記錄和文件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5880" y="1268280"/>
            <a:ext cx="232416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二</a:t>
            </a:r>
            <a:r>
              <a:rPr b="1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)</a:t>
            </a:r>
            <a:r>
              <a:rPr b="1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可以顯示教師在某一段時間所達成的成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573880" y="1271520"/>
            <a:ext cx="306540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三</a:t>
            </a:r>
            <a:r>
              <a:rPr b="1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)</a:t>
            </a:r>
            <a:r>
              <a:rPr b="1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必需靠著教師和學生的作品、省思筆記、思考與專業對話來實現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B0F3-B9A8-4FDD-BFCF-3C3799DC8C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rcRect l="0" t="0" r="0" b="15608"/>
          <a:stretch/>
        </p:blipFill>
        <p:spPr>
          <a:xfrm>
            <a:off x="468360" y="765000"/>
            <a:ext cx="8820000" cy="6093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000" y="-603360"/>
            <a:ext cx="74674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333399"/>
                </a:solidFill>
                <a:latin typeface="Tahoma"/>
                <a:ea typeface="標楷體"/>
              </a:rPr>
              <a:t>教師專業發展檔案</a:t>
            </a:r>
            <a:r>
              <a:rPr b="0" lang="zh-TW" sz="4400" spc="-1" strike="noStrike">
                <a:solidFill>
                  <a:srgbClr val="000000"/>
                </a:solidFill>
                <a:latin typeface="Tahoma"/>
                <a:ea typeface="標楷體"/>
              </a:rPr>
              <a:t>的目的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704760" y="2155680"/>
            <a:ext cx="5621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(</a:t>
            </a:r>
            <a:r>
              <a:rPr b="0" lang="zh-TW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一</a:t>
            </a:r>
            <a:r>
              <a:rPr b="0" lang="zh-TW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)</a:t>
            </a:r>
            <a:r>
              <a:rPr b="0" lang="zh-TW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促進教師專業成長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(</a:t>
            </a:r>
            <a:r>
              <a:rPr b="0" lang="zh-TW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二</a:t>
            </a:r>
            <a:r>
              <a:rPr b="0" lang="zh-TW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)</a:t>
            </a:r>
            <a:r>
              <a:rPr b="0" lang="zh-TW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提昇學生學習成果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5C90-7DEB-449B-BA30-A5171E2C3B90}" type="slidenum">
              <a:t>3</a:t>
            </a:fld>
          </a:p>
        </p:txBody>
      </p:sp>
    </p:spTree>
  </p:cSld>
  <p:transition>
    <p:split dir="in" orient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92160" y="765000"/>
            <a:ext cx="8893080" cy="59230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746748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333399"/>
                </a:solidFill>
                <a:latin typeface="Tahoma"/>
                <a:ea typeface="標楷體"/>
              </a:rPr>
              <a:t>教師專業發展檔案</a:t>
            </a:r>
            <a:r>
              <a:rPr b="1" lang="zh-TW" sz="4400" spc="-1" strike="noStrike">
                <a:solidFill>
                  <a:srgbClr val="000000"/>
                </a:solidFill>
                <a:latin typeface="Tahoma"/>
                <a:ea typeface="標楷體"/>
              </a:rPr>
              <a:t>的特色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2204640"/>
            <a:ext cx="8377200" cy="3638520"/>
          </a:xfrm>
          <a:prstGeom prst="rect">
            <a:avLst/>
          </a:prstGeom>
          <a:solidFill>
            <a:srgbClr val="ccffff">
              <a:alpha val="89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一</a:t>
            </a:r>
            <a:r>
              <a:rPr b="1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)</a:t>
            </a:r>
            <a:r>
              <a:rPr b="1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依據「教學專業規準」及「個人成長目標」而建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二</a:t>
            </a:r>
            <a:r>
              <a:rPr b="1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)</a:t>
            </a:r>
            <a:r>
              <a:rPr b="1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包含學生和教師「作品」以展示教學特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三</a:t>
            </a:r>
            <a:r>
              <a:rPr b="1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)</a:t>
            </a:r>
            <a:r>
              <a:rPr b="1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每個檔案包含有「標題」「內容註解」及「反省思考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四</a:t>
            </a:r>
            <a:r>
              <a:rPr b="1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)</a:t>
            </a:r>
            <a:r>
              <a:rPr b="1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可以做為和同儕進行「專業對話」的基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7775-4C8D-4347-A13F-9310D2B19C5F}" type="slidenum">
              <a:t>4</a:t>
            </a:fld>
          </a:p>
        </p:txBody>
      </p:sp>
    </p:spTree>
  </p:cSld>
  <p:transition>
    <p:split dir="in" orient="ver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620640"/>
            <a:ext cx="779292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333399"/>
                </a:solidFill>
                <a:latin typeface="Tahoma"/>
                <a:ea typeface="標楷體"/>
              </a:rPr>
              <a:t>教師評鑑</a:t>
            </a:r>
            <a:r>
              <a:rPr b="1" lang="zh-TW" sz="4800" spc="-1" strike="noStrike">
                <a:solidFill>
                  <a:srgbClr val="000000"/>
                </a:solidFill>
                <a:latin typeface="Tahoma"/>
                <a:ea typeface="標楷體"/>
              </a:rPr>
              <a:t>的規準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31640" y="1844640"/>
            <a:ext cx="5327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cc"/>
                </a:solidFill>
                <a:latin typeface="Tahoma"/>
                <a:ea typeface="標楷體"/>
              </a:rPr>
              <a:t>一、課程設計與教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cc"/>
                </a:solidFill>
                <a:latin typeface="Tahoma"/>
                <a:ea typeface="標楷體"/>
              </a:rPr>
              <a:t>二、班級經營與輔導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cc"/>
                </a:solidFill>
                <a:latin typeface="Tahoma"/>
                <a:ea typeface="標楷體"/>
              </a:rPr>
              <a:t>三、研究發展與進修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cc"/>
                </a:solidFill>
                <a:latin typeface="Tahoma"/>
                <a:ea typeface="標楷體"/>
              </a:rPr>
              <a:t>四、敬業精神與態度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5C65-6F07-484C-80D3-D8FF73475A69}" type="slidenum">
              <a:t>5</a:t>
            </a:fld>
          </a:p>
        </p:txBody>
      </p:sp>
    </p:spTree>
  </p:cSld>
  <p:transition>
    <p:fad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252720" y="333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標楷體"/>
                <a:ea typeface="標楷體"/>
              </a:rPr>
              <a:t>A</a:t>
            </a:r>
            <a:r>
              <a:rPr b="1" lang="zh-TW" sz="4400" spc="-1" strike="noStrike">
                <a:solidFill>
                  <a:srgbClr val="333399"/>
                </a:solidFill>
                <a:latin typeface="標楷體"/>
                <a:ea typeface="標楷體"/>
              </a:rPr>
              <a:t>課程設計與教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504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A1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展現課程設計能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A2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研擬適切的教學計畫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A3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精熟任教學科領域知識</a:t>
            </a: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A4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清楚呈現教材內容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A5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運用有效教學技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DD4F-CD2C-4A95-AE2B-7FDEA0791DDE}" type="slidenum">
              <a:t>6</a:t>
            </a:fld>
          </a:p>
        </p:txBody>
      </p:sp>
    </p:spTree>
  </p:cSld>
  <p:transition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500"/>
                            </p:stCondLst>
                            <p:childTnLst>
                              <p:par>
                                <p:cTn id="18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標楷體"/>
                <a:ea typeface="標楷體"/>
              </a:rPr>
              <a:t>   </a:t>
            </a:r>
            <a:r>
              <a:rPr b="1" lang="en-US" sz="4400" spc="-1" strike="noStrike">
                <a:solidFill>
                  <a:srgbClr val="333399"/>
                </a:solidFill>
                <a:latin typeface="標楷體"/>
                <a:ea typeface="標楷體"/>
              </a:rPr>
              <a:t>A</a:t>
            </a:r>
            <a:r>
              <a:rPr b="1" lang="zh-TW" sz="4400" spc="-1" strike="noStrike">
                <a:solidFill>
                  <a:srgbClr val="333399"/>
                </a:solidFill>
                <a:latin typeface="標楷體"/>
                <a:ea typeface="標楷體"/>
              </a:rPr>
              <a:t>課程設計與教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6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A6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善於發問啟發思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A7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應用良好溝通技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A8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善於運用學習評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A9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達成預期學習目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D6DC-3055-4B6E-BE1C-4D3D134A17D5}" type="slidenum">
              <a:t>7</a:t>
            </a:fld>
          </a:p>
        </p:txBody>
      </p:sp>
    </p:spTree>
  </p:cSld>
  <p:transition>
    <p:fad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500"/>
                            </p:stCondLst>
                            <p:childTnLst>
                              <p:par>
                                <p:cTn id="21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500"/>
                            </p:stCondLst>
                            <p:childTnLst>
                              <p:par>
                                <p:cTn id="22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標楷體"/>
                <a:ea typeface="標楷體"/>
              </a:rPr>
              <a:t>B </a:t>
            </a:r>
            <a:r>
              <a:rPr b="1" lang="zh-TW" sz="4400" spc="-1" strike="noStrike">
                <a:solidFill>
                  <a:srgbClr val="333399"/>
                </a:solidFill>
                <a:latin typeface="標楷體"/>
                <a:ea typeface="標楷體"/>
              </a:rPr>
              <a:t>班級經營與輔導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050560" y="1773360"/>
            <a:ext cx="6085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B1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建立有助於學習的班級常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B2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營造積極的班級學習氣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B3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促進親師溝通與合作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B4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落實學生輔導工作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91B6-2F49-455F-AAC4-80FF30DF7FB7}" type="slidenum">
              <a:t>8</a:t>
            </a:fld>
          </a:p>
        </p:txBody>
      </p:sp>
    </p:spTree>
  </p:cSld>
  <p:transition>
    <p:fad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500"/>
                            </p:stCondLst>
                            <p:childTnLst>
                              <p:par>
                                <p:cTn id="25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標楷體"/>
                <a:ea typeface="標楷體"/>
              </a:rPr>
              <a:t>C</a:t>
            </a:r>
            <a:r>
              <a:rPr b="1" lang="zh-TW" sz="4400" spc="-1" strike="noStrike">
                <a:solidFill>
                  <a:srgbClr val="333399"/>
                </a:solidFill>
                <a:latin typeface="標楷體"/>
                <a:ea typeface="標楷體"/>
              </a:rPr>
              <a:t>研究發展與進修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6364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C1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參與教學研究工作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C2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研發教材、教法或教具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C3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參與校內外教師進修研習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C4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反思教學並尋求專業成長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010A-0579-449D-8A85-2E023FA3653C}" type="slidenum">
              <a:t>9</a:t>
            </a:fld>
          </a:p>
        </p:txBody>
      </p:sp>
    </p:spTree>
  </p:cSld>
  <p:transition>
    <p:fade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500"/>
                            </p:stCondLst>
                            <p:childTnLst>
                              <p:par>
                                <p:cTn id="29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06:02:39Z</dcterms:created>
  <dc:creator>台北市立師範學院</dc:creator>
  <dc:description/>
  <dc:language>en-US</dc:language>
  <cp:lastModifiedBy>user</cp:lastModifiedBy>
  <dcterms:modified xsi:type="dcterms:W3CDTF">2010-02-25T10:54:23Z</dcterms:modified>
  <cp:revision>94</cp:revision>
  <dc:subject/>
  <dc:title>教學輔導理論與實務　　　張德銳　８９．２．２５</dc:title>
</cp:coreProperties>
</file>