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9.jpeg" ContentType="image/jpeg"/>
  <Override PartName="/ppt/media/image12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492-31B1-42A4-8F55-B6D14459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CF7-0EF4-468D-BE4A-3290EA05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F82-6E4C-45BA-B253-76654082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639-9CE8-4431-959F-6F55ADED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85A9-D8FB-49C8-B3BF-4EDC0879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EB00-2D90-4C08-AC3C-799AA375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972C-0C15-4D59-B7BC-D07397B8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DCAC-AF32-447D-9D34-2AF834EE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96CF-37DB-4CA4-BCCC-58003CD9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E107-47E1-4F80-9BEC-CCF90070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B29E-4B93-49A3-AF5C-3C0A42C0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CA6-428B-44BD-AEBD-C6DCB66D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3032-EB66-4A01-8195-5C88953E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A70A-679D-4D31-9F77-1FA12E98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39CE-ED58-43A9-A891-1E8B3149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A45C-25ED-43FB-B2BF-0D342413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C521-06E1-48E1-A817-9AE00422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73F-5AC7-4B0C-AB5C-D4F8C972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182-59A2-49DF-BD15-1F7515A3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1B6-B90C-4C43-A291-0C3B4391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FF1-D4AB-435F-B80D-4441E5F7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736-410F-47EF-96DF-CA7EE363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459-2C2D-440D-B7D6-4EAE42CF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3CE-B4DA-4798-BAD3-81559735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44A0-7EA3-4F5A-A12A-CE0E797E4E16}" type="datetime">
              <a:rPr b="0" lang="zh-TW" sz="1400" spc="-1" strike="noStrike">
                <a:solidFill>
                  <a:srgbClr val="000000"/>
                </a:solidFill>
                <a:latin typeface="Tahom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660B-FEEE-4A73-AD48-8EBFFF97A76C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62B3-44DA-4F60-9D82-CEBFFC2446AD}" type="datetime">
              <a:rPr b="0" lang="zh-TW" sz="1400" spc="-1" strike="noStrike">
                <a:solidFill>
                  <a:srgbClr val="1c1c1c"/>
                </a:solidFill>
                <a:latin typeface="Tahom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267C-1A7B-480B-BBD4-399A6CAE5EDA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4_1&#23560;&#26989;&#30332;&#23637;&#23566;&#21521;&#30340;&#27284;&#26696;&#31995;&#32113;&#31354;&#30333;&#34920;.doc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file:///../&#20013;&#23416;&#27284;&#26696;&#23526;&#20363;(&#21129;&#27054;&#23270;&#23526;&#20363;)(971118&#30041;&#23384;&#21443;&#32771;)/&#20013;&#23416;&#23526;&#20363;&#27963;&#21205;&#19968;.doc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file:///&#29677;&#32026;&#32147;&#29151;&#36229;&#36899;&#32080;.doc" TargetMode="External"/><Relationship Id="rId3" Type="http://schemas.openxmlformats.org/officeDocument/2006/relationships/hyperlink" Target="file:///&#29677;&#32026;&#32147;&#29151;&#36229;&#36899;&#32080;.doc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file:///&#30740;&#31350;&#30332;&#23637;&#36229;&#36899;&#32080;.doc" TargetMode="External"/><Relationship Id="rId3" Type="http://schemas.openxmlformats.org/officeDocument/2006/relationships/hyperlink" Target="file:///&#30740;&#31350;&#30332;&#23637;&#36229;&#36899;&#32080;.doc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ahoma"/>
                <a:ea typeface="標楷體"/>
              </a:rPr>
              <a:t>教師專業發展檔案系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臺北市立教育大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張德銳、丁一顧、高紅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李俊達、康心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835280" y="1052640"/>
            <a:ext cx="511164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70FB-D231-4874-9218-58CF8C0DC550}" type="slidenum">
              <a:t>1</a:t>
            </a:fld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24000" y="259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D</a:t>
            </a:r>
            <a:r>
              <a:rPr b="1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敬業精神與態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7002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D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信守教育專業倫理規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D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願意投入時間與精力奉獻教育社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D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建立與學校同事、家長及社區良好的合作關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D3F-C19F-49A0-8CA2-BBC3F5F33158}" type="slidenum">
              <a:t>10</a:t>
            </a:fld>
          </a:p>
        </p:txBody>
      </p:sp>
    </p:spTree>
  </p:cSld>
  <p:transition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教師專業發展檔案活動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095880"/>
            <a:ext cx="41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4191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27280" y="2060640"/>
            <a:ext cx="3529080" cy="642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c5feff">
                  <a:alpha val="80392"/>
                </a:srgbClr>
              </a:gs>
              <a:gs pos="100000">
                <a:srgbClr val="99ccff"/>
              </a:gs>
            </a:gsLst>
            <a:lin ang="8100000"/>
          </a:gradFill>
          <a:ln cap="rnd" w="316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課程設計與教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82440" y="1844640"/>
            <a:ext cx="803520" cy="4608720"/>
          </a:xfrm>
          <a:prstGeom prst="rect">
            <a:avLst/>
          </a:prstGeom>
          <a:gradFill rotWithShape="0">
            <a:gsLst>
              <a:gs pos="0">
                <a:srgbClr val="fde383"/>
              </a:gs>
              <a:gs pos="50000">
                <a:srgbClr val="ffff99"/>
              </a:gs>
              <a:gs pos="100000">
                <a:srgbClr val="fde383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認識自己與認識環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8120" y="2276640"/>
            <a:ext cx="1277640" cy="3527280"/>
          </a:xfrm>
          <a:prstGeom prst="rect">
            <a:avLst/>
          </a:prstGeom>
          <a:gradFill rotWithShape="0">
            <a:gsLst>
              <a:gs pos="0">
                <a:srgbClr val="fde383"/>
              </a:gs>
              <a:gs pos="50000">
                <a:srgbClr val="ffff00"/>
              </a:gs>
              <a:gs pos="100000">
                <a:srgbClr val="fde383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專業省思與成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2997360"/>
            <a:ext cx="3529080" cy="642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c5feff">
                  <a:alpha val="80392"/>
                </a:srgbClr>
              </a:gs>
              <a:gs pos="100000">
                <a:srgbClr val="99ccff"/>
              </a:gs>
            </a:gsLst>
            <a:lin ang="8100000"/>
          </a:gradFill>
          <a:ln cap="rnd" w="316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班級經營與輔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3933720"/>
            <a:ext cx="3456000" cy="642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c5feff"/>
              </a:gs>
              <a:gs pos="100000">
                <a:srgbClr val="99ccff"/>
              </a:gs>
            </a:gsLst>
            <a:lin ang="8100000"/>
          </a:gradFill>
          <a:ln cap="rnd" w="316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研究發展與進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0360" y="4869000"/>
            <a:ext cx="3456000" cy="642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c5feff">
                  <a:alpha val="80392"/>
                </a:srgbClr>
              </a:gs>
              <a:gs pos="100000">
                <a:srgbClr val="99ccff"/>
              </a:gs>
            </a:gsLst>
            <a:lin ang="8100000"/>
          </a:gradFill>
          <a:ln cap="rnd" w="316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敬業精神與態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3573360"/>
            <a:ext cx="576360" cy="432000"/>
          </a:xfrm>
          <a:prstGeom prst="rightArrow">
            <a:avLst>
              <a:gd name="adj1" fmla="val 50000"/>
              <a:gd name="adj2" fmla="val 333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3645000"/>
            <a:ext cx="576360" cy="431640"/>
          </a:xfrm>
          <a:prstGeom prst="rightArrow">
            <a:avLst>
              <a:gd name="adj1" fmla="val 50000"/>
              <a:gd name="adj2" fmla="val 333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F5C-6870-4F10-B850-91701A2FD2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108108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ffff"/>
                </a:solidFill>
                <a:latin typeface="Tahoma"/>
                <a:ea typeface="標楷體"/>
              </a:rPr>
              <a:t>專業發展檔案製作模式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2924280"/>
            <a:ext cx="2376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蒐  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4508640"/>
            <a:ext cx="237636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選  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6019920"/>
            <a:ext cx="2376360" cy="581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省  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357192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515628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31305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3357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2720" y="4581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00720" y="630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602136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AC7-3F62-42BF-9723-10BC043087E9}" type="slidenum">
              <a:t>12</a:t>
            </a:fld>
          </a:p>
        </p:txBody>
      </p:sp>
    </p:spTree>
  </p:cSld>
  <p:transition spd="slow">
    <p:checker dir="horz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788000" y="3708360"/>
            <a:ext cx="4356000" cy="31496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33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蒐集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47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Tahoma"/>
                <a:ea typeface="標楷體"/>
              </a:rPr>
              <a:t>進行某一學科在某一段時間內，教師教學相關表現資料的蒐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5feff"/>
                </a:solidFill>
                <a:latin typeface="Tahoma"/>
                <a:ea typeface="標楷體"/>
              </a:rPr>
              <a:t>蒐集的資料可包括：文件、圖片、照片、檔案等相關證據資料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98F-69B6-4C70-B263-825779F443B7}" type="slidenum">
              <a:t>13</a:t>
            </a:fld>
          </a:p>
        </p:txBody>
      </p:sp>
    </p:spTree>
  </p:cSld>
  <p:transition>
    <p:fade thruBlk="true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30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選擇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ahoma"/>
                <a:ea typeface="標楷體"/>
              </a:rPr>
              <a:t>依據教師評鑑規準，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決定擬呈現的檔案文件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5feff"/>
                </a:solidFill>
                <a:latin typeface="標楷體"/>
                <a:ea typeface="標楷體"/>
              </a:rPr>
              <a:t>選擇的檔案資料應要有代表性的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一件檔案文件資料可同時符合不同評鑑指標。</a:t>
            </a:r>
            <a:r>
              <a:rPr b="0" lang="zh-TW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5feff"/>
                </a:solidFill>
                <a:latin typeface="標楷體"/>
                <a:ea typeface="標楷體"/>
              </a:rPr>
              <a:t>所選擇的每個檔案要包含有「標題」「內容註解」及「反省思考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24360" y="333360"/>
            <a:ext cx="1450800" cy="18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555-BF62-4C73-BA4C-278E9399137D}" type="slidenum">
              <a:t>14</a:t>
            </a:fld>
          </a:p>
        </p:txBody>
      </p:sp>
    </p:spTree>
  </p:cSld>
  <p:transition>
    <p:fade thruBlk="true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省思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87640" y="836640"/>
            <a:ext cx="5967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二</a:t>
            </a:r>
            <a:r>
              <a:rPr b="0" lang="en-US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針對所完成的整個層面的檔案內容進進行優缺點的評估與分析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r>
              <a:rPr b="0" lang="zh-TW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5feff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c5feff"/>
                </a:solidFill>
                <a:latin typeface="標楷體"/>
                <a:ea typeface="標楷體"/>
              </a:rPr>
              <a:t>一</a:t>
            </a:r>
            <a:r>
              <a:rPr b="0" lang="en-US" sz="3600" spc="-1" strike="noStrike">
                <a:solidFill>
                  <a:srgbClr val="c5feff"/>
                </a:solidFill>
                <a:latin typeface="標楷體"/>
                <a:ea typeface="標楷體"/>
              </a:rPr>
              <a:t>)</a:t>
            </a:r>
            <a:r>
              <a:rPr b="0" lang="zh-TW" sz="3600" spc="-1" strike="noStrike">
                <a:solidFill>
                  <a:srgbClr val="c5feff"/>
                </a:solidFill>
                <a:latin typeface="標楷體"/>
                <a:ea typeface="標楷體"/>
              </a:rPr>
              <a:t>對所完成的每一個檔案文件進行小省思或撰寫心情小故事。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19832" t="2642" r="10850" b="3226"/>
          <a:stretch/>
        </p:blipFill>
        <p:spPr>
          <a:xfrm>
            <a:off x="324000" y="1197000"/>
            <a:ext cx="2479680" cy="50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8FE-F869-4267-AA9D-361FB822BBD4}" type="slidenum">
              <a:t>15</a:t>
            </a:fld>
          </a:p>
        </p:txBody>
      </p:sp>
    </p:spTree>
  </p:cSld>
  <p:transition>
    <p:fade thruBlk="true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檔案製作模式、活動與評鑑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3284640"/>
            <a:ext cx="7416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檔案製作模式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蒐集、選擇、省思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5950080"/>
            <a:ext cx="7488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檔案評鑑：活動六：專業省思與成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43040" y="2495520"/>
            <a:ext cx="5184720" cy="468360"/>
          </a:xfrm>
          <a:prstGeom prst="rect">
            <a:avLst/>
          </a:prstGeom>
          <a:solidFill>
            <a:srgbClr val="c5f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  <a:hlinkClick r:id="rId2"/>
              </a:rPr>
              <a:t>活動一：認識自己與認識環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4480" y="4175280"/>
            <a:ext cx="5178600" cy="163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活動二：課程設計與教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活動三：班級經營與輔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活動四：研究發展與進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活動五：敬業精神與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CAC-838B-4A0C-9100-C83A6CDBB4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教師專業發展檔案的特色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強調省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5feff"/>
                </a:solidFill>
                <a:latin typeface="標楷體"/>
                <a:ea typeface="標楷體"/>
              </a:rPr>
              <a:t>重視實證資料的蒐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鼓勵專業對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5feff"/>
                </a:solidFill>
                <a:latin typeface="標楷體"/>
                <a:ea typeface="標楷體"/>
              </a:rPr>
              <a:t>具有結構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具有彈性及發展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5feff"/>
                </a:solidFill>
                <a:latin typeface="標楷體"/>
                <a:ea typeface="標楷體"/>
              </a:rPr>
              <a:t>具有參照的規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EBA-91FB-49B1-8AC2-E88573DDC1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  <a:ea typeface="標楷體"/>
              </a:rPr>
              <a:t>教師專業發展檔案的限制與突破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需要花費較多的時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5feff"/>
                </a:solidFill>
                <a:latin typeface="標楷體"/>
                <a:ea typeface="標楷體"/>
              </a:rPr>
              <a:t>缺乏根據學科領域發展的規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58920" y="2349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建立教學團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加強同儕協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拉長建立檔案的時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5feff"/>
                </a:solidFill>
                <a:latin typeface="標楷體"/>
                <a:ea typeface="標楷體"/>
              </a:rPr>
              <a:t>鼓勵教學者根據學科特性及本身需求，增刪修補出新規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C4C-895E-431A-9BA1-81F773E8FB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80360" cy="5805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46784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教師專業發展檔案</a:t>
            </a:r>
            <a:r>
              <a:rPr b="1" lang="zh-TW" sz="4600" spc="-1" strike="noStrike">
                <a:solidFill>
                  <a:srgbClr val="000000"/>
                </a:solidFill>
                <a:latin typeface="Tahoma"/>
                <a:ea typeface="標楷體"/>
              </a:rPr>
              <a:t>的意義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268280"/>
            <a:ext cx="2303280" cy="1068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一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是一套有組織、有系統、有結構的記錄和文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5880" y="1268280"/>
            <a:ext cx="232416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二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可以顯示教師在某一段時間所達成的成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73880" y="1271520"/>
            <a:ext cx="30654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三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必需靠著教師和學生的作品、省思筆記、思考與專業對話來實現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2B1A-7C08-4265-8E3F-B096356ECB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0" b="15608"/>
          <a:stretch/>
        </p:blipFill>
        <p:spPr>
          <a:xfrm>
            <a:off x="468360" y="765000"/>
            <a:ext cx="8820000" cy="6093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-60336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教師專業發展檔案</a:t>
            </a:r>
            <a:r>
              <a:rPr b="0" lang="zh-TW" sz="4400" spc="-1" strike="noStrike">
                <a:solidFill>
                  <a:srgbClr val="000000"/>
                </a:solidFill>
                <a:latin typeface="Tahoma"/>
                <a:ea typeface="標楷體"/>
              </a:rPr>
              <a:t>的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04760" y="2155680"/>
            <a:ext cx="562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一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促進教師專業成長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二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提昇學生學習成果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04B-937C-43DD-BB35-3067450E5A94}" type="slidenum">
              <a:t>3</a:t>
            </a:fld>
          </a:p>
        </p:txBody>
      </p:sp>
    </p:spTree>
  </p:cSld>
  <p:transition>
    <p:split dir="in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2160" y="765000"/>
            <a:ext cx="8893080" cy="5923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46748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教師專業發展檔案</a:t>
            </a:r>
            <a:r>
              <a:rPr b="1" lang="zh-TW" sz="4400" spc="-1" strike="noStrike">
                <a:solidFill>
                  <a:srgbClr val="000000"/>
                </a:solidFill>
                <a:latin typeface="Tahoma"/>
                <a:ea typeface="標楷體"/>
              </a:rPr>
              <a:t>的特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377200" cy="3638520"/>
          </a:xfrm>
          <a:prstGeom prst="rect">
            <a:avLst/>
          </a:prstGeom>
          <a:solidFill>
            <a:srgbClr val="ccffff">
              <a:alpha val="8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一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依據「教學專業規準」及「個人成長目標」而建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二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包含學生和教師「作品」以展示教學特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三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每個檔案包含有「標題」「內容註解」及「反省思考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四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可以做為和同儕進行「專業對話」的基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D66-DF2E-4E58-8237-4D6F3019C1BF}" type="slidenum">
              <a:t>4</a:t>
            </a:fld>
          </a:p>
        </p:txBody>
      </p:sp>
    </p:spTree>
  </p:cSld>
  <p:transition>
    <p:split dir="in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77929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教師評鑑</a:t>
            </a:r>
            <a:r>
              <a:rPr b="1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的規準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ahoma"/>
                <a:ea typeface="標楷體"/>
              </a:rPr>
              <a:t>一、課程設計與教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ahoma"/>
                <a:ea typeface="標楷體"/>
              </a:rPr>
              <a:t>二、班級經營與輔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ahoma"/>
                <a:ea typeface="標楷體"/>
              </a:rPr>
              <a:t>三、研究發展與進修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ahoma"/>
                <a:ea typeface="標楷體"/>
              </a:rPr>
              <a:t>四、敬業精神與態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A3C-5EE9-43F4-B084-DF7F05644DDC}" type="slidenum">
              <a:t>5</a:t>
            </a:fld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252720" y="333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A</a:t>
            </a:r>
            <a:r>
              <a:rPr b="1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課程設計與教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504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1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展現課程設計能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2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研擬適切的教學計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3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精熟任教學科領域知識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4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清楚呈現教材內容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5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運用有效教學技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E81-36D9-44B5-8C7F-D62CAE3E78DA}" type="slidenum">
              <a:t>6</a:t>
            </a:fld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   </a:t>
            </a:r>
            <a:r>
              <a:rPr b="1" lang="en-US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A</a:t>
            </a:r>
            <a:r>
              <a:rPr b="1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課程設計與教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6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善於發問啟發思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7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應用良好溝通技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8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善於運用學習評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9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達成預期學習目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568E-9E52-4F4C-B428-95E3C36EEE1F}" type="slidenum">
              <a:t>7</a:t>
            </a:fld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  <a:hlinkClick r:id="rId2"/>
              </a:rPr>
              <a:t>B </a:t>
            </a:r>
            <a:r>
              <a:rPr b="0" lang="zh-TW" sz="44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  <a:hlinkClick r:id="rId3"/>
              </a:rPr>
              <a:t>班級經營與輔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0560" y="1773360"/>
            <a:ext cx="60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B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建立有助於學習的班級常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B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營造積極的班級學習氣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B3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促進親師溝通與合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B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落實學生輔導工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842-4777-4E31-8216-3FAB5479EBFF}" type="slidenum">
              <a:t>8</a:t>
            </a:fld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  <a:hlinkClick r:id="rId2"/>
              </a:rPr>
              <a:t>C</a:t>
            </a:r>
            <a:r>
              <a:rPr b="0" lang="zh-TW" sz="44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  <a:hlinkClick r:id="rId3"/>
              </a:rPr>
              <a:t>研究發展與進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63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C1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參與教學研究工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C2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研發教材、教法或教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C3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參與校內外教師進修研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C4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反思教學並尋求專業成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EDC-0CB6-46E5-9928-9BC7594DF256}" type="slidenum">
              <a:t>9</a:t>
            </a:fld>
          </a:p>
        </p:txBody>
      </p:sp>
    </p:spTree>
  </p:cSld>
  <p:transition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06:02:39Z</dcterms:created>
  <dc:creator>台北市立師範學院</dc:creator>
  <dc:description/>
  <dc:language>en-US</dc:language>
  <cp:lastModifiedBy>111</cp:lastModifiedBy>
  <dcterms:modified xsi:type="dcterms:W3CDTF">2010-04-01T04:41:53Z</dcterms:modified>
  <cp:revision>95</cp:revision>
  <dc:subject/>
  <dc:title>教學輔導理論與實務　　　張德銳　８９．２．２５</dc:title>
</cp:coreProperties>
</file>