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DCE5-6277-432D-B54F-DF55A38CBE7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三板教師：黑板、天花板、地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說清楚，講明白，深入淺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演員或圖書館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規準設計要科學理性周延，執行要藝術感性彈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增加、減少、修正、刪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老師可以影響到學生多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家庭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社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學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家庭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社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學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形成性、診斷性、發展性、教育性、服務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健康檢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提供另一對眼睛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nother set of 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提供另一面鏡子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讓問題越來愈少，優點越來越多，把缺點變成優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不斷的循環，就不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年如一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設計要周延，實施要彈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自我評鑑最重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教學省思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行為主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人文主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635-877D-43F9-B056-76F334C5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098-B0C0-406F-9018-3882A29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0D5-3436-4299-A4AB-1856CA4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A69-38E5-419D-B55F-A0BC644B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100A-F76F-4B22-8A1C-DB361EE2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04AD-F9A0-477E-8CEB-DC40FCA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3566-3780-4BC3-B385-5683E02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6CF-17D8-4099-AEB9-E661191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9AC0-4F56-481F-A93E-B813C9D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2CBF-6F64-4EAD-B092-81030ABB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39B4-2A1C-4807-A1FD-AAA840A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EE7-20E9-46A5-B78F-0226170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594A-7333-455C-8768-BB7113C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115-9230-43BF-AFB7-1AFFE23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58C-5234-43D5-831B-4D70F3F6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5CB4-9C0B-4840-BA33-4C494428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25F0-7579-463D-B63D-0D514623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162-E4CE-4F2F-BFFE-AAD6C4A0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B42-A39A-49EA-A403-C0FF8C6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77D-CC01-420C-AB20-AE5BBAC4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D47-69A6-4BE2-9535-467F9DC1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CF2-FC3C-480C-ABDE-72B18BF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826-D28C-4842-8113-669048D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527-A2FD-4A68-9FA9-8B8DA66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962-B10F-41B1-984C-655FB4AA5DD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544A-78EA-4F9D-AE0D-CA8C2583235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教學專業發展評鑑系統</a:t>
            </a:r>
            <a:br>
              <a:rPr sz="3200"/>
            </a:br>
            <a:r>
              <a:rPr b="1" lang="zh-TW" sz="3200" spc="-1" strike="noStrike">
                <a:solidFill>
                  <a:srgbClr val="ff6600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臺北市立教育大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張德銳、丁一顧、李俊達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簡賢昌、高紅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51E1-E04A-448C-B422-EFCADE90B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透過生活常見之植物，藉以深入了解其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引導學生了解課文意涵及其字詞解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引導學生學會從具體事物寫抽象意涵的寫作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上教學目標，以第三項「引導學生學習事務抽象意涵」最具挑戰性。但是衡量本班學生的語文能力不差、學習動機不弱，亦無學習特別緩慢的學生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些只是比較容易分心、上課愛講話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加上學生會作課前預習，相信達成率應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上才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本班學生剛升上國中。他們在小學的古文上學習，以詩詞背誦為主。七年級上學期則是有兩次文言文的學習，第一次是論語的「學而時習篇」，第二次是「晏子使楚」。學生對於文言文雖然感覺較不熟悉也比較難，但是他們在課前都會預習，再加上教學過程的解說討論，多數學生在理解上並沒有困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介紹生活中常見之植物及其特質：介紹梅、竹、藤類植物、菊、蓮之生長季節、環境及其特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解釋「說」體及課文：「水陸草木之花」至「中通外直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不蔓不枝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引導寫作：指導學生「由具體實物寫抽象意涵」寫作方法，說明學習單內容及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上課過程中的問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習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兩項評量方式之中，又以學習單有關描述植物特質的部份，特別是教學者關注的重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六、觀察時所使用的發展規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」至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」之各項檢核重點，共計兩個層面的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項指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教學觀察表」（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/1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週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，於三樓圖書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優良    滿意   待改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設計與教學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精熟任教學科領域知識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清楚呈現教材內容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用有效教學技巧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…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發問啟發思考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應用良好溝通技巧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運用學習評量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  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達成預期學習目標……………………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班級經營與輔導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建立有助於學習的班級常規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營造積極的班級學習氣氛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1844640"/>
            <a:ext cx="86421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意見陳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我的優點或特色是：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教學前，能先將課程內容組織成一有系統的完整知識，再引導學生習得知識內容。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教學時，透過問答與學生保持互動，並隨時掌握提醒學生學習情形，一方面增加其注意力，一方面啟發學生思考。 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和諧的班級氣氛與良好上課秩序，是我上課的原則。學生大都能尊重上課的老師，遇到問題的時候也願意主動發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尚可成長和改進的空間的是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自己若能在有限時間內多利用電腦輔助教學，相信會使課程更生動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成長的構想是：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想可以多和隔壁班的張老師多請教，同時透過校內資訊研習，以增長資訊融入教學的使用能力。除此之外，如果能請學校就整個使用環境，例如借用程序、班級空間規劃，做比較理想的配置，對於個人使用應該也會很有幫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520" y="115920"/>
            <a:ext cx="8782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由植物外形意涵、帶出課文內容及寫作方法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2060640"/>
          <a:ext cx="8569080" cy="3720960"/>
        </p:xfrm>
        <a:graphic>
          <a:graphicData uri="http://schemas.openxmlformats.org/drawingml/2006/table">
            <a:tbl>
              <a:tblPr/>
              <a:tblGrid>
                <a:gridCol w="1828800"/>
                <a:gridCol w="687240"/>
                <a:gridCol w="5262480"/>
                <a:gridCol w="79056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待改進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掌握任教單元的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上課過程能清楚說明課文內容。如「水陸草木之花」「可愛者甚藩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問「蓮花的潔身自愛和菊花的潔身自愛有什麼不同？」老師能立刻板書說明兩者抽象意義和其異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01840" y="3645000"/>
          <a:ext cx="432000" cy="36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1840" y="3645000"/>
                    <a:ext cx="432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6520" y="92160"/>
            <a:ext cx="8782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由植物外形意涵、帶出課文內容及寫作方法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2133720"/>
          <a:ext cx="8424720" cy="4106880"/>
        </p:xfrm>
        <a:graphic>
          <a:graphicData uri="http://schemas.openxmlformats.org/drawingml/2006/table">
            <a:tbl>
              <a:tblPr/>
              <a:tblGrid>
                <a:gridCol w="1798560"/>
                <a:gridCol w="674640"/>
                <a:gridCol w="5264280"/>
                <a:gridCol w="687240"/>
              </a:tblGrid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醒學生在七上兩次文言文的學習經驗：論語和「晏子使楚」，協助學生學習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待改進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在課前的教材準備上，希望可以連結學生對於若干植物的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3348000"/>
          <a:ext cx="209520" cy="1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8000"/>
                    <a:ext cx="2095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95640" y="3284640"/>
          <a:ext cx="468360" cy="36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3284640"/>
                    <a:ext cx="4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195640" y="4797360"/>
          <a:ext cx="468360" cy="3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4797360"/>
                    <a:ext cx="4683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教學專業發展評鑑系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系統假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師是一群具有學習能力的專業人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每個教師的教學活動固然有其個別特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性，但是某些重要的教學行為，可以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為教師教學表現的核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學是由一組可以分析的複雜活動所組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師的教學行為對學生的學習非常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933480"/>
          <a:ext cx="8785440" cy="5108400"/>
        </p:xfrm>
        <a:graphic>
          <a:graphicData uri="http://schemas.openxmlformats.org/drawingml/2006/table">
            <a:tbl>
              <a:tblPr/>
              <a:tblGrid>
                <a:gridCol w="1874880"/>
                <a:gridCol w="704880"/>
                <a:gridCol w="5394240"/>
                <a:gridCol w="811440"/>
              </a:tblGrid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學習目標或學習重點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開始說明課程單元名稱是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愛蓮說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逐步呈現「植物外形」、「象徵意義」等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組織條理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各種不同的植物及意義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梅、竹、菊、牡丹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「水陸草木之花」「可愛者甚藩」開始，逐步說明課文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後簡要歸納不同植物的意義與個性之間的關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981000"/>
          <a:ext cx="8442360" cy="5400720"/>
        </p:xfrm>
        <a:graphic>
          <a:graphicData uri="http://schemas.openxmlformats.org/drawingml/2006/table">
            <a:tbl>
              <a:tblPr/>
              <a:tblGrid>
                <a:gridCol w="1803240"/>
                <a:gridCol w="676440"/>
                <a:gridCol w="5184720"/>
                <a:gridCol w="777960"/>
              </a:tblGrid>
              <a:tr h="13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而清楚講解重要概念、原則或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ppt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各種植物外形與其所代表的意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解釋課文文體及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舉例說明或示範以增進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舉出不同植物及所代表的抽象意義，協助學生歸納類化。例如用竹的中空代表人的謙虛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除了植物之外，還提出「烏龜」，說明它容易讓人聯想到和動作緩慢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340000" y="407664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981000"/>
          <a:ext cx="8642160" cy="5353200"/>
        </p:xfrm>
        <a:graphic>
          <a:graphicData uri="http://schemas.openxmlformats.org/drawingml/2006/table">
            <a:tbl>
              <a:tblPr/>
              <a:tblGrid>
                <a:gridCol w="1844640"/>
                <a:gridCol w="693720"/>
                <a:gridCol w="5307120"/>
                <a:gridCol w="79668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適當的練習以熟練學習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拿出學習單，說明「象徵法」學習單。要求學生回家寫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6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學習情境啟發學生思考與討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歸納總結學習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介紹不同植物之後，歸納說明「植物外形和它們所代表的抽象意義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歸納整理說明菊花和蓮花潔身自愛的異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06800" y="474804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984240"/>
          <a:ext cx="8631000" cy="5187960"/>
        </p:xfrm>
        <a:graphic>
          <a:graphicData uri="http://schemas.openxmlformats.org/drawingml/2006/table">
            <a:tbl>
              <a:tblPr/>
              <a:tblGrid>
                <a:gridCol w="1842840"/>
                <a:gridCol w="692280"/>
                <a:gridCol w="5299200"/>
                <a:gridCol w="79668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發並維持學生學習動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ppt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呈現生活中的常見植物，色彩鮮豔清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「向日葵」說明老師自己的個性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變化教學活動或教學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一時，老師以講述法說明各種植物的外形特徵，再問學生植物所代表的抽象意義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活動二，老師主要透過問答方式，請學生回答課文內容，有時再輔以講述說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06800" y="267336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19400" y="4187880"/>
            <a:ext cx="431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17440" y="957240"/>
          <a:ext cx="8709120" cy="5610240"/>
        </p:xfrm>
        <a:graphic>
          <a:graphicData uri="http://schemas.openxmlformats.org/drawingml/2006/table">
            <a:tbl>
              <a:tblPr/>
              <a:tblGrid>
                <a:gridCol w="1859040"/>
                <a:gridCol w="698400"/>
                <a:gridCol w="5348520"/>
                <a:gridCol w="8031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掌握教學節奏和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一原定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-1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鐘完成，實際超出約十分鐘。影響到最後一項教學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使用教學媒體或電腦網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透過單槍呈現植物圖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字卡呈現課文內容，在課文旁直接解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學生個別差異調整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06800" y="375300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18235200">
            <a:off x="2304000" y="271476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17440" y="966960"/>
          <a:ext cx="8721720" cy="5051160"/>
        </p:xfrm>
        <a:graphic>
          <a:graphicData uri="http://schemas.openxmlformats.org/drawingml/2006/table">
            <a:tbl>
              <a:tblPr/>
              <a:tblGrid>
                <a:gridCol w="1862280"/>
                <a:gridCol w="698400"/>
                <a:gridCol w="5356080"/>
                <a:gridCol w="804960"/>
              </a:tblGrid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由淺而深的問題引導學生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呈現和各種植物有關的問題時，能由具體而抽象，例如「梅花生長的季節？－梅花有什麼特質是其他植物所沒有的？－它有什麼抽象意義？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待答時間適當（三秒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待答行為不明顯。老師發問後，只要有學生舉手，就直接請其回答。例如老師問「植物的外形和所代表的抽象意義之間有什麼關係？」有一個學生舉手，老師立刻請其回答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06800" y="241452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8235200">
            <a:off x="2294640" y="4874040"/>
            <a:ext cx="4683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47680" y="1166760"/>
          <a:ext cx="8648640" cy="4567320"/>
        </p:xfrm>
        <a:graphic>
          <a:graphicData uri="http://schemas.openxmlformats.org/drawingml/2006/table">
            <a:tbl>
              <a:tblPr/>
              <a:tblGrid>
                <a:gridCol w="1846080"/>
                <a:gridCol w="693720"/>
                <a:gridCol w="5310360"/>
                <a:gridCol w="79848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能針對學生回答繼續延伸問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在學生說明植物外形之後，針對學生回答繼續發問，例如「梅花在什麼季節開花？」學生回答冬天。老師接著問「冬天的氣候怎樣？」、學生回答很寒冷。老師接著又問「梅花在寒冷的冬天盛開又代表一個人怎樣的個性？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206800" y="2292480"/>
            <a:ext cx="431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1197000"/>
          <a:ext cx="8562960" cy="3755880"/>
        </p:xfrm>
        <a:graphic>
          <a:graphicData uri="http://schemas.openxmlformats.org/drawingml/2006/table">
            <a:tbl>
              <a:tblPr/>
              <a:tblGrid>
                <a:gridCol w="1828800"/>
                <a:gridCol w="685800"/>
                <a:gridCol w="5257800"/>
                <a:gridCol w="79056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答後能歸納整理學生的回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將各種植物象徵的意義，在師生問答之後，寫在黑板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針對課文內容解釋問答之後，歸納整理說明菊花和蓮花潔身自愛的異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47840" y="217008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33280" y="1076400"/>
          <a:ext cx="8664480" cy="5286240"/>
        </p:xfrm>
        <a:graphic>
          <a:graphicData uri="http://schemas.openxmlformats.org/drawingml/2006/table">
            <a:tbl>
              <a:tblPr/>
              <a:tblGrid>
                <a:gridCol w="1849680"/>
                <a:gridCol w="695160"/>
                <a:gridCol w="5319720"/>
                <a:gridCol w="7999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板書正確、工整有條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黑板上寫「梅：冬…」，字寫得很擠、字體太小，觀察者在教室後面無法看清楚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口語清晰、音量適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觀察者坐在教室最後面，可以聽清楚老師的話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用語接近學生：例如「這樣瞭解喔」、「不要裝傻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92400" y="473544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 rot="18235200">
            <a:off x="2304360" y="3631320"/>
            <a:ext cx="46800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95440" y="1069920"/>
          <a:ext cx="7924680" cy="3778200"/>
        </p:xfrm>
        <a:graphic>
          <a:graphicData uri="http://schemas.openxmlformats.org/drawingml/2006/table">
            <a:tbl>
              <a:tblPr/>
              <a:tblGrid>
                <a:gridCol w="1692000"/>
                <a:gridCol w="635040"/>
                <a:gridCol w="4865760"/>
                <a:gridCol w="73188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走動或眼神能關照多數學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課前、中兩個時段，老師用眼神關注左右兩名後排學生學習狀況，提醒他們注意上課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370240" y="244152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系統的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改進中小學教師的教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促進教師的專業發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發現教師教學表現成就，激勵教師工作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士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促進行政人員與教師之間以及教師彼此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之間的溝通、協調和合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教學專業發展評鑑系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90520" y="1052640"/>
          <a:ext cx="8518680" cy="5079960"/>
        </p:xfrm>
        <a:graphic>
          <a:graphicData uri="http://schemas.openxmlformats.org/drawingml/2006/table">
            <a:tbl>
              <a:tblPr/>
              <a:tblGrid>
                <a:gridCol w="1819440"/>
                <a:gridCol w="682560"/>
                <a:gridCol w="5230800"/>
                <a:gridCol w="785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依實際需要選擇適切而多元的評量方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過程透過問答、學習單等方式了解學生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檢視學生的學習情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33440" y="293364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6120" y="1073160"/>
          <a:ext cx="8533080" cy="4600440"/>
        </p:xfrm>
        <a:graphic>
          <a:graphicData uri="http://schemas.openxmlformats.org/drawingml/2006/table">
            <a:tbl>
              <a:tblPr/>
              <a:tblGrid>
                <a:gridCol w="1820880"/>
                <a:gridCol w="684360"/>
                <a:gridCol w="5240160"/>
                <a:gridCol w="787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3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習評量結果分析學習成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回饋會談時，老師表達學習單填寫之後，根據象徵法的對照狀況，分析了解學生學習狀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4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生評量結果調整教學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回饋會談時，教學者表示在後續單元「五柳先生傳」，對於抽象意涵的介紹，會以生活結合的方式呈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19400" y="204480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220840" y="394164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1800" y="1063800"/>
          <a:ext cx="8447400" cy="4911480"/>
        </p:xfrm>
        <a:graphic>
          <a:graphicData uri="http://schemas.openxmlformats.org/drawingml/2006/table">
            <a:tbl>
              <a:tblPr/>
              <a:tblGrid>
                <a:gridCol w="1803600"/>
                <a:gridCol w="677880"/>
                <a:gridCol w="5186160"/>
                <a:gridCol w="77976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優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學習專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專注程度，在活動一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%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；活動二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運用所學概念與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對於課文內容的字詞義回答快速正確，例如老師問「晉陶淵明獨愛菊」的「獨愛」是什麼意思，學生幾乎在老師發問之後立刻回答：「特別喜歡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301840" y="282420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287440" y="42418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07880" y="1197000"/>
          <a:ext cx="8299440" cy="4119480"/>
        </p:xfrm>
        <a:graphic>
          <a:graphicData uri="http://schemas.openxmlformats.org/drawingml/2006/table">
            <a:tbl>
              <a:tblPr/>
              <a:tblGrid>
                <a:gridCol w="1771920"/>
                <a:gridCol w="664920"/>
                <a:gridCol w="5095800"/>
                <a:gridCol w="766800"/>
              </a:tblGrid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並悅納與學習活動有關的價值觀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問學生「你們覺得可以用什麼植物代表自己？理由是什麼？」多名學生舉手回答，能夠清楚說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301840" y="23860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76200" y="1052640"/>
          <a:ext cx="8477280" cy="4475160"/>
        </p:xfrm>
        <a:graphic>
          <a:graphicData uri="http://schemas.openxmlformats.org/drawingml/2006/table">
            <a:tbl>
              <a:tblPr/>
              <a:tblGrid>
                <a:gridCol w="1809720"/>
                <a:gridCol w="679680"/>
                <a:gridCol w="5205240"/>
                <a:gridCol w="782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訂定合理的班級規範與獎懲規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要求學生尊重任課老師、鼓勵學生發表但不可離題，上課時學生言行，多能注意互動的分寸，即使有些不專心的學生（第一排最後一名學生），也能遵守班上規定，不干擾教學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維持良好教室秩序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01840" y="257796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301840" y="41338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36680" y="981000"/>
          <a:ext cx="8388360" cy="4291200"/>
        </p:xfrm>
        <a:graphic>
          <a:graphicData uri="http://schemas.openxmlformats.org/drawingml/2006/table">
            <a:tbl>
              <a:tblPr/>
              <a:tblGrid>
                <a:gridCol w="1790640"/>
                <a:gridCol w="673200"/>
                <a:gridCol w="5149800"/>
                <a:gridCol w="7747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增強學生的良好表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妥善處理學生不當行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上課肢體動作表現出分心的狀況時，老師適時給予糾正，例如：「春艷，你狀況不好嗎？」、「沒有」、「那就不要趴著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357280" y="351936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46240" y="993600"/>
          <a:ext cx="8621640" cy="5626440"/>
        </p:xfrm>
        <a:graphic>
          <a:graphicData uri="http://schemas.openxmlformats.org/drawingml/2006/table">
            <a:tbl>
              <a:tblPr/>
              <a:tblGrid>
                <a:gridCol w="1839600"/>
                <a:gridCol w="692280"/>
                <a:gridCol w="5294160"/>
                <a:gridCol w="79560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布置或安排適當的學習環境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並未根據教學內容進行相關的環境佈置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2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良好和諧的師生互動關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課時師生互動氣氛良好自然，下課時還有學生跑去抱住老師，說「好久不見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導學生進行同儕合作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20840" y="399744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rot="18235200">
            <a:off x="2264400" y="293544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自評與他評意見分析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484280"/>
          <a:ext cx="8785440" cy="4421160"/>
        </p:xfrm>
        <a:graphic>
          <a:graphicData uri="http://schemas.openxmlformats.org/drawingml/2006/table">
            <a:tbl>
              <a:tblPr/>
              <a:tblGrid>
                <a:gridCol w="1476360"/>
                <a:gridCol w="517680"/>
                <a:gridCol w="2398680"/>
                <a:gridCol w="195120"/>
                <a:gridCol w="1903680"/>
                <a:gridCol w="2293920"/>
              </a:tblGrid>
              <a:tr h="8218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優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待改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他        評    </a:t>
                      </a: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優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ff00"/>
                          </a:solidFill>
                          <a:latin typeface="標楷體"/>
                          <a:ea typeface="標楷體"/>
                        </a:rPr>
                        <a:t>不確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ff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ff00"/>
                          </a:solidFill>
                          <a:latin typeface="標楷體"/>
                          <a:ea typeface="標楷體"/>
                        </a:rPr>
                        <a:t>差異過大</a:t>
                      </a:r>
                      <a:r>
                        <a:rPr b="1" lang="zh-TW" sz="2000" spc="-1" strike="noStrike">
                          <a:solidFill>
                            <a:srgbClr val="00ff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 u="sng">
                          <a:solidFill>
                            <a:srgbClr val="3333cc"/>
                          </a:solidFill>
                          <a:uFillTx/>
                          <a:latin typeface="標楷體"/>
                          <a:ea typeface="標楷體"/>
                        </a:rPr>
                        <a:t>可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待改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當事者中心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當事者中心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當事者中心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Line 147"/>
          <p:cNvSpPr/>
          <p:nvPr/>
        </p:nvSpPr>
        <p:spPr>
          <a:xfrm>
            <a:off x="179280" y="1484280"/>
            <a:ext cx="1944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32000" y="1700280"/>
          <a:ext cx="7056360" cy="4479840"/>
        </p:xfrm>
        <a:graphic>
          <a:graphicData uri="http://schemas.openxmlformats.org/drawingml/2006/table">
            <a:tbl>
              <a:tblPr/>
              <a:tblGrid>
                <a:gridCol w="504720"/>
                <a:gridCol w="3279960"/>
                <a:gridCol w="493560"/>
                <a:gridCol w="495360"/>
                <a:gridCol w="479520"/>
                <a:gridCol w="412560"/>
                <a:gridCol w="330120"/>
                <a:gridCol w="606600"/>
                <a:gridCol w="4539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Ａ課程設計與教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900000" y="1773360"/>
          <a:ext cx="6999480" cy="4451400"/>
        </p:xfrm>
        <a:graphic>
          <a:graphicData uri="http://schemas.openxmlformats.org/drawingml/2006/table">
            <a:tbl>
              <a:tblPr/>
              <a:tblGrid>
                <a:gridCol w="513000"/>
                <a:gridCol w="3238200"/>
                <a:gridCol w="492480"/>
                <a:gridCol w="490320"/>
                <a:gridCol w="476280"/>
                <a:gridCol w="414360"/>
                <a:gridCol w="387360"/>
                <a:gridCol w="538200"/>
                <a:gridCol w="449280"/>
              </a:tblGrid>
              <a:tr h="54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9" name="Rectangle 28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A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課程設計與教學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A-1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展現課程設計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A-2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研擬適切的教學計畫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本系統暫不處理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3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精熟任教學科領域知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4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清楚呈現教材內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5 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運用有效教學技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國文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                  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的內容，知識很豐富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會清楚說明上課內容重點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時，會用一些很好的方法或活動讓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得更成功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很會問問題，讓我更努力學習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講的話和他的動作，我都能了解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會用學習單、問問題，或是其他考試的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法，來瞭解我學會了沒有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希望我學會的，我都能學會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班上同學的秩序都很好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們上課的氣氛很好，同學學得很快樂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24000" y="765000"/>
            <a:ext cx="503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國文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                  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35000" y="12344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後，我還想對老師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95280" y="1989000"/>
          <a:ext cx="8232480" cy="3868920"/>
        </p:xfrm>
        <a:graphic>
          <a:graphicData uri="http://schemas.openxmlformats.org/drawingml/2006/table">
            <a:tbl>
              <a:tblPr/>
              <a:tblGrid>
                <a:gridCol w="8232480"/>
              </a:tblGrid>
              <a:tr h="38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您上課時會補充許多東西，讓我們可以學習更多，我們的關係也不只是師生，也有像朋友喔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上課時有一種很努力的感覺，而且還常常有趣，您會替我們講解許多我們不知道的問題。但是希望您上課不要太大聲，因為您有時小聲、有時大聲，真的會嚇到我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124000" y="765000"/>
            <a:ext cx="503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50920" y="692280"/>
          <a:ext cx="8781840" cy="5900760"/>
        </p:xfrm>
        <a:graphic>
          <a:graphicData uri="http://schemas.openxmlformats.org/drawingml/2006/table">
            <a:tbl>
              <a:tblPr/>
              <a:tblGrid>
                <a:gridCol w="434880"/>
                <a:gridCol w="504720"/>
                <a:gridCol w="515880"/>
                <a:gridCol w="7326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的內容，知識很豐富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會清楚說明上課內容重點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時，會用一些很好的方法或活動讓我學得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  更成功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4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很會問問題，讓我更努力學習。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6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5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講的話和他的動作，我都能了解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6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會用學習單、問問題，或是其他考試的方法，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  來瞭解我學會了沒有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8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7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希望我學會的，我都能學會。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9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8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班上同學的秩序都很好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B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9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我們上課的氣氛很好，同學學得很快樂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B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835280" y="0"/>
            <a:ext cx="73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國文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女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470320" y="3592440"/>
            <a:ext cx="1312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82880" y="35924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90800" y="3592440"/>
            <a:ext cx="2222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440" y="35924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1360" y="3592440"/>
            <a:ext cx="2212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4280" y="3592440"/>
            <a:ext cx="237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33520" y="685800"/>
            <a:ext cx="8305560" cy="5608800"/>
            <a:chOff x="533520" y="685800"/>
            <a:chExt cx="8305560" cy="5608800"/>
          </a:xfrm>
        </p:grpSpPr>
        <p:sp>
          <p:nvSpPr>
            <p:cNvPr id="296" name=""/>
            <p:cNvSpPr/>
            <p:nvPr/>
          </p:nvSpPr>
          <p:spPr>
            <a:xfrm>
              <a:off x="6013440" y="3986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199548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3400" y="199548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4400" y="1995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93760" y="199548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22680" y="1995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32040" y="199548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2960" y="199548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32680" y="199548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12080" y="199548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22960" y="2006640"/>
              <a:ext cx="9720" cy="104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22960" y="3046320"/>
              <a:ext cx="97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22960" y="3059280"/>
              <a:ext cx="9720" cy="51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22960" y="357984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22960" y="3591000"/>
              <a:ext cx="972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22960" y="4121280"/>
              <a:ext cx="9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22960" y="4133880"/>
              <a:ext cx="9720" cy="51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520" y="519588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3400" y="519588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84400" y="5195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93760" y="519588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519588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32680" y="519588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12080" y="519588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572760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400" y="572760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84400" y="57276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93760" y="572760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2040" y="572760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32680" y="572760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12080" y="572760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33520" y="685800"/>
              <a:ext cx="8305560" cy="5608800"/>
              <a:chOff x="533520" y="685800"/>
              <a:chExt cx="8305560" cy="5608800"/>
            </a:xfrm>
          </p:grpSpPr>
          <p:sp>
            <p:nvSpPr>
              <p:cNvPr id="328" name=""/>
              <p:cNvSpPr/>
              <p:nvPr/>
            </p:nvSpPr>
            <p:spPr>
              <a:xfrm>
                <a:off x="795600" y="68580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63520" y="68580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3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64520" y="685800"/>
                <a:ext cx="4329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華康中明體"/>
                    <a:ea typeface="華康中明體"/>
                  </a:rPr>
                  <a:t>　</a:t>
                </a:r>
                <a:r>
                  <a:rPr b="1" lang="zh-TW" sz="2400" spc="-1" strike="noStrike">
                    <a:solidFill>
                      <a:srgbClr val="ff0000"/>
                    </a:solidFill>
                    <a:latin typeface="標楷體"/>
                    <a:ea typeface="標楷體"/>
                  </a:rPr>
                  <a:t>運用學生資料來解決第四欄中不同意歧見之建議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8532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6928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294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51380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400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5832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72800" y="151776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0104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304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4556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0936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9188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520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952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72760" y="1517760"/>
                <a:ext cx="1189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2104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3520" y="1293840"/>
                <a:ext cx="298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520" y="1293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3520" y="1293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3520" y="1293840"/>
                <a:ext cx="298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3520" y="1293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3520" y="1293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3400" y="1293840"/>
                <a:ext cx="30592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400" y="1293840"/>
                <a:ext cx="30592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22680" y="1293840"/>
                <a:ext cx="30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13000" y="1293840"/>
                <a:ext cx="30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22680" y="129384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52920" y="1293840"/>
                <a:ext cx="5159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52920" y="1293840"/>
                <a:ext cx="51591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812080" y="1293840"/>
                <a:ext cx="270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12080" y="1293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812080" y="1293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12080" y="1293840"/>
                <a:ext cx="270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812080" y="1293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812080" y="1293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520" y="1332000"/>
                <a:ext cx="2988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520" y="1332000"/>
                <a:ext cx="144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22680" y="1332000"/>
                <a:ext cx="93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2680" y="1332000"/>
                <a:ext cx="324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812080" y="1332000"/>
                <a:ext cx="270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812080" y="1332000"/>
                <a:ext cx="180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77760" y="2487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4680" y="24876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自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8840" y="2487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516040" y="2487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94760" y="24876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他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0360" y="2487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67000" y="219384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假如僅有</a:t>
                </a:r>
                <a:r>
                  <a:rPr b="0" lang="zh-TW" sz="1800" spc="-1" strike="noStrike">
                    <a:solidFill>
                      <a:srgbClr val="ff6600"/>
                    </a:solidFill>
                    <a:latin typeface="新細明體"/>
                  </a:rPr>
                  <a:t>少數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生勾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29840" y="2570040"/>
                <a:ext cx="960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該教學行為指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67280" y="219384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假如</a:t>
                </a:r>
                <a:r>
                  <a:rPr b="0" lang="zh-TW" sz="1800" spc="-1" strike="noStrike">
                    <a:solidFill>
                      <a:srgbClr val="ff6600"/>
                    </a:solidFill>
                    <a:latin typeface="新細明體"/>
                  </a:rPr>
                  <a:t>多數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生勾選該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38680" y="257004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行為指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3520" y="19954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3400" y="19954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84400" y="19954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84400" y="199548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93760" y="19954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22680" y="19954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199548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32040" y="19954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22960" y="19954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22960" y="199548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32680" y="19954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812080" y="1995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3520" y="2006640"/>
                <a:ext cx="2988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3520" y="2006640"/>
                <a:ext cx="14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84400" y="2006640"/>
                <a:ext cx="936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84400" y="2006640"/>
                <a:ext cx="14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22680" y="2006640"/>
                <a:ext cx="936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622680" y="2006640"/>
                <a:ext cx="32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22960" y="2006640"/>
                <a:ext cx="180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812080" y="2006640"/>
                <a:ext cx="2700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812080" y="2006640"/>
                <a:ext cx="180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95760" y="317484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待改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91560" y="317484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優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51200" y="317484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18800" y="317484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3520" y="3046320"/>
                <a:ext cx="2988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3520" y="304632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3400" y="3046320"/>
                <a:ext cx="15210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400" y="3046320"/>
                <a:ext cx="1521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84400" y="3046320"/>
                <a:ext cx="9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84400" y="30463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84400" y="304632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093760" y="3046320"/>
                <a:ext cx="1528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93760" y="3046320"/>
                <a:ext cx="1528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22680" y="3046320"/>
                <a:ext cx="9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22680" y="30463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22680" y="304632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32040" y="3046320"/>
                <a:ext cx="2590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2040" y="3046320"/>
                <a:ext cx="2590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22960" y="304632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2960" y="3046320"/>
                <a:ext cx="18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32680" y="3046320"/>
                <a:ext cx="25794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32680" y="3046320"/>
                <a:ext cx="257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812080" y="3046320"/>
                <a:ext cx="270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812080" y="304632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3520" y="3059280"/>
                <a:ext cx="2988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3520" y="30592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084400" y="30592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84400" y="30592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22680" y="30592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22680" y="3059280"/>
                <a:ext cx="32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22960" y="30592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812080" y="3059280"/>
                <a:ext cx="2700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812080" y="30592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41480" y="37069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9760" y="370692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滿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19960" y="370692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9840" y="37861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33520" y="3579840"/>
                <a:ext cx="298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3520" y="3579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3400" y="3579840"/>
                <a:ext cx="1521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3400" y="3579840"/>
                <a:ext cx="1521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84400" y="3579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84400" y="3579840"/>
                <a:ext cx="9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84400" y="357984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93760" y="3579840"/>
                <a:ext cx="1528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93760" y="3579840"/>
                <a:ext cx="15289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22680" y="3579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22680" y="3579840"/>
                <a:ext cx="9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22680" y="357984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632040" y="3579840"/>
                <a:ext cx="2590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32040" y="3579840"/>
                <a:ext cx="25909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22960" y="3579840"/>
                <a:ext cx="97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22960" y="357984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32680" y="3579840"/>
                <a:ext cx="2579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32680" y="3579840"/>
                <a:ext cx="25794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812080" y="3579840"/>
                <a:ext cx="27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812080" y="3579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3520" y="3591000"/>
                <a:ext cx="2988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33520" y="3591000"/>
                <a:ext cx="14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084400" y="3591000"/>
                <a:ext cx="936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084400" y="3591000"/>
                <a:ext cx="14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22680" y="3591000"/>
                <a:ext cx="936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22680" y="3591000"/>
                <a:ext cx="32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22960" y="3591000"/>
                <a:ext cx="180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812080" y="3591000"/>
                <a:ext cx="2700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812080" y="3591000"/>
                <a:ext cx="180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41480" y="424800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83000" y="424800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19960" y="424800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18800" y="424800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3520" y="4121280"/>
                <a:ext cx="2988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3520" y="41212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3400" y="4121280"/>
                <a:ext cx="15210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3400" y="41212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84400" y="4121280"/>
                <a:ext cx="9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84400" y="41212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84400" y="412128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93760" y="4121280"/>
                <a:ext cx="1528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3760" y="41212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22680" y="4121280"/>
                <a:ext cx="9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22680" y="41212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22680" y="4121280"/>
                <a:ext cx="32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32040" y="4121280"/>
                <a:ext cx="2590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632040" y="41212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22960" y="41212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22960" y="412128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32680" y="4121280"/>
                <a:ext cx="2579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32680" y="41212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812080" y="4121280"/>
                <a:ext cx="270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812080" y="41212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33520" y="4133880"/>
                <a:ext cx="2988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3520" y="41338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84400" y="41338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84400" y="41338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2680" y="41338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22680" y="4133880"/>
                <a:ext cx="32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22960" y="41338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812080" y="4133880"/>
                <a:ext cx="2700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812080" y="41338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04148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8120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5120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106040" y="4859280"/>
                <a:ext cx="722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 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520" y="4653000"/>
                <a:ext cx="298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520" y="465300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3400" y="4653000"/>
                <a:ext cx="1521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3400" y="465300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84400" y="46530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84400" y="46530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84400" y="465300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93760" y="465300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22680" y="46530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22680" y="465300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32040" y="465300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22960" y="465300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22960" y="465300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32680" y="465300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12080" y="465300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520" y="4664160"/>
                <a:ext cx="2988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3520" y="4664160"/>
                <a:ext cx="14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84400" y="4664160"/>
                <a:ext cx="936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84400" y="4664160"/>
                <a:ext cx="14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22680" y="4664160"/>
                <a:ext cx="32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22960" y="4664160"/>
                <a:ext cx="180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812080" y="4664160"/>
                <a:ext cx="2700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812080" y="4664160"/>
                <a:ext cx="180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041480" y="53229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81200" y="53229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9960" y="532296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79840" y="532296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3520" y="51958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3400" y="51958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84400" y="51958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84400" y="519588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93760" y="51958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622680" y="51958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22680" y="519588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2040" y="51958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22960" y="51958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222960" y="519588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32680" y="51958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12080" y="51958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3520" y="5207040"/>
                <a:ext cx="2988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33520" y="5207040"/>
                <a:ext cx="14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84400" y="5207040"/>
                <a:ext cx="936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84400" y="5207040"/>
                <a:ext cx="14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622680" y="5207040"/>
                <a:ext cx="32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2960" y="5207040"/>
                <a:ext cx="180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812080" y="5207040"/>
                <a:ext cx="2700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812080" y="5207040"/>
                <a:ext cx="180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4148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8120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76568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808080"/>
                    </a:solidFill>
                    <a:latin typeface="Times New Roman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6452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808080"/>
                    </a:solidFill>
                    <a:latin typeface="Times New Roman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33520" y="572760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400" y="5727600"/>
                <a:ext cx="1521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084400" y="572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84400" y="572760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093760" y="5727600"/>
                <a:ext cx="1528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22680" y="572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22680" y="572760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32040" y="5727600"/>
                <a:ext cx="2590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22960" y="572760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22960" y="572760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32680" y="5727600"/>
                <a:ext cx="257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12080" y="57276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3520" y="5738760"/>
                <a:ext cx="2988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3520" y="5738760"/>
                <a:ext cx="14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3520" y="6259680"/>
                <a:ext cx="298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3520" y="62596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3352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3520" y="6259680"/>
                <a:ext cx="298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33520" y="62596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352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3400" y="6259680"/>
                <a:ext cx="1521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3400" y="62596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84400" y="5738760"/>
                <a:ext cx="936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84400" y="5738760"/>
                <a:ext cx="14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8440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08440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08440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11400" y="6259680"/>
                <a:ext cx="15112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11400" y="6259680"/>
                <a:ext cx="151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22680" y="5738760"/>
                <a:ext cx="32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22680" y="6259680"/>
                <a:ext cx="302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22680" y="62596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22680" y="6259680"/>
                <a:ext cx="32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52920" y="6259680"/>
                <a:ext cx="2570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52920" y="6259680"/>
                <a:ext cx="257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222960" y="5738760"/>
                <a:ext cx="180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2296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22296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22296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6259680"/>
                <a:ext cx="25621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6259680"/>
                <a:ext cx="2562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812080" y="5738760"/>
                <a:ext cx="2700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812080" y="5738760"/>
                <a:ext cx="180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81208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1208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1208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81208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81208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81208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24000" y="1700280"/>
          <a:ext cx="8483040" cy="4843440"/>
        </p:xfrm>
        <a:graphic>
          <a:graphicData uri="http://schemas.openxmlformats.org/drawingml/2006/table">
            <a:tbl>
              <a:tblPr/>
              <a:tblGrid>
                <a:gridCol w="502200"/>
                <a:gridCol w="3269160"/>
                <a:gridCol w="494280"/>
                <a:gridCol w="494280"/>
                <a:gridCol w="477360"/>
                <a:gridCol w="411480"/>
                <a:gridCol w="384840"/>
                <a:gridCol w="547200"/>
                <a:gridCol w="545760"/>
                <a:gridCol w="479160"/>
                <a:gridCol w="424800"/>
                <a:gridCol w="452520"/>
              </a:tblGrid>
              <a:tr h="68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Ａ課程設計與教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30120" y="1773360"/>
          <a:ext cx="8499600" cy="4600440"/>
        </p:xfrm>
        <a:graphic>
          <a:graphicData uri="http://schemas.openxmlformats.org/drawingml/2006/table">
            <a:tbl>
              <a:tblPr/>
              <a:tblGrid>
                <a:gridCol w="513000"/>
                <a:gridCol w="3238200"/>
                <a:gridCol w="492120"/>
                <a:gridCol w="490680"/>
                <a:gridCol w="476280"/>
                <a:gridCol w="414360"/>
                <a:gridCol w="387360"/>
                <a:gridCol w="538200"/>
                <a:gridCol w="601560"/>
                <a:gridCol w="474840"/>
                <a:gridCol w="423720"/>
                <a:gridCol w="449280"/>
              </a:tblGrid>
              <a:tr h="69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確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確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647280" y="1602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總評意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03200" y="2081160"/>
          <a:ext cx="8291520" cy="366408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66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優點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老師自評、觀察者紀錄以及學生學習意見來看，傅老師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」、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」、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」等三項指標有良好的表現。例如在呈現教材時，能夠有條不紊、逐步引導學生從具體到抽象、從簡單到複雜，在重要概念的掌握及講解上，也可以看出老師的用心及對教材的精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99880" y="1704960"/>
          <a:ext cx="8607600" cy="4819680"/>
        </p:xfrm>
        <a:graphic>
          <a:graphicData uri="http://schemas.openxmlformats.org/drawingml/2006/table">
            <a:tbl>
              <a:tblPr/>
              <a:tblGrid>
                <a:gridCol w="8607600"/>
              </a:tblGrid>
              <a:tr h="48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待成長的地方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老師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」有改進的空間，在三項檢核重點之中，以「掌握教材內容」表現最為突出，不過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」以及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」等兩項檢核重點，表現則比較不明顯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體的改進建議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各項資料，決定選擇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」作為專業成長的方向，在回饋會談過程中，傅老師表達個人對於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」的重視及關切，因此決定以該項檢核重點為擬定及執行專業成長計畫的核心。相關活動規劃請見專業成長計畫表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380880" y="304920"/>
            <a:ext cx="8305920" cy="5943240"/>
            <a:chOff x="380880" y="304920"/>
            <a:chExt cx="8305920" cy="5943240"/>
          </a:xfrm>
        </p:grpSpPr>
        <p:grpSp>
          <p:nvGrpSpPr>
            <p:cNvPr id="616" name=""/>
            <p:cNvGrpSpPr/>
            <p:nvPr/>
          </p:nvGrpSpPr>
          <p:grpSpPr>
            <a:xfrm>
              <a:off x="380880" y="304920"/>
              <a:ext cx="8305920" cy="5410080"/>
              <a:chOff x="380880" y="304920"/>
              <a:chExt cx="8305920" cy="5410080"/>
            </a:xfrm>
          </p:grpSpPr>
          <p:sp>
            <p:nvSpPr>
              <p:cNvPr id="617" name=""/>
              <p:cNvSpPr/>
              <p:nvPr/>
            </p:nvSpPr>
            <p:spPr>
              <a:xfrm>
                <a:off x="380880" y="379440"/>
                <a:ext cx="1817640" cy="5164200"/>
              </a:xfrm>
              <a:prstGeom prst="rightArrow">
                <a:avLst>
                  <a:gd name="adj1" fmla="val 80120"/>
                  <a:gd name="adj2" fmla="val 24977"/>
                </a:avLst>
              </a:prstGeom>
              <a:solidFill>
                <a:srgbClr val="ffff99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閱讀和研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參與討論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賞影片和錄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影帶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參加筆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  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道行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6856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察他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分析自行運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的情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比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選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計劃使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究行為的多種應用途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8620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角色扮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小團體中練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教室中練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紀錄試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批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  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驗行為直到能夠掌握為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72080" y="304920"/>
                <a:ext cx="19479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有規則地使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設計策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把技術精純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  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立行為在個人的教學行為庫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59760" y="795240"/>
                <a:ext cx="1427040" cy="4429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擴大使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發展資源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與同事分享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知識和技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  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定經常地廣泛使用行為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289880" y="5808600"/>
              <a:ext cx="4090680" cy="439560"/>
              <a:chOff x="1289880" y="5808600"/>
              <a:chExt cx="4090680" cy="439560"/>
            </a:xfrm>
          </p:grpSpPr>
          <p:sp>
            <p:nvSpPr>
              <p:cNvPr id="623" name=""/>
              <p:cNvSpPr/>
              <p:nvPr/>
            </p:nvSpPr>
            <p:spPr>
              <a:xfrm>
                <a:off x="1289880" y="5821200"/>
                <a:ext cx="21420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76880" y="5808600"/>
                <a:ext cx="64080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4-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84280" y="5808600"/>
                <a:ext cx="29628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「發展性教學輔導系統」的發展層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612880" y="3049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91000" y="3049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41680" y="1171440"/>
            <a:ext cx="7920" cy="64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41680" y="1817640"/>
            <a:ext cx="7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78560" y="18176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41680" y="1828800"/>
            <a:ext cx="79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78560" y="1828800"/>
            <a:ext cx="936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41680" y="2614680"/>
            <a:ext cx="7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78560" y="261468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41680" y="2627280"/>
            <a:ext cx="792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78560" y="2627280"/>
            <a:ext cx="936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41680" y="3624120"/>
            <a:ext cx="79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78560" y="3624120"/>
            <a:ext cx="9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41680" y="3637080"/>
            <a:ext cx="792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78560" y="3637080"/>
            <a:ext cx="936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41680" y="4633920"/>
            <a:ext cx="7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578560" y="463392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41680" y="4646520"/>
            <a:ext cx="792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78560" y="4646520"/>
            <a:ext cx="936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60440" y="457200"/>
            <a:ext cx="8458200" cy="5943600"/>
            <a:chOff x="460440" y="457200"/>
            <a:chExt cx="8458200" cy="5943600"/>
          </a:xfrm>
        </p:grpSpPr>
        <p:sp>
          <p:nvSpPr>
            <p:cNvPr id="646" name=""/>
            <p:cNvSpPr/>
            <p:nvPr/>
          </p:nvSpPr>
          <p:spPr>
            <a:xfrm>
              <a:off x="2215440" y="45720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51680" y="457200"/>
              <a:ext cx="732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4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37520" y="457200"/>
              <a:ext cx="2602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　建議的成長活動系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199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90240" y="1327320"/>
              <a:ext cx="29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6948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0604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75600" y="132732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320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28080" y="1327320"/>
              <a:ext cx="13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527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27000" y="132732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131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04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4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4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4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04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4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7440" y="1135080"/>
              <a:ext cx="21542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7440" y="113508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4168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4168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4168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68680" y="1135080"/>
              <a:ext cx="62229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68680" y="1135080"/>
              <a:ext cx="6222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916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916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8916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916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8916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916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0440" y="1171440"/>
              <a:ext cx="270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044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168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891640" y="1171440"/>
              <a:ext cx="270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89164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40240" y="21528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獨自完成的成長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34520" y="215280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和他人合作的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0440" y="181764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0440" y="18176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440" y="1817640"/>
              <a:ext cx="2154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440" y="1817640"/>
              <a:ext cx="215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1680" y="1817640"/>
              <a:ext cx="7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1680" y="1817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9600" y="1817640"/>
              <a:ext cx="292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49600" y="1817640"/>
              <a:ext cx="292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78560" y="181764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78560" y="1817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87920" y="1817640"/>
              <a:ext cx="3303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87920" y="1817640"/>
              <a:ext cx="330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891640" y="181764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891640" y="18176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0440" y="1828800"/>
              <a:ext cx="2700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044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4168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7856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91640" y="1828800"/>
              <a:ext cx="2700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89164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7120" y="280512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71720" y="28051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發現有效教學行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06640" y="280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觀賞影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8720" y="28051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影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45720" y="28051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電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04360" y="2805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15200" y="3166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演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65080" y="31669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錄音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6840" y="31669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唱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31200" y="31669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閱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3560" y="280512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參與有計畫的研討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60960" y="28051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出席知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90680" y="31669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性的講習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21880" y="31669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修讀研究所課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0440" y="261468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0440" y="261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440" y="2614680"/>
              <a:ext cx="2154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7440" y="261468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41680" y="261468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41680" y="26146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49600" y="2614680"/>
              <a:ext cx="292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49600" y="261468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8560" y="261468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78560" y="26146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87920" y="2614680"/>
              <a:ext cx="3303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87920" y="261468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891640" y="261468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891640" y="261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0440" y="2627280"/>
              <a:ext cx="27000" cy="9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044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4168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7856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91640" y="2627280"/>
              <a:ext cx="27000" cy="9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89164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120" y="367812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71720" y="36781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對於教學行為加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1880" y="404028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0280" y="40402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反應和應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1520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思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9760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收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5460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組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1196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評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77880" y="3817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60920" y="4176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寫筆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6480" y="4176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計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5352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討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29160" y="3817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角色扮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22840" y="3817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腦力激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8116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0680" y="41767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訪其他教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440" y="3624120"/>
              <a:ext cx="27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0440" y="3624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440" y="3624120"/>
              <a:ext cx="2154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7440" y="362412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41680" y="362412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41680" y="362412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49600" y="3624120"/>
              <a:ext cx="292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49600" y="362412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78560" y="362412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78560" y="362412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87920" y="3624120"/>
              <a:ext cx="33037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7920" y="362412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891640" y="3624120"/>
              <a:ext cx="27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891640" y="3624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0440" y="3637080"/>
              <a:ext cx="27000" cy="10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044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4168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856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891640" y="3637080"/>
              <a:ext cx="27000" cy="10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89164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7120" y="48261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1720" y="482616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在教室情境中研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1880" y="518796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4560" y="5187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教學行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43800" y="48261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微縮教學和錄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84160" y="48261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在自己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52360" y="51879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教室中練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37480" y="51879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批判自己的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6948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13880" y="55483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分析和調整自己的教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3340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26680" y="59101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為了徹底執行而設計策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36400" y="48261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出席訓練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95040" y="48261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觀摩教學展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302160" y="518796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邀請其他人進行重點觀察並提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44960" y="55483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回饋資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0440" y="463392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0440" y="46339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440" y="4633920"/>
              <a:ext cx="2154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7440" y="463392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41680" y="463392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1680" y="4633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49600" y="4633920"/>
              <a:ext cx="292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49600" y="463392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78560" y="463392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78560" y="4633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87920" y="4633920"/>
              <a:ext cx="3303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87920" y="463392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891640" y="463392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891640" y="46339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0440" y="4646520"/>
              <a:ext cx="27000" cy="171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044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04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04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04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04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604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04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440" y="6365880"/>
              <a:ext cx="21542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440" y="6365880"/>
              <a:ext cx="215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4168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4168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4168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4168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68680" y="6365880"/>
              <a:ext cx="290988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668680" y="6365880"/>
              <a:ext cx="290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7856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78560" y="6365880"/>
              <a:ext cx="284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78560" y="63658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7856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7000" y="6365880"/>
              <a:ext cx="32846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07000" y="6365880"/>
              <a:ext cx="328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891640" y="4646520"/>
              <a:ext cx="27000" cy="171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89164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8916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8916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8916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8916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916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916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A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課程設計與教學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6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善於發問啟發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7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應用良好溝通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8 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善於運用學習評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9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達成預期學習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395280" y="1484280"/>
          <a:ext cx="8265960" cy="2502000"/>
        </p:xfrm>
        <a:graphic>
          <a:graphicData uri="http://schemas.openxmlformats.org/drawingml/2006/table">
            <a:tbl>
              <a:tblPr/>
              <a:tblGrid>
                <a:gridCol w="826596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已有的教學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考「綜合報告表」（表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A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之後，註明教師已具備能力的評鑑指標代號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已具備能力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82440" y="907920"/>
          <a:ext cx="8907480" cy="5564160"/>
        </p:xfrm>
        <a:graphic>
          <a:graphicData uri="http://schemas.openxmlformats.org/drawingml/2006/table">
            <a:tbl>
              <a:tblPr/>
              <a:tblGrid>
                <a:gridCol w="919440"/>
                <a:gridCol w="5521320"/>
                <a:gridCol w="1430280"/>
                <a:gridCol w="1036440"/>
              </a:tblGrid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需要成長的評鑑指標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一個評鑑指標請用一張表格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展層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黃錦鋐（民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。國文教學法。臺北市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教同校國文科陳琦偵老師，在課程設計時應該注意哪些重點，以及如何將課程內容結合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領域會議中以「課程與學生生活經驗」為主題，請參與老師提出意見及作法，提供教學者比較參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陳琦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俊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9" name=""/>
          <p:cNvGraphicFramePr/>
          <p:nvPr/>
        </p:nvGraphicFramePr>
        <p:xfrm>
          <a:off x="185760" y="1052640"/>
          <a:ext cx="8759880" cy="5383080"/>
        </p:xfrm>
        <a:graphic>
          <a:graphicData uri="http://schemas.openxmlformats.org/drawingml/2006/table">
            <a:tbl>
              <a:tblPr/>
              <a:tblGrid>
                <a:gridCol w="873000"/>
                <a:gridCol w="5661000"/>
                <a:gridCol w="1103400"/>
                <a:gridCol w="1122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展層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探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觀摩陳琦偵老師國文教學，探討如何將學理落實於教學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場觀摩之後，再針對陳老師的教學錄影，分析她如何將課程結合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陳琦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下一次文言文課程－「五柳先生傳」為教學主題，嘗試從生活環境、社會變化等角度著手，結合學生目前生活經驗，體會課文意義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趙文中老師協助錄影，錄影之後分析自己是否能確實結合課文內容與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趙文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6380640"/>
            <a:ext cx="8496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簽名：傅嵉安     輔導者簽名：李俊達   日期：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0" y="260280"/>
            <a:ext cx="8915400" cy="6377040"/>
            <a:chOff x="0" y="260280"/>
            <a:chExt cx="8915400" cy="6377040"/>
          </a:xfrm>
        </p:grpSpPr>
        <p:grpSp>
          <p:nvGrpSpPr>
            <p:cNvPr id="843" name=""/>
            <p:cNvGrpSpPr/>
            <p:nvPr/>
          </p:nvGrpSpPr>
          <p:grpSpPr>
            <a:xfrm>
              <a:off x="0" y="260280"/>
              <a:ext cx="8915400" cy="6377040"/>
              <a:chOff x="0" y="260280"/>
              <a:chExt cx="8915400" cy="6377040"/>
            </a:xfrm>
          </p:grpSpPr>
          <p:pic>
            <p:nvPicPr>
              <p:cNvPr id="8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0280"/>
                <a:ext cx="83059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"/>
              <p:cNvSpPr/>
              <p:nvPr/>
            </p:nvSpPr>
            <p:spPr>
              <a:xfrm rot="5338800">
                <a:off x="5025240" y="3088440"/>
                <a:ext cx="53337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教學專業發展評鑑系統成就證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5338800">
                <a:off x="6987240" y="3809880"/>
                <a:ext cx="44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字第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5338800">
                <a:off x="7053840" y="4749840"/>
                <a:ext cx="325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338800">
                <a:off x="5903280" y="3348000"/>
                <a:ext cx="1631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茲證明  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傅嵉安  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老師已經參與﹁教學專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406600">
                <a:off x="6192360" y="1412280"/>
                <a:ext cx="10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發展評鑑系統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5388000">
                <a:off x="5576760" y="4704480"/>
                <a:ext cx="1342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，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並在下述教學行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5338800">
                <a:off x="5728320" y="1550880"/>
                <a:ext cx="12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展示其教學成就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5384400">
                <a:off x="2797560" y="3024360"/>
                <a:ext cx="491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  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4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清楚呈現教材內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5441400">
                <a:off x="2359800" y="2468160"/>
                <a:ext cx="4572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傅嵉安老師的上述教學表現係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433600">
                <a:off x="3176640" y="1655280"/>
                <a:ext cx="187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愛心國中所完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5410200">
                <a:off x="925920" y="2535840"/>
                <a:ext cx="4263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　　　　校長　周敦頤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5416800">
                <a:off x="156600" y="2535840"/>
                <a:ext cx="4263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　　　　局長　吳清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5393400">
                <a:off x="-882000" y="3188160"/>
                <a:ext cx="51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中華民國九十六年五月一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6051600"/>
                <a:ext cx="86104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9" name=""/>
            <p:cNvSpPr/>
            <p:nvPr/>
          </p:nvSpPr>
          <p:spPr>
            <a:xfrm>
              <a:off x="5030640" y="625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宋儒朱熹「觀書有感」詩二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半畝方塘一鑑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天光雲影共徘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問渠那得清如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為有源頭活水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昨夜江邊春水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艨艟巨艦一毛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向來枉費推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此日中流自在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觀察前會談時間：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六、觀察時所使用的發展規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360" y="1700280"/>
            <a:ext cx="900432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優良    滿意   待改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設計與教學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精熟任教學科領域知識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  □  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清楚呈現教材內容…………………□          □  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用有效教學技巧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發問啟發思考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應用良好溝通技巧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運用學習評量………………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達成預期學習目標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班級經營與輔導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建立有助於學習的班級常規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營造積極的班級學習氣氛………    □          □          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意見陳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的優點或特色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尚可成長和改進的空間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成長的構想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250920" y="1989000"/>
          <a:ext cx="8569080" cy="3240000"/>
        </p:xfrm>
        <a:graphic>
          <a:graphicData uri="http://schemas.openxmlformats.org/drawingml/2006/table">
            <a:tbl>
              <a:tblPr/>
              <a:tblGrid>
                <a:gridCol w="5271840"/>
                <a:gridCol w="576000"/>
                <a:gridCol w="1930680"/>
                <a:gridCol w="790560"/>
              </a:tblGrid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掌握任教單元的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7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185760" y="1755720"/>
          <a:ext cx="8804160" cy="5072040"/>
        </p:xfrm>
        <a:graphic>
          <a:graphicData uri="http://schemas.openxmlformats.org/drawingml/2006/table">
            <a:tbl>
              <a:tblPr/>
              <a:tblGrid>
                <a:gridCol w="5563800"/>
                <a:gridCol w="432000"/>
                <a:gridCol w="1996920"/>
                <a:gridCol w="811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學習目標或學習重點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組織條理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而清楚講解重要概念、原則或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舉例說明或示範以增進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適當的練習以熟練學習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6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學習情境啟發學生思考與討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歸納總結學習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9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B 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班級經營與輔導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B-1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建立有助於學習的班級常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B-2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營造積極的班級學習氣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B-3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促進親師溝通與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B-4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落實學生輔導工作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本系統暫不處理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247680" y="1871640"/>
          <a:ext cx="8402760" cy="3887640"/>
        </p:xfrm>
        <a:graphic>
          <a:graphicData uri="http://schemas.openxmlformats.org/drawingml/2006/table">
            <a:tbl>
              <a:tblPr/>
              <a:tblGrid>
                <a:gridCol w="4994280"/>
                <a:gridCol w="577800"/>
                <a:gridCol w="2054160"/>
                <a:gridCol w="77652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發並維持學生學習動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變化教學活動或教學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掌握教學節奏和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使用教學媒體或電腦網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學生個別差異調整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1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"/>
          <p:cNvGraphicFramePr/>
          <p:nvPr/>
        </p:nvGraphicFramePr>
        <p:xfrm>
          <a:off x="322200" y="1908000"/>
          <a:ext cx="8413920" cy="4473360"/>
        </p:xfrm>
        <a:graphic>
          <a:graphicData uri="http://schemas.openxmlformats.org/drawingml/2006/table">
            <a:tbl>
              <a:tblPr/>
              <a:tblGrid>
                <a:gridCol w="5113440"/>
                <a:gridCol w="576360"/>
                <a:gridCol w="2203200"/>
                <a:gridCol w="520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由淺而深的問題引導學生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待答時間適當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（三秒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能針對學生回答繼續延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伸問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答後能歸納整理學生的回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3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338040" y="1996920"/>
          <a:ext cx="8515440" cy="3157560"/>
        </p:xfrm>
        <a:graphic>
          <a:graphicData uri="http://schemas.openxmlformats.org/drawingml/2006/table">
            <a:tbl>
              <a:tblPr/>
              <a:tblGrid>
                <a:gridCol w="5133960"/>
                <a:gridCol w="560520"/>
                <a:gridCol w="2038320"/>
                <a:gridCol w="78264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板書正確、工整有條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口語清晰、音量適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走動或眼神能關照多數學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324000" y="1844640"/>
          <a:ext cx="8568720" cy="4392360"/>
        </p:xfrm>
        <a:graphic>
          <a:graphicData uri="http://schemas.openxmlformats.org/drawingml/2006/table">
            <a:tbl>
              <a:tblPr/>
              <a:tblGrid>
                <a:gridCol w="5136840"/>
                <a:gridCol w="526320"/>
                <a:gridCol w="2118600"/>
                <a:gridCol w="786960"/>
              </a:tblGrid>
              <a:tr h="86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依實際需要選擇適切而多元的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評量方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檢視學生的學習情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3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習評量結果分析學習成</a:t>
                      </a:r>
                      <a:br>
                        <a:rPr sz="2400"/>
                      </a:b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     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4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生評量結果調整教學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7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369720" y="2011320"/>
          <a:ext cx="8406000" cy="3818160"/>
        </p:xfrm>
        <a:graphic>
          <a:graphicData uri="http://schemas.openxmlformats.org/drawingml/2006/table">
            <a:tbl>
              <a:tblPr/>
              <a:tblGrid>
                <a:gridCol w="5384880"/>
                <a:gridCol w="755640"/>
                <a:gridCol w="1497240"/>
                <a:gridCol w="768240"/>
              </a:tblGrid>
              <a:tr h="11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學習專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運用所學概念與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並悅納與學習活動有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關的價值觀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9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0" name=""/>
          <p:cNvGraphicFramePr/>
          <p:nvPr/>
        </p:nvGraphicFramePr>
        <p:xfrm>
          <a:off x="250920" y="1916280"/>
          <a:ext cx="8593200" cy="4049640"/>
        </p:xfrm>
        <a:graphic>
          <a:graphicData uri="http://schemas.openxmlformats.org/drawingml/2006/table">
            <a:tbl>
              <a:tblPr/>
              <a:tblGrid>
                <a:gridCol w="4779720"/>
                <a:gridCol w="614520"/>
                <a:gridCol w="2405160"/>
                <a:gridCol w="793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布置或安排適當的學習環境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良好和諧的師生互動關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導學生進行同儕合作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1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324000" y="1989000"/>
          <a:ext cx="8521560" cy="4446720"/>
        </p:xfrm>
        <a:graphic>
          <a:graphicData uri="http://schemas.openxmlformats.org/drawingml/2006/table">
            <a:tbl>
              <a:tblPr/>
              <a:tblGrid>
                <a:gridCol w="5365440"/>
                <a:gridCol w="847800"/>
                <a:gridCol w="1528920"/>
                <a:gridCol w="779400"/>
              </a:tblGrid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訂定合理的班級規範與獎懲規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維持良好教室秩序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增強學生的良好表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妥善處理學生不當行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4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的內容，知識很豐富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會清楚說明上課內容重點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時，會用一些很好的方法或活動讓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得更成功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很會問問題，讓我更努力學習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講的話和他的動作，我都能了解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會用學習單、問問題，或是其他考試的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法，來瞭解我學會了沒有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希望我學會的，我都能學會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班上同學的秩序都很好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們上課的氣氛很好，同學學得很快樂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035000" y="12344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後，我還想對老師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395280" y="1989000"/>
          <a:ext cx="8232480" cy="3868920"/>
        </p:xfrm>
        <a:graphic>
          <a:graphicData uri="http://schemas.openxmlformats.org/drawingml/2006/table">
            <a:tbl>
              <a:tblPr/>
              <a:tblGrid>
                <a:gridCol w="8232480"/>
              </a:tblGrid>
              <a:tr h="38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24000" y="1585800"/>
          <a:ext cx="8483400" cy="5138640"/>
        </p:xfrm>
        <a:graphic>
          <a:graphicData uri="http://schemas.openxmlformats.org/drawingml/2006/table">
            <a:tbl>
              <a:tblPr/>
              <a:tblGrid>
                <a:gridCol w="502920"/>
                <a:gridCol w="3268800"/>
                <a:gridCol w="493920"/>
                <a:gridCol w="493560"/>
                <a:gridCol w="477720"/>
                <a:gridCol w="411120"/>
                <a:gridCol w="385920"/>
                <a:gridCol w="547560"/>
                <a:gridCol w="544680"/>
                <a:gridCol w="479520"/>
                <a:gridCol w="425160"/>
                <a:gridCol w="452520"/>
              </a:tblGrid>
              <a:tr h="73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Ａ課程設計與教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39640" y="0"/>
            <a:ext cx="8026560" cy="6516720"/>
            <a:chOff x="539640" y="0"/>
            <a:chExt cx="8026560" cy="6516720"/>
          </a:xfrm>
        </p:grpSpPr>
        <p:sp>
          <p:nvSpPr>
            <p:cNvPr id="103" name=""/>
            <p:cNvSpPr/>
            <p:nvPr/>
          </p:nvSpPr>
          <p:spPr>
            <a:xfrm>
              <a:off x="2265120" y="1136520"/>
              <a:ext cx="15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學觀察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17720" y="581040"/>
              <a:ext cx="15210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綜合報告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1240" y="3227400"/>
              <a:ext cx="152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師自評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1240" y="3807000"/>
              <a:ext cx="152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學觀察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1240" y="4386240"/>
              <a:ext cx="15206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學生學習意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38280" y="4964040"/>
              <a:ext cx="15195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綜合報告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0000" y="746280"/>
              <a:ext cx="1520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專業成長計畫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84880" y="2400480"/>
              <a:ext cx="1616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實施成長計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4880" y="2648160"/>
              <a:ext cx="1616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經驗分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65120" y="604800"/>
              <a:ext cx="1519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師自評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120"/>
              <a:ext cx="2108160" cy="24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模式一：自評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觀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00" y="2897280"/>
              <a:ext cx="229104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模式二：自評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觀察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學生反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9600" y="498600"/>
              <a:ext cx="191772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成長計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5640" y="2070000"/>
              <a:ext cx="209412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改進之努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8240" y="166680"/>
              <a:ext cx="3368880" cy="1654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4560" y="414360"/>
              <a:ext cx="2063520" cy="82692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57640" y="1986120"/>
              <a:ext cx="2283120" cy="9936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5120" y="2732040"/>
              <a:ext cx="3584880" cy="289404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7040" y="6269040"/>
              <a:ext cx="4978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教學專業發展評鑑系統之運作過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640" y="0"/>
              <a:ext cx="1303200" cy="744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預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（信任、訓練、支持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040" y="801720"/>
              <a:ext cx="15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9120" y="916200"/>
              <a:ext cx="5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9880" y="1325520"/>
              <a:ext cx="0" cy="15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3760" y="124308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040" y="9540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2040" y="1325520"/>
              <a:ext cx="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114280" y="1738440"/>
              <a:ext cx="20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4720" y="911160"/>
              <a:ext cx="9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9120" y="911160"/>
              <a:ext cx="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797240" y="248292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760" y="1325520"/>
              <a:ext cx="5428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95880" y="573120"/>
              <a:ext cx="652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2560" y="1076400"/>
              <a:ext cx="0" cy="40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0000" y="1076400"/>
              <a:ext cx="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2080" y="273204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43840" y="2935440"/>
              <a:ext cx="0" cy="23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43040" y="5754600"/>
              <a:ext cx="641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3040" y="911160"/>
              <a:ext cx="0" cy="484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02400" y="5295960"/>
              <a:ext cx="1195200" cy="247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成就證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143840" y="5525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62080" y="5129280"/>
              <a:ext cx="87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806200" y="5211720"/>
              <a:ext cx="544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06560" y="3476160"/>
              <a:ext cx="0" cy="173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6560" y="347652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6560" y="400212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06560" y="471636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2560" y="5129280"/>
              <a:ext cx="0" cy="33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81120" y="5461200"/>
              <a:ext cx="315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495520" y="4386240"/>
              <a:ext cx="0" cy="10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3040" y="4383000"/>
              <a:ext cx="20635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4716360"/>
              <a:ext cx="10857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需要成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1880" y="5213520"/>
              <a:ext cx="86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不確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7000" y="2070000"/>
              <a:ext cx="542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2560" y="5129280"/>
              <a:ext cx="15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6880" y="4881600"/>
              <a:ext cx="8668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優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3520" y="1243080"/>
              <a:ext cx="652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在職教育活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3040" y="5791320"/>
              <a:ext cx="1195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基本程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06560" y="5791320"/>
              <a:ext cx="1195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再循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5791320"/>
              <a:ext cx="1197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在職教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5760" y="5791320"/>
              <a:ext cx="16304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0680" y="604044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6000" y="6040440"/>
              <a:ext cx="97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99120" y="6040440"/>
              <a:ext cx="97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114640" y="911160"/>
              <a:ext cx="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97600" y="2732040"/>
              <a:ext cx="6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450280" y="2482920"/>
              <a:ext cx="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42080" y="2516400"/>
              <a:ext cx="32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1800" y="5983200"/>
              <a:ext cx="152280" cy="152640"/>
            </a:xfrm>
            <a:prstGeom prst="flowChartConnector">
              <a:avLst/>
            </a:prstGeom>
            <a:noFill/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330120" y="1773360"/>
          <a:ext cx="8499600" cy="4900320"/>
        </p:xfrm>
        <a:graphic>
          <a:graphicData uri="http://schemas.openxmlformats.org/drawingml/2006/table">
            <a:tbl>
              <a:tblPr/>
              <a:tblGrid>
                <a:gridCol w="513000"/>
                <a:gridCol w="3238200"/>
                <a:gridCol w="492120"/>
                <a:gridCol w="490680"/>
                <a:gridCol w="476280"/>
                <a:gridCol w="414360"/>
                <a:gridCol w="387360"/>
                <a:gridCol w="538200"/>
                <a:gridCol w="601560"/>
                <a:gridCol w="474840"/>
                <a:gridCol w="423720"/>
                <a:gridCol w="449280"/>
              </a:tblGrid>
              <a:tr h="819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>
            <a:off x="0" y="0"/>
            <a:ext cx="91440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47280" y="1602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總評意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403200" y="2081160"/>
          <a:ext cx="8291520" cy="366408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66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優點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待成長的地方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體的改進建議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6" name=""/>
          <p:cNvSpPr/>
          <p:nvPr/>
        </p:nvSpPr>
        <p:spPr>
          <a:xfrm>
            <a:off x="0" y="0"/>
            <a:ext cx="91440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395280" y="880920"/>
          <a:ext cx="8280000" cy="161136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已有的教學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考「綜合報告表」（表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A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之後，註明教師已具備能力的評鑑指標代號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已具備能力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9" name=""/>
          <p:cNvGraphicFramePr/>
          <p:nvPr/>
        </p:nvGraphicFramePr>
        <p:xfrm>
          <a:off x="395280" y="2496960"/>
          <a:ext cx="8292960" cy="3610080"/>
        </p:xfrm>
        <a:graphic>
          <a:graphicData uri="http://schemas.openxmlformats.org/drawingml/2006/table">
            <a:tbl>
              <a:tblPr/>
              <a:tblGrid>
                <a:gridCol w="901800"/>
                <a:gridCol w="4375080"/>
                <a:gridCol w="1508040"/>
                <a:gridCol w="1508040"/>
              </a:tblGrid>
              <a:tr h="482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需要成長的評鑑指標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一個評鑑指標請用一張表格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發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層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br>
                        <a:rPr sz="24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列舉可以採行的活動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0" name=""/>
          <p:cNvSpPr/>
          <p:nvPr/>
        </p:nvSpPr>
        <p:spPr>
          <a:xfrm>
            <a:off x="349200" y="6126840"/>
            <a:ext cx="842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簽名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輔導者簽名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觀察前會談時間：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六、觀察時所使用的評鑑規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本次課程為「愛蓮說」，主要內容在於透過植物外形及其生長特質，引申至該項植物的抽象意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0:47:29Z</dcterms:created>
  <dc:creator>SALER</dc:creator>
  <dc:description/>
  <dc:language>en-US</dc:language>
  <cp:lastModifiedBy>user</cp:lastModifiedBy>
  <dcterms:modified xsi:type="dcterms:W3CDTF">2010-04-01T03:03:05Z</dcterms:modified>
  <cp:revision>25</cp:revision>
  <dc:subject/>
  <dc:title>投影片 1</dc:title>
</cp:coreProperties>
</file>