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86868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61360"/>
            <a:ext cx="86868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0008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6136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6136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279684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00080"/>
            <a:ext cx="279684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00080"/>
            <a:ext cx="279684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61360"/>
            <a:ext cx="279684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61360"/>
            <a:ext cx="279684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61360"/>
            <a:ext cx="279684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423900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00080"/>
            <a:ext cx="423900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2296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00080"/>
            <a:ext cx="423900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6136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423900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0008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6136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0008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61360"/>
            <a:ext cx="86868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534520" y="0"/>
            <a:ext cx="609480" cy="800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8686800" cy="7621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439560">
              <a:spcBef>
                <a:spcPts val="9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338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7840" indent="-3654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\\TPS4\MAC_FILES\__________編務處專用__________\康軒標準字\新資料夾\標準字1.jpg"/>
          <p:cNvPicPr/>
          <p:nvPr/>
        </p:nvPicPr>
        <p:blipFill>
          <a:blip r:embed="rId2"/>
          <a:stretch/>
        </p:blipFill>
        <p:spPr>
          <a:xfrm>
            <a:off x="7772400" y="6620040"/>
            <a:ext cx="1298520" cy="21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001000" y="76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華康粗黑體(P)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華康粗黑體(P)"/>
              </a:rPr>
              <a:t> ‧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華康粗黑體(P)"/>
              </a:rPr>
              <a:t>5</a:t>
            </a:r>
            <a:endParaRPr b="1" lang="en-US" sz="2400" spc="-1" strike="noStrike">
              <a:solidFill>
                <a:srgbClr val="006600"/>
              </a:solidFill>
              <a:latin typeface="標楷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第四章 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-5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色光與顏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95640" y="3511440"/>
            <a:ext cx="4464000" cy="3086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螢幕光點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" y="999720"/>
            <a:ext cx="868680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彩色電視機及電腦螢幕播放影像時，如果將畫面某小部分放大，就會看到許多紅、綠、藍三種顏色的小光點，螢幕所顯現各種色彩的美麗畫面，即是調整螢幕上三原色小光點之間亮度的比例而成（如下圖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0" y="3500280"/>
            <a:ext cx="585792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17080" y="5950080"/>
            <a:ext cx="5871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物體的顏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不同顏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玫瑰花、樹葉和牆壁等不透明的物體，它們所顯現的顏色，與物體表面受到光線照射時，吸收與反射光的特性有關（如下圖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D:\康軒\圖檔\98學年\982上課轉圖\04-L4RGB-JPG\彩GRB+衣.jpg"/>
          <p:cNvPicPr/>
          <p:nvPr/>
        </p:nvPicPr>
        <p:blipFill>
          <a:blip r:embed="rId1"/>
          <a:stretch/>
        </p:blipFill>
        <p:spPr>
          <a:xfrm>
            <a:off x="55440" y="2830680"/>
            <a:ext cx="8945640" cy="2598480"/>
          </a:xfrm>
          <a:prstGeom prst="rect">
            <a:avLst/>
          </a:prstGeom>
          <a:ln w="0">
            <a:noFill/>
          </a:ln>
        </p:spPr>
      </p:pic>
      <p:sp>
        <p:nvSpPr>
          <p:cNvPr id="87" name="文字方塊 5"/>
          <p:cNvSpPr/>
          <p:nvPr/>
        </p:nvSpPr>
        <p:spPr>
          <a:xfrm>
            <a:off x="706680" y="514368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00"/>
                </a:solidFill>
                <a:latin typeface="標楷體"/>
              </a:rPr>
              <a:t>吸收其他光線，反射</a:t>
            </a:r>
            <a:br>
              <a:rPr sz="2400"/>
            </a:br>
            <a:r>
              <a:rPr b="1" lang="zh-TW" sz="2400" spc="-1" strike="noStrike">
                <a:solidFill>
                  <a:srgbClr val="006600"/>
                </a:solidFill>
                <a:latin typeface="標楷體"/>
              </a:rPr>
              <a:t>紅色光線，因此眼睛</a:t>
            </a:r>
            <a:br>
              <a:rPr sz="2400"/>
            </a:br>
            <a:r>
              <a:rPr b="1" lang="zh-TW" sz="2400" spc="-1" strike="noStrike">
                <a:solidFill>
                  <a:srgbClr val="006600"/>
                </a:solidFill>
                <a:latin typeface="標楷體"/>
              </a:rPr>
              <a:t>看到的是紅色。</a:t>
            </a:r>
            <a:endParaRPr b="1" lang="en-US" sz="24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88" name="文字方塊 6"/>
          <p:cNvSpPr/>
          <p:nvPr/>
        </p:nvSpPr>
        <p:spPr>
          <a:xfrm>
            <a:off x="3699000" y="514368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00"/>
                </a:solidFill>
                <a:latin typeface="標楷體"/>
              </a:rPr>
              <a:t>幾乎沒有吸收光線，</a:t>
            </a:r>
            <a:br>
              <a:rPr sz="2400"/>
            </a:br>
            <a:r>
              <a:rPr b="1" lang="zh-TW" sz="2400" spc="-1" strike="noStrike">
                <a:solidFill>
                  <a:srgbClr val="006600"/>
                </a:solidFill>
                <a:latin typeface="標楷體"/>
              </a:rPr>
              <a:t>完全反射光線，因此</a:t>
            </a:r>
            <a:br>
              <a:rPr sz="2400"/>
            </a:br>
            <a:r>
              <a:rPr b="1" lang="zh-TW" sz="2400" spc="-1" strike="noStrike">
                <a:solidFill>
                  <a:srgbClr val="006600"/>
                </a:solidFill>
                <a:latin typeface="標楷體"/>
              </a:rPr>
              <a:t>眼睛看到的是白色。</a:t>
            </a:r>
            <a:endParaRPr b="1" lang="en-US" sz="24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89" name="文字方塊 7"/>
          <p:cNvSpPr/>
          <p:nvPr/>
        </p:nvSpPr>
        <p:spPr>
          <a:xfrm>
            <a:off x="6690600" y="514368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00"/>
                </a:solidFill>
                <a:latin typeface="標楷體"/>
              </a:rPr>
              <a:t>幾乎完全吸收光線，</a:t>
            </a:r>
            <a:br>
              <a:rPr sz="2400"/>
            </a:br>
            <a:r>
              <a:rPr b="1" lang="zh-TW" sz="2400" spc="-1" strike="noStrike">
                <a:solidFill>
                  <a:srgbClr val="006600"/>
                </a:solidFill>
                <a:latin typeface="標楷體"/>
              </a:rPr>
              <a:t>沒有反射光線，因此</a:t>
            </a:r>
            <a:br>
              <a:rPr sz="2400"/>
            </a:br>
            <a:r>
              <a:rPr b="1" lang="zh-TW" sz="2400" spc="-1" strike="noStrike">
                <a:solidFill>
                  <a:srgbClr val="006600"/>
                </a:solidFill>
                <a:latin typeface="標楷體"/>
              </a:rPr>
              <a:t>眼睛看到的是黑色。</a:t>
            </a:r>
            <a:endParaRPr b="1" lang="en-US" sz="2400" spc="-1" strike="noStrike">
              <a:solidFill>
                <a:srgbClr val="0066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呈現顏色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當陽光或白光照射紅色的玫瑰花時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玫瑰花會反射紅光而吸收其他顏色的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光，反射的紅光進入眼睛，所以我們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看到玫瑰花的顏色是紅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同樣的，樹葉被白光照射時，會反射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綠光而吸收其他色光，所以樹葉呈現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綠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動腦時間之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綠色植物分別受紅、橙、黃、綠、藍、靛、紫等七種色光照射，結果在綠光照射下的生長情形最差，為什麼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綠色光會被吸收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綠色植物在綠色光照射下生長情形最差。因綠葉會反射綠光，而吸收其他色光，不利於光合作用進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28" descr="D:\94(一)_Source\國中光碟素材\國1\PPT_待修\第1章 孕育生命的世界\Pict\燈泡.jpg"/>
          <p:cNvPicPr/>
          <p:nvPr/>
        </p:nvPicPr>
        <p:blipFill>
          <a:blip r:embed="rId1"/>
          <a:stretch/>
        </p:blipFill>
        <p:spPr>
          <a:xfrm>
            <a:off x="0" y="0"/>
            <a:ext cx="5904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黑色吸收色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黑色的物體幾乎能將所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有入射的色光吸收，因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此以白光照射黑色的物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體時，幾乎沒有任何色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光反射，所以物體呈現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黑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D:\康軒\圖檔\98學年\982上課轉圖\04-L4RGB-JPG\彩GRB+衣.jpg"/>
          <p:cNvPicPr/>
          <p:nvPr/>
        </p:nvPicPr>
        <p:blipFill>
          <a:blip r:embed="rId1"/>
          <a:srcRect l="64067" t="0" r="0" b="0"/>
          <a:stretch/>
        </p:blipFill>
        <p:spPr>
          <a:xfrm>
            <a:off x="5718240" y="1044720"/>
            <a:ext cx="3214800" cy="2598480"/>
          </a:xfrm>
          <a:prstGeom prst="rect">
            <a:avLst/>
          </a:prstGeom>
          <a:ln w="0">
            <a:noFill/>
          </a:ln>
        </p:spPr>
      </p:pic>
      <p:sp>
        <p:nvSpPr>
          <p:cNvPr id="98" name="文字方塊 4"/>
          <p:cNvSpPr/>
          <p:nvPr/>
        </p:nvSpPr>
        <p:spPr>
          <a:xfrm>
            <a:off x="6412680" y="337500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00"/>
                </a:solidFill>
                <a:latin typeface="標楷體"/>
              </a:rPr>
              <a:t>幾乎完全吸收光線，</a:t>
            </a:r>
            <a:br>
              <a:rPr sz="2400"/>
            </a:br>
            <a:r>
              <a:rPr b="1" lang="zh-TW" sz="2400" spc="-1" strike="noStrike">
                <a:solidFill>
                  <a:srgbClr val="006600"/>
                </a:solidFill>
                <a:latin typeface="標楷體"/>
              </a:rPr>
              <a:t>沒有反射光線，因此</a:t>
            </a:r>
            <a:br>
              <a:rPr sz="2400"/>
            </a:br>
            <a:r>
              <a:rPr b="1" lang="zh-TW" sz="2400" spc="-1" strike="noStrike">
                <a:solidFill>
                  <a:srgbClr val="006600"/>
                </a:solidFill>
                <a:latin typeface="標楷體"/>
              </a:rPr>
              <a:t>眼睛看到的是黑色。</a:t>
            </a:r>
            <a:endParaRPr b="1" lang="en-US" sz="2400" spc="-1" strike="noStrike">
              <a:solidFill>
                <a:srgbClr val="0066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白色反射色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白色的物體幾乎不會吸收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任何色光，以白光照射白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紙時，白光中的所有色光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幾乎都會被反射，這些色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光混合進入眼睛中，所以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看到紙的顏色是白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D:\康軒\圖檔\98學年\982上課轉圖\04-L4RGB-JPG\彩GRB+衣.jpg"/>
          <p:cNvPicPr/>
          <p:nvPr/>
        </p:nvPicPr>
        <p:blipFill>
          <a:blip r:embed="rId1"/>
          <a:srcRect l="32918" t="0" r="34344" b="0"/>
          <a:stretch/>
        </p:blipFill>
        <p:spPr>
          <a:xfrm>
            <a:off x="6008760" y="1187280"/>
            <a:ext cx="2928960" cy="2598840"/>
          </a:xfrm>
          <a:prstGeom prst="rect">
            <a:avLst/>
          </a:prstGeom>
          <a:ln w="0">
            <a:noFill/>
          </a:ln>
        </p:spPr>
      </p:pic>
      <p:sp>
        <p:nvSpPr>
          <p:cNvPr id="102" name="文字方塊 4"/>
          <p:cNvSpPr/>
          <p:nvPr/>
        </p:nvSpPr>
        <p:spPr>
          <a:xfrm>
            <a:off x="6559920" y="357192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00"/>
                </a:solidFill>
                <a:latin typeface="標楷體"/>
              </a:rPr>
              <a:t>幾乎沒有吸收光線，</a:t>
            </a:r>
            <a:br>
              <a:rPr sz="2400"/>
            </a:br>
            <a:r>
              <a:rPr b="1" lang="zh-TW" sz="2400" spc="-1" strike="noStrike">
                <a:solidFill>
                  <a:srgbClr val="006600"/>
                </a:solidFill>
                <a:latin typeface="標楷體"/>
              </a:rPr>
              <a:t>完全反射光線，因此</a:t>
            </a:r>
            <a:br>
              <a:rPr sz="2400"/>
            </a:br>
            <a:r>
              <a:rPr b="1" lang="zh-TW" sz="2400" spc="-1" strike="noStrike">
                <a:solidFill>
                  <a:srgbClr val="006600"/>
                </a:solidFill>
                <a:latin typeface="標楷體"/>
              </a:rPr>
              <a:t>眼睛看到的是白色。</a:t>
            </a:r>
            <a:endParaRPr b="1" lang="en-US" sz="2400" spc="-1" strike="noStrike">
              <a:solidFill>
                <a:srgbClr val="0066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教室顏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一般教室裡的牆壁都漆成白色，就是希望產生良好的反光效果，以增加教室內的亮度（如下圖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D:\康軒\圖檔\98學年\982上課轉圖\04-L4RGB-JPG\P106圖4-明亮教室改亮.jpg"/>
          <p:cNvPicPr/>
          <p:nvPr/>
        </p:nvPicPr>
        <p:blipFill>
          <a:blip r:embed="rId1"/>
          <a:stretch/>
        </p:blipFill>
        <p:spPr>
          <a:xfrm>
            <a:off x="3295800" y="2792520"/>
            <a:ext cx="55623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透射光 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白光光源透過具有顏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色的玻璃、玻璃紙或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壓克力等透明物質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可產生不同色光。如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右圖所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將紅色玻璃紙套在手電筒外，打開光源時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紅色玻璃紙讓紅光通過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而吸收其他大部分色光，所以白光通過玻璃紙後就變成紅光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D:\康軒\圖檔\98學年\982上課轉圖\04-L4RGB-JPG\P122MMFC06.jpg"/>
          <p:cNvPicPr/>
          <p:nvPr/>
        </p:nvPicPr>
        <p:blipFill>
          <a:blip r:embed="rId1"/>
          <a:stretch/>
        </p:blipFill>
        <p:spPr>
          <a:xfrm>
            <a:off x="5214960" y="1143000"/>
            <a:ext cx="37530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傳統紅綠燈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傳統燈泡式的紅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綠燈可說是上述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原理最普遍的應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用（如右圖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在各個燈泡的外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部分別裝設紅、黃、綠三種顏色的透光板，當燈泡發光時，即可產生紅、黃、綠三種顏色的燈光，以指示人車停止或通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D:\康軒\圖檔\98學年\982上課轉圖\04-L4RGB-JPG\DSC_0308.jpg"/>
          <p:cNvPicPr/>
          <p:nvPr/>
        </p:nvPicPr>
        <p:blipFill>
          <a:blip r:embed="rId1"/>
          <a:stretch/>
        </p:blipFill>
        <p:spPr>
          <a:xfrm>
            <a:off x="4357800" y="1143000"/>
            <a:ext cx="461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教學流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 u="sng">
                <a:solidFill>
                  <a:srgbClr val="9900cc"/>
                </a:solidFill>
                <a:uFillTx/>
                <a:latin typeface="Times New Roman"/>
              </a:rPr>
              <a:t>色散與三原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 u="sng">
                <a:solidFill>
                  <a:srgbClr val="9900cc"/>
                </a:solidFill>
                <a:uFillTx/>
                <a:latin typeface="Times New Roman"/>
              </a:rPr>
              <a:t>物體的顏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 u="sng">
                <a:solidFill>
                  <a:srgbClr val="9900cc"/>
                </a:solidFill>
                <a:uFillTx/>
                <a:latin typeface="Times New Roman"/>
              </a:rPr>
              <a:t>練習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知識快遞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292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目前許多路口的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紅綠燈已改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D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（發光二極體）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作為色光光源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具有省電、延長使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用壽命的優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圖片 8" descr="知識快遞2.jpg"/>
          <p:cNvPicPr/>
          <p:nvPr/>
        </p:nvPicPr>
        <p:blipFill>
          <a:blip r:embed="rId1"/>
          <a:stretch/>
        </p:blipFill>
        <p:spPr>
          <a:xfrm>
            <a:off x="44280" y="71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D:\康軒\圖檔\98學年\982上課轉圖\04-L4RGB-JPG\DSC_0293.jpg"/>
          <p:cNvPicPr/>
          <p:nvPr/>
        </p:nvPicPr>
        <p:blipFill>
          <a:blip r:embed="rId2"/>
          <a:srcRect l="3952" t="0" r="0" b="0"/>
          <a:stretch/>
        </p:blipFill>
        <p:spPr>
          <a:xfrm>
            <a:off x="4572000" y="1143000"/>
            <a:ext cx="4549680" cy="1987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D:\康軒\圖檔\98學年\982上課轉圖\04-L4RGB-JPG\DSC_0308.jpg"/>
          <p:cNvPicPr/>
          <p:nvPr/>
        </p:nvPicPr>
        <p:blipFill>
          <a:blip r:embed="rId3"/>
          <a:stretch/>
        </p:blipFill>
        <p:spPr>
          <a:xfrm>
            <a:off x="4524480" y="3357720"/>
            <a:ext cx="4619520" cy="2286000"/>
          </a:xfrm>
          <a:prstGeom prst="rect">
            <a:avLst/>
          </a:prstGeom>
          <a:ln w="0">
            <a:noFill/>
          </a:ln>
        </p:spPr>
      </p:pic>
      <p:sp>
        <p:nvSpPr>
          <p:cNvPr id="117" name="文字方塊 8"/>
          <p:cNvSpPr/>
          <p:nvPr/>
        </p:nvSpPr>
        <p:spPr>
          <a:xfrm>
            <a:off x="7252560" y="5130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舊式紅綠燈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18" name="文字方塊 9"/>
          <p:cNvSpPr/>
          <p:nvPr/>
        </p:nvSpPr>
        <p:spPr>
          <a:xfrm>
            <a:off x="6920280" y="2643120"/>
            <a:ext cx="20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LED</a:t>
            </a: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紅綠燈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732720" y="5950080"/>
            <a:ext cx="58716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例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-1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紅蘋果在日光燈的照射下會顯現紅色，若眼睛隔著綠色玻璃紙觀看紅蘋果時，紅蘋果會呈現何種顏色？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紅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綠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黃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接近黑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例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-10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詳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紅蘋果在日光燈的照射下會顯現紅色，若眼睛隔著綠色玻璃紙觀看紅蘋果時，紅蘋果會呈現何種顏色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日光燈照射紅蘋果時，紅蘋果因反射紅光而呈紅色；但紅光無法透過綠色玻璃紙，故眼睛隔著綠色玻璃紙觀看紅蘋果時，顏色會接近黑色。</a:t>
            </a:r>
            <a:br>
              <a:rPr sz="3600"/>
            </a:b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答案選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探索活動：過濾色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若將紅、綠、藍三種顏色的玻璃紙疊在一起，然後透過玻璃紙觀看日光燈光源，日光燈所發出的白光中，哪一種色光會透過玻璃紙？為什麼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沒有色光會通過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白光中的色光分別被紅、綠、藍三種顏色玻璃紙吸收，而沒有色光通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D:\94(一)_Source\國中光碟素材\國1\PPT_待修\第5章 生物的協調作用\Pict\探索活動.JPG"/>
          <p:cNvPicPr/>
          <p:nvPr/>
        </p:nvPicPr>
        <p:blipFill>
          <a:blip r:embed="rId1"/>
          <a:stretch/>
        </p:blipFill>
        <p:spPr>
          <a:xfrm>
            <a:off x="0" y="96840"/>
            <a:ext cx="71604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不同色光效果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不同的色光照射在不同物體上，會造成不同的視覺效果。例如在服裝店裡試穿滿意的衣服，買回家後再次穿上，在陽光的照射下，會感覺衣服的顏色與試穿時稍有不同。你是否有以上的經驗？透過實驗，可以了解色光對物體顏色的影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光源與色紙顏色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由實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·5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結果可知，色紙會隨著照射光源的顏色而顯現不同的顏色（如下圖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D:\康軒\圖檔\98學年\982上課轉圖\04-L4RGB-JPG\MMFC052.jpg"/>
          <p:cNvPicPr/>
          <p:nvPr/>
        </p:nvPicPr>
        <p:blipFill>
          <a:blip r:embed="rId1"/>
          <a:stretch/>
        </p:blipFill>
        <p:spPr>
          <a:xfrm>
            <a:off x="677880" y="2786040"/>
            <a:ext cx="3968640" cy="2981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D:\康軒\圖檔\98學年\982上課轉圖\04-L4RGB-JPG\MMFC051.jpg"/>
          <p:cNvPicPr/>
          <p:nvPr/>
        </p:nvPicPr>
        <p:blipFill>
          <a:blip r:embed="rId2"/>
          <a:stretch/>
        </p:blipFill>
        <p:spPr>
          <a:xfrm>
            <a:off x="4952880" y="2786040"/>
            <a:ext cx="3969000" cy="2981520"/>
          </a:xfrm>
          <a:prstGeom prst="rect">
            <a:avLst/>
          </a:prstGeom>
          <a:ln w="0">
            <a:noFill/>
          </a:ln>
        </p:spPr>
      </p:pic>
      <p:sp>
        <p:nvSpPr>
          <p:cNvPr id="133" name="文字方塊 6"/>
          <p:cNvSpPr/>
          <p:nvPr/>
        </p:nvSpPr>
        <p:spPr>
          <a:xfrm>
            <a:off x="1473480" y="5786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以白光照射各種色紙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34" name="文字方塊 7"/>
          <p:cNvSpPr/>
          <p:nvPr/>
        </p:nvSpPr>
        <p:spPr>
          <a:xfrm>
            <a:off x="5750280" y="5786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以紅光照射各種色紙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光源與色紙顏色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紅色紙在白光及紅光的照射下依然呈</a:t>
            </a:r>
            <a:br>
              <a:rPr sz="3600"/>
            </a:b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現紅色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；但在綠光或藍光照射下，紅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色紙會吸收綠光或藍光，幾乎不發生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反射，因此紅色紙所顯現的顏色變得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比較暗淡，甚至接近黑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光源與色紙顏色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也就是說，在白光照射下，色紙所顯現的顏色即是色紙本身的顏色，若改變照射光源的顏色，則除了與光源顏色相同的色紙，其顯現的顏色維持不變外，其他色紙顯現的顏色都發生變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43640" y="5805360"/>
            <a:ext cx="58752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其它因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物體所呈現的顏色，主要與照射光源的顏色、物體表面吸收與反射光的特性有關，另外尚有其他的因素，甚至每個人的描述與感覺也有些許不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動腦時間之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市場裡販賣西瓜的水果攤，如果要讓顧客看到已剖開西瓜的顏色較紅潤，會使用哪種顏色的燈光照射西瓜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紅（淡紅）色光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夜市裡販賣西瓜的水果攤，若使用紅光照射已剖開的西瓜，會使顏色看起來更加紅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028" descr="D:\94(一)_Source\國中光碟素材\國1\PPT_待修\第1章 孕育生命的世界\Pict\燈泡.jpg"/>
          <p:cNvPicPr/>
          <p:nvPr/>
        </p:nvPicPr>
        <p:blipFill>
          <a:blip r:embed="rId1"/>
          <a:stretch/>
        </p:blipFill>
        <p:spPr>
          <a:xfrm>
            <a:off x="0" y="0"/>
            <a:ext cx="5904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色散與三原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例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-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在暗室中，小亮以白光照射一朵玫瑰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花，觀察到花瓣呈現紅色。如果改用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藍光照射此玫瑰花，則花瓣會呈現下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列哪一種顏色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黑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綠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紅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白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例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-11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詳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在暗室中，小亮以白光照射一朵玫瑰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花，觀察到花瓣呈現紅色。如果改用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藍光照射此玫瑰花，則花瓣會呈現下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列哪一種顏色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以白光照射玫瑰花，花瓣呈現紅色，表示此花瓣的顏色為紅色。改用藍光照射時，紅色花瓣會吸收藍光而呈現黑色。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答案選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317080" y="5950080"/>
            <a:ext cx="5871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9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年高雄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有一紅、綠、黃與黑色的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地形立體圖像，小華以自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製紅綠兩色眼鏡如右圖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看到立體地形。下列敘述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何者正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圖片 3" descr="88高雄（紅綠眼鏡）"/>
          <p:cNvPicPr/>
          <p:nvPr/>
        </p:nvPicPr>
        <p:blipFill>
          <a:blip r:embed="rId1"/>
          <a:stretch/>
        </p:blipFill>
        <p:spPr>
          <a:xfrm>
            <a:off x="6048360" y="1160640"/>
            <a:ext cx="30956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9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年高雄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4600" indent="-444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下列敘述何者正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綠色影像在右眼與左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眼看起來都是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紅色影像在右眼與左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眼看起來都是暗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綠色影像在右眼看來是亮的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在左眼是暗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紅色影像在右眼看來是亮的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在左眼是暗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圖片 3" descr="88高雄（紅綠眼鏡）"/>
          <p:cNvPicPr/>
          <p:nvPr/>
        </p:nvPicPr>
        <p:blipFill>
          <a:blip r:embed="rId1"/>
          <a:stretch/>
        </p:blipFill>
        <p:spPr>
          <a:xfrm>
            <a:off x="6048360" y="1160640"/>
            <a:ext cx="30956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9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年高雄詳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下列敘述何者正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綠色影像反射綠光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紅色影像反射紅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綠玻璃紙衹能讓綠光通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過。所以紅色影像在左眼是亮的，右眼是暗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同理，綠色影像在右眼是亮的，左眼是暗的。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答案選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圖片 3" descr="88高雄（紅綠眼鏡）"/>
          <p:cNvPicPr/>
          <p:nvPr/>
        </p:nvPicPr>
        <p:blipFill>
          <a:blip r:embed="rId1"/>
          <a:stretch/>
        </p:blipFill>
        <p:spPr>
          <a:xfrm>
            <a:off x="6048360" y="1160640"/>
            <a:ext cx="30956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9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年臺南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甲、乙、丙三張不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同顏色紙片。以單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色紅光、綠光照射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下呈現顏色如右表：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已知甲、乙、丙中有一張的顏色為藍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色，則甲、乙、丙的顏色依序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714920" y="1143000"/>
          <a:ext cx="4071960" cy="1736640"/>
        </p:xfrm>
        <a:graphic>
          <a:graphicData uri="http://schemas.openxmlformats.org/drawingml/2006/table">
            <a:tbl>
              <a:tblPr/>
              <a:tblGrid>
                <a:gridCol w="1017720"/>
                <a:gridCol w="1019160"/>
                <a:gridCol w="1017360"/>
                <a:gridCol w="10177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甲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乙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丙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00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紅光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紅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紅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黑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bcb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綠光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綠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黑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黑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7e7"/>
                    </a:solidFill>
                  </a:tcPr>
                </a:tc>
              </a:tr>
            </a:tbl>
          </a:graphicData>
        </a:graphic>
      </p:graphicFrame>
      <p:sp>
        <p:nvSpPr>
          <p:cNvPr id="162" name="文字方塊 4"/>
          <p:cNvSpPr/>
          <p:nvPr/>
        </p:nvSpPr>
        <p:spPr>
          <a:xfrm>
            <a:off x="785880" y="436716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A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紅、綠、藍</a:t>
            </a:r>
            <a:endParaRPr b="1" lang="en-US" sz="36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63" name="文字方塊 5"/>
          <p:cNvSpPr/>
          <p:nvPr/>
        </p:nvSpPr>
        <p:spPr>
          <a:xfrm>
            <a:off x="4500720" y="4367160"/>
            <a:ext cx="32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B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白、紅、藍</a:t>
            </a:r>
            <a:endParaRPr b="1" lang="en-US" sz="36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64" name="文字方塊 6"/>
          <p:cNvSpPr/>
          <p:nvPr/>
        </p:nvSpPr>
        <p:spPr>
          <a:xfrm>
            <a:off x="785880" y="50720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C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白、黑、藍</a:t>
            </a:r>
            <a:endParaRPr b="1" lang="en-US" sz="36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65" name="文字方塊 7"/>
          <p:cNvSpPr/>
          <p:nvPr/>
        </p:nvSpPr>
        <p:spPr>
          <a:xfrm>
            <a:off x="4500720" y="5072040"/>
            <a:ext cx="32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D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白、藍、紅</a:t>
            </a:r>
            <a:endParaRPr b="1" lang="en-US" sz="3600" spc="-1" strike="noStrike">
              <a:solidFill>
                <a:srgbClr val="0066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9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年臺南詳解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以紅光、綠光照射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呈現顏色如右表：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甲、乙、丙中有一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張的顏色為藍色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則甲、乙、丙的顏色依序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藍色紙照射紅光、綠光皆呈黑色，故丙為藍色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白紙反射所有光線，呈現光的顏色，故甲為白色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714920" y="1143000"/>
          <a:ext cx="4071960" cy="1736640"/>
        </p:xfrm>
        <a:graphic>
          <a:graphicData uri="http://schemas.openxmlformats.org/drawingml/2006/table">
            <a:tbl>
              <a:tblPr/>
              <a:tblGrid>
                <a:gridCol w="1017720"/>
                <a:gridCol w="1019160"/>
                <a:gridCol w="1017360"/>
                <a:gridCol w="10177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甲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乙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丙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00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紅光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紅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紅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黑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bcb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綠光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綠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黑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黑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9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年臺南詳解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以紅光、綠光照射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呈現顏色如右表：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甲、乙、丙中有一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張的顏色為藍色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則甲、乙、丙的顏色依序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甲為白色紙、丙為藍色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紅紙照紅光呈紅色，照綠光呈黑色，故乙為紅色紙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714920" y="1143000"/>
          <a:ext cx="4071960" cy="1736640"/>
        </p:xfrm>
        <a:graphic>
          <a:graphicData uri="http://schemas.openxmlformats.org/drawingml/2006/table">
            <a:tbl>
              <a:tblPr/>
              <a:tblGrid>
                <a:gridCol w="1017720"/>
                <a:gridCol w="1019160"/>
                <a:gridCol w="1017360"/>
                <a:gridCol w="10177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甲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乙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丙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00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紅光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紅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紅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黑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bcb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綠光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綠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黑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黑</a:t>
                      </a:r>
                      <a:endParaRPr b="1" lang="en-US" sz="3200" spc="-1" strike="noStrike">
                        <a:solidFill>
                          <a:srgbClr val="006600"/>
                        </a:solidFill>
                        <a:latin typeface="標楷體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0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年雄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透過藍色的玻璃，看教室天花板的白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色光的日光燈為藍色的主要原因為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此玻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反射藍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透射藍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吸收藍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漫射藍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0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年雄女詳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透過藍色的玻璃，看教室天花板的白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色光的日光燈為藍色的主要原因為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此玻璃：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藍色的玻璃衹會透射藍光，所以觀看白光日光燈（含各種色光）時，會呈藍色。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答案選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317080" y="5950080"/>
            <a:ext cx="5871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前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街道上充滿五花八門的廣告看板，運用各種色彩吸引人們的目光。花園中種植著各種繽紛豔麗的花朵，供人們觀賞。如果沒有光，我們生活的彩色世界中，這些物體的顏色將無法顯現，本節將探討光與物體顏色的基本關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-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色光與顏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結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色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西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666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年，牛頓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sac Newton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，西元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642∼1727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年）發現太陽光通過透明的三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稜鏡後，會被折射分散成紅、橙、黃、綠、藍、靛、紫等七種主要顏色的光，此現象稱為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色散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可見光譜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這種連續排列如彩虹般的色光帶，就是能引起人們視覺的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可見光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，稱為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可見光譜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牛頓由此推論太陽光是由不同顏色的光混合而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白紙在太陽光和日光燈等光源的照射下呈現白色，我們稱太陽光和日光燈等光源所發出的可見光為白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光的三原色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將紅、橙、黃、綠、藍、靛、紫等七種可見色光混合起來會產生白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光的三原色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有趣的是，將兩種或三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種色光混合起來也會產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生白光。例如在暗室中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將紅、綠、藍三種色光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同時照射在白紙上，結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果紅光、綠光與藍光重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疊照射處，白紙所顯現的顏色也是白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色，而其他兩種色光重疊部分則顯現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不同的顏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D:\康軒\圖檔\98學年\982上課轉圖\04-L4RGB-JPG\用此改色光3原色V.jpg"/>
          <p:cNvPicPr/>
          <p:nvPr/>
        </p:nvPicPr>
        <p:blipFill>
          <a:blip r:embed="rId1"/>
          <a:stretch/>
        </p:blipFill>
        <p:spPr>
          <a:xfrm>
            <a:off x="5857920" y="1017720"/>
            <a:ext cx="3241800" cy="2982960"/>
          </a:xfrm>
          <a:prstGeom prst="rect">
            <a:avLst/>
          </a:prstGeom>
          <a:ln w="0">
            <a:noFill/>
          </a:ln>
        </p:spPr>
      </p:pic>
      <p:sp>
        <p:nvSpPr>
          <p:cNvPr id="59" name="文字方塊 4"/>
          <p:cNvSpPr/>
          <p:nvPr/>
        </p:nvSpPr>
        <p:spPr>
          <a:xfrm>
            <a:off x="7256160" y="121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</a:rPr>
              <a:t>紅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60" name="文字方塊 5"/>
          <p:cNvSpPr/>
          <p:nvPr/>
        </p:nvSpPr>
        <p:spPr>
          <a:xfrm>
            <a:off x="6256080" y="2928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</a:rPr>
              <a:t>藍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61" name="文字方塊 6"/>
          <p:cNvSpPr/>
          <p:nvPr/>
        </p:nvSpPr>
        <p:spPr>
          <a:xfrm>
            <a:off x="8256240" y="2928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</a:rPr>
              <a:t>綠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62" name="文字方塊 7"/>
          <p:cNvSpPr/>
          <p:nvPr/>
        </p:nvSpPr>
        <p:spPr>
          <a:xfrm>
            <a:off x="6511680" y="1944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標楷體"/>
              </a:rPr>
              <a:t>洋紅</a:t>
            </a:r>
            <a:endParaRPr b="1" lang="en-US" sz="24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63" name="文字方塊 8"/>
          <p:cNvSpPr/>
          <p:nvPr/>
        </p:nvSpPr>
        <p:spPr>
          <a:xfrm>
            <a:off x="7899120" y="1928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黃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64" name="文字方塊 9"/>
          <p:cNvSpPr/>
          <p:nvPr/>
        </p:nvSpPr>
        <p:spPr>
          <a:xfrm>
            <a:off x="7256160" y="3071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</a:rPr>
              <a:t>青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65" name="文字方塊 10"/>
          <p:cNvSpPr/>
          <p:nvPr/>
        </p:nvSpPr>
        <p:spPr>
          <a:xfrm>
            <a:off x="7256160" y="2428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白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光的三原色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一般我們將紅、綠、藍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三種色光稱為光的三原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色（如右圖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這三原色光以不同的亮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度混合，即可呈現許多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不同的顏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D:\康軒\圖檔\98學年\982上課轉圖\04-L4RGB-JPG\用此改色光3原色V.jpg"/>
          <p:cNvPicPr/>
          <p:nvPr/>
        </p:nvPicPr>
        <p:blipFill>
          <a:blip r:embed="rId1"/>
          <a:stretch/>
        </p:blipFill>
        <p:spPr>
          <a:xfrm>
            <a:off x="5857920" y="1017720"/>
            <a:ext cx="3241800" cy="2982960"/>
          </a:xfrm>
          <a:prstGeom prst="rect">
            <a:avLst/>
          </a:prstGeom>
          <a:ln w="0">
            <a:noFill/>
          </a:ln>
        </p:spPr>
      </p:pic>
      <p:sp>
        <p:nvSpPr>
          <p:cNvPr id="69" name="文字方塊 4"/>
          <p:cNvSpPr/>
          <p:nvPr/>
        </p:nvSpPr>
        <p:spPr>
          <a:xfrm>
            <a:off x="7256160" y="121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</a:rPr>
              <a:t>紅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70" name="文字方塊 5"/>
          <p:cNvSpPr/>
          <p:nvPr/>
        </p:nvSpPr>
        <p:spPr>
          <a:xfrm>
            <a:off x="6256080" y="2928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</a:rPr>
              <a:t>藍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71" name="文字方塊 6"/>
          <p:cNvSpPr/>
          <p:nvPr/>
        </p:nvSpPr>
        <p:spPr>
          <a:xfrm>
            <a:off x="8256240" y="2928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</a:rPr>
              <a:t>綠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72" name="文字方塊 7"/>
          <p:cNvSpPr/>
          <p:nvPr/>
        </p:nvSpPr>
        <p:spPr>
          <a:xfrm>
            <a:off x="6511680" y="1944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標楷體"/>
              </a:rPr>
              <a:t>洋紅</a:t>
            </a:r>
            <a:endParaRPr b="1" lang="en-US" sz="24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73" name="文字方塊 8"/>
          <p:cNvSpPr/>
          <p:nvPr/>
        </p:nvSpPr>
        <p:spPr>
          <a:xfrm>
            <a:off x="7899120" y="1928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黃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74" name="文字方塊 9"/>
          <p:cNvSpPr/>
          <p:nvPr/>
        </p:nvSpPr>
        <p:spPr>
          <a:xfrm>
            <a:off x="7256160" y="3071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</a:rPr>
              <a:t>青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75" name="文字方塊 10"/>
          <p:cNvSpPr/>
          <p:nvPr/>
        </p:nvSpPr>
        <p:spPr>
          <a:xfrm>
            <a:off x="7256160" y="2428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白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443640" y="5805360"/>
            <a:ext cx="58752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6:28:21Z</dcterms:created>
  <dc:creator>yykao</dc:creator>
  <dc:description/>
  <dc:language>en-US</dc:language>
  <cp:lastModifiedBy>dolale</cp:lastModifiedBy>
  <dcterms:modified xsi:type="dcterms:W3CDTF">2009-07-23T02:54:50Z</dcterms:modified>
  <cp:revision>44</cp:revision>
  <dc:subject/>
  <dc:title>第四章 光</dc:title>
</cp:coreProperties>
</file>