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2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4.wmf" ContentType="image/x-wmf"/>
  <Override PartName="/ppt/media/PROJCTOR.WAV" ContentType="audio/x-wav"/>
  <Override PartName="/ppt/media/image7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F63-0B40-4A27-ADFD-CCEC7696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41C-10DF-4FD3-8ACC-25BD6E9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84D-CEE3-4E97-8A6A-2DF8EE5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255-5669-4D3B-B024-0FBBBFA9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300-7176-4774-9FC6-19926A61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4EA-D8E4-48E9-AA1C-2A112FA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3AA-8C46-4E26-B62F-5FF33994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F10-0365-4A25-B433-13A03A1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2E6-AE47-4585-9A3E-A56ECF2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176-59A0-4B92-B61E-4854BA3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2E7-69B6-4D21-90B0-34D62F7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8E7-D38B-48C1-A601-23D551D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E9AC-1364-4ACD-9520-A1586980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PROJCTOR.WAV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audio" Target="../media/PROJCTOR.WAV"/><Relationship Id="rId2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MPUTR2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360800">
            <a:off x="914400" y="297144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0574000">
            <a:off x="5562720" y="2514600"/>
            <a:ext cx="113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1201000">
            <a:off x="7086600" y="2209320"/>
            <a:ext cx="11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8080"/>
                </a:solidFill>
                <a:latin typeface="Times New Roman"/>
              </a:rPr>
              <a:t>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306000">
            <a:off x="4038480" y="267984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Times New Roman"/>
              </a:rPr>
              <a:t>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669600">
            <a:off x="4725720" y="111924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66"/>
                </a:solidFill>
                <a:latin typeface="Times New Roman"/>
              </a:rPr>
              <a:t>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070800">
            <a:off x="3200400" y="8553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928800">
            <a:off x="1828080" y="1294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574000">
            <a:off x="685800" y="685800"/>
            <a:ext cx="11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74000">
            <a:off x="6858000" y="365724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ff"/>
                </a:solidFill>
                <a:latin typeface="Times New Roman"/>
              </a:rPr>
              <a:t>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ff"/>
                </a:solidFill>
                <a:latin typeface="Times New Roman"/>
              </a:rPr>
              <a:t>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298800">
            <a:off x="3018240" y="3305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6600ff"/>
                </a:solidFill>
                <a:latin typeface="Times New Roman"/>
              </a:rPr>
              <a:t>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3821400">
            <a:off x="3358080" y="18424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6699"/>
                </a:solidFill>
                <a:latin typeface="Times New Roman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</a:rPr>
              <a:t>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701800">
            <a:off x="4820400" y="3026880"/>
            <a:ext cx="12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9035000">
            <a:off x="2134080" y="26665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</a:rPr>
              <a:t>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170000">
            <a:off x="304776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2096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cc"/>
                </a:solidFill>
                <a:latin typeface="Times New Roman"/>
              </a:rPr>
              <a:t>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12000">
            <a:off x="7162560" y="3809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Times New Roman"/>
              </a:rPr>
              <a:t>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343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8862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4160" y="2971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Times New Roman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找部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762120"/>
          <a:ext cx="7207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720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086600" y="762120"/>
          <a:ext cx="76212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14400" y="2057400"/>
          <a:ext cx="1143000" cy="107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05740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315200" y="5105520"/>
          <a:ext cx="1143000" cy="107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510552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238880" y="2057400"/>
          <a:ext cx="1143000" cy="107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205740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914400" y="5334120"/>
          <a:ext cx="114300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5334120"/>
                    <a:ext cx="1143000" cy="1073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1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9035000">
            <a:off x="1752840" y="24379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</a:rPr>
              <a:t>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170000">
            <a:off x="3199680" y="3733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</a:rPr>
              <a:t>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3631200">
            <a:off x="3454920" y="238536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cc"/>
                </a:solidFill>
                <a:latin typeface="Times New Roman"/>
              </a:rPr>
              <a:t>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612000">
            <a:off x="7162560" y="3809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Times New Roman"/>
              </a:rPr>
              <a:t>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206200">
            <a:off x="4724280" y="3352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</a:rPr>
              <a:t>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8013200">
            <a:off x="1371960" y="3885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2760" y="2209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Times New Roman"/>
              </a:rPr>
              <a:t>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找部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762120"/>
          <a:ext cx="7207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720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086600" y="762120"/>
          <a:ext cx="76212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029200" y="4724280"/>
          <a:ext cx="101592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4724280"/>
                    <a:ext cx="1015920" cy="939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362320" y="5181480"/>
          <a:ext cx="68580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181480"/>
                    <a:ext cx="685800" cy="635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733920" y="4952880"/>
          <a:ext cx="1015920" cy="93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952880"/>
                    <a:ext cx="1015920" cy="939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62120" y="5257800"/>
          <a:ext cx="129528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5257800"/>
                    <a:ext cx="1295280" cy="119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324480" y="3657600"/>
          <a:ext cx="838440" cy="77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4480" y="3657600"/>
                    <a:ext cx="838440" cy="77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14600" y="4343400"/>
          <a:ext cx="685800" cy="63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4343400"/>
                    <a:ext cx="685800" cy="635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095880" y="4495680"/>
          <a:ext cx="762120" cy="704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4495680"/>
                    <a:ext cx="762120" cy="704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7010280" y="4648320"/>
          <a:ext cx="685800" cy="635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10280" y="4648320"/>
                    <a:ext cx="685800" cy="635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7772400" y="2438280"/>
          <a:ext cx="457200" cy="4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72400" y="24382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7086600" y="2895480"/>
          <a:ext cx="685800" cy="635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086600" y="2895480"/>
                    <a:ext cx="685800" cy="635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25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3399"/>
                </a:solidFill>
                <a:latin typeface="Times New Roman"/>
              </a:rPr>
              <a:t>查字典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62520" cy="441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cc"/>
                </a:solidFill>
                <a:latin typeface="Times New Roman"/>
              </a:rPr>
              <a:t>熟習字典的部首索 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Times New Roman"/>
              </a:rPr>
              <a:t>找出部首</a:t>
            </a:r>
            <a:r>
              <a:rPr b="1" lang="zh-TW" sz="3200" spc="-1" strike="noStrike">
                <a:solidFill>
                  <a:srgbClr val="ff3399"/>
                </a:solidFill>
                <a:latin typeface="Times New Roman"/>
              </a:rPr>
              <a:t>,</a:t>
            </a:r>
            <a:r>
              <a:rPr b="1" lang="zh-TW" sz="3200" spc="-1" strike="noStrike">
                <a:solidFill>
                  <a:srgbClr val="ff3399"/>
                </a:solidFill>
                <a:latin typeface="Times New Roman"/>
              </a:rPr>
              <a:t>數數部首畫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打開該部首的頁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</a:rPr>
              <a:t>數數該字剩餘劃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00"/>
                </a:solidFill>
                <a:latin typeface="Times New Roman"/>
              </a:rPr>
              <a:t>找出該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0" y="3200400"/>
          <a:ext cx="3809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00400"/>
                    <a:ext cx="3809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410080" y="3657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99"/>
                </a:solidFill>
                <a:latin typeface="Times New Roman"/>
              </a:rPr>
              <a:t>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111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舉　　　　　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8954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明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2438280"/>
            <a:ext cx="464796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部首是  </a:t>
            </a: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部，日部四畫，在部首索引中的四畫可找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733920"/>
            <a:ext cx="46479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找到日部所在頁數，翻到該頁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124080"/>
            <a:ext cx="990720" cy="990720"/>
          </a:xfrm>
          <a:prstGeom prst="ellipse">
            <a:avLst/>
          </a:prstGeom>
          <a:noFill/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495680"/>
            <a:ext cx="46479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08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翻到該頁後，數數明字的剩餘部份：</a:t>
            </a:r>
            <a:r>
              <a:rPr b="0" lang="zh-TW" sz="2400" spc="-1" strike="noStrike">
                <a:solidFill>
                  <a:srgbClr val="ff6600"/>
                </a:solidFill>
                <a:latin typeface="Times New Roman"/>
              </a:rPr>
              <a:t>月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畫數是四畫，依畫數找尋便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　　　　　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2133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1981080"/>
            <a:ext cx="464796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部首是  </a:t>
            </a: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石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部，石部五畫，在部首索引中的五畫可找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124080"/>
            <a:ext cx="46479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找到石部所在頁數，翻到該頁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2209680"/>
            <a:ext cx="990720" cy="1447920"/>
          </a:xfrm>
          <a:prstGeom prst="ellipse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3809880"/>
            <a:ext cx="46479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08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翻到該頁後，數數砂字的剩餘部份畫數：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畫數是四畫，依畫數找尋便可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engi301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3048120" cy="1451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62520" y="5638680"/>
            <a:ext cx="46479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99"/>
              </a:gs>
            </a:gsLst>
            <a:lin ang="10800000"/>
          </a:gra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查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詞典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與查</a:t>
            </a:r>
            <a:r>
              <a:rPr b="1" lang="zh-TW" sz="3200" spc="-1" strike="noStrike">
                <a:solidFill>
                  <a:srgbClr val="00cc99"/>
                </a:solidFill>
                <a:latin typeface="Times New Roman"/>
              </a:rPr>
              <a:t>字典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方法相同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20745600">
            <a:off x="3737160" y="274248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工作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819520" y="1981080"/>
          <a:ext cx="35035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81080"/>
                    <a:ext cx="3503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rot="20651400">
            <a:off x="3661200" y="2742480"/>
            <a:ext cx="2362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162920" y="838080"/>
          <a:ext cx="117288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838080"/>
                    <a:ext cx="1172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09480" y="3657600"/>
          <a:ext cx="178776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3657600"/>
                    <a:ext cx="1787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8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943600" cy="1143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Times New Roman"/>
              </a:rPr>
              <a:t>齊來學習查字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533520"/>
            <a:ext cx="1752480" cy="5867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572000"/>
            <a:ext cx="12189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43800" y="4724280"/>
          <a:ext cx="8668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724280"/>
                    <a:ext cx="866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62120" y="2057400"/>
            <a:ext cx="58672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514600"/>
            <a:ext cx="4724280" cy="25232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透過本節，你將學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部首檢字法（變形部首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查字典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59092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OMPUTR2" descr=""/>
          <p:cNvPicPr/>
          <p:nvPr/>
        </p:nvPicPr>
        <p:blipFill>
          <a:blip r:embed="rId4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38880" y="2286000"/>
            <a:ext cx="1524240" cy="2133720"/>
          </a:xfrm>
          <a:prstGeom prst="downArrowCallout">
            <a:avLst>
              <a:gd name="adj1" fmla="val 25002"/>
              <a:gd name="adj2" fmla="val 25000"/>
              <a:gd name="adj3" fmla="val 23331"/>
              <a:gd name="adj4" fmla="val 66667"/>
            </a:avLst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36280" y="2438280"/>
            <a:ext cx="1155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5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5943600" cy="1143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部首檢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533520"/>
            <a:ext cx="1752480" cy="5867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572000"/>
            <a:ext cx="12189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543800" y="4724280"/>
          <a:ext cx="8668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724280"/>
                    <a:ext cx="866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2120" y="2895480"/>
            <a:ext cx="58672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352680"/>
            <a:ext cx="4876560" cy="1008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</a:rPr>
              <a:t>認識        部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OMPUTR2" descr=""/>
          <p:cNvPicPr/>
          <p:nvPr/>
        </p:nvPicPr>
        <p:blipFill>
          <a:blip r:embed="rId3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238880" y="2286000"/>
            <a:ext cx="1524240" cy="2133720"/>
          </a:xfrm>
          <a:prstGeom prst="downArrowCallout">
            <a:avLst>
              <a:gd name="adj1" fmla="val 25002"/>
              <a:gd name="adj2" fmla="val 25000"/>
              <a:gd name="adj3" fmla="val 23331"/>
              <a:gd name="adj4" fmla="val 66667"/>
            </a:avLst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36280" y="2438280"/>
            <a:ext cx="1155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9520" y="3048120"/>
            <a:ext cx="1523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新細明體"/>
              </a:rPr>
              <a:t>變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Times New Roman"/>
              </a:rPr>
              <a:t>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298800">
            <a:off x="2941920" y="32299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</a:rPr>
              <a:t>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3821400">
            <a:off x="362628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701800">
            <a:off x="4842720" y="33062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66"/>
                </a:solidFill>
                <a:latin typeface="Times New Roman"/>
              </a:rPr>
              <a:t>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362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心，怒，快，怡．．．．．．都是與心有關的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438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438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3640" y="225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la001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92" name="Ana010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1987560" cy="320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 flipV="1">
            <a:off x="1523520" y="2819160"/>
            <a:ext cx="2210040" cy="1522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971800"/>
            <a:ext cx="2133720" cy="6094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638680"/>
            <a:ext cx="457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771400">
            <a:off x="2514240" y="5410080"/>
            <a:ext cx="45720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55600">
            <a:off x="3429000" y="5486400"/>
            <a:ext cx="45720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334120"/>
            <a:ext cx="53352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Times New Roman"/>
              </a:rPr>
              <a:t>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8298800">
            <a:off x="2941920" y="32299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</a:rPr>
              <a:t>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3821400">
            <a:off x="362628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701800">
            <a:off x="4842720" y="33062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66"/>
                </a:solidFill>
                <a:latin typeface="Times New Roman"/>
              </a:rPr>
              <a:t>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362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181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草，花，荊，荷．．．．．．都是與艸有關的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2438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225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257800"/>
            <a:ext cx="533160" cy="304920"/>
          </a:xfrm>
          <a:prstGeom prst="ellipse">
            <a:avLst/>
          </a:prstGeom>
          <a:noFill/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5181480"/>
            <a:ext cx="533520" cy="304920"/>
          </a:xfrm>
          <a:prstGeom prst="ellipse">
            <a:avLst/>
          </a:prstGeom>
          <a:noFill/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257800"/>
            <a:ext cx="533160" cy="304920"/>
          </a:xfrm>
          <a:prstGeom prst="ellipse">
            <a:avLst/>
          </a:prstGeom>
          <a:noFill/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257800"/>
            <a:ext cx="533520" cy="304920"/>
          </a:xfrm>
          <a:prstGeom prst="ellipse">
            <a:avLst/>
          </a:prstGeom>
          <a:noFill/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298800">
            <a:off x="3172320" y="3094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6600ff"/>
                </a:solidFill>
                <a:latin typeface="Times New Roman"/>
              </a:rPr>
              <a:t>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3821400">
            <a:off x="3359880" y="1843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</a:rPr>
              <a:t>法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701800">
            <a:off x="4820400" y="3026880"/>
            <a:ext cx="12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298800">
            <a:off x="5761440" y="48301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6600ff"/>
                </a:solidFill>
                <a:latin typeface="Times New Roman"/>
              </a:rPr>
              <a:t>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3821400">
            <a:off x="324540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</a:rPr>
              <a:t>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701800">
            <a:off x="4280760" y="317952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9966"/>
                </a:solidFill>
                <a:latin typeface="Times New Roman"/>
              </a:rPr>
              <a:t>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08:05:43Z</dcterms:created>
  <dc:creator>USER</dc:creator>
  <dc:description/>
  <dc:language>en-US</dc:language>
  <cp:lastModifiedBy>USER</cp:lastModifiedBy>
  <cp:lastPrinted>1999-05-26T15:17:45Z</cp:lastPrinted>
  <dcterms:modified xsi:type="dcterms:W3CDTF">1999-05-26T15:55:12Z</dcterms:modified>
  <cp:revision>73</cp:revision>
  <dc:subject/>
  <dc:title>齊來學習查字典</dc:title>
</cp:coreProperties>
</file>