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7.wmf" ContentType="image/x-wmf"/>
  <Override PartName="/ppt/media/image16.jpeg" ContentType="image/jpeg"/>
  <Override PartName="/ppt/media/image14.jpeg" ContentType="image/jpeg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4.wmf" ContentType="image/x-wmf"/>
  <Override PartName="/ppt/media/PROJCTOR.WAV" ContentType="audio/x-wav"/>
  <Override PartName="/ppt/media/image7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D25-188E-4ACE-A3EF-51ADC28E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5C9-FE92-4E9D-9398-0C17756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EEB-5CB5-40CB-8B2E-EA7D37B5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600-7434-45E9-B627-CC83FDF0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457-D2E6-4410-BEDE-CAB04683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7E8-93BC-474E-9427-1357509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F5F-52C3-4845-A367-AA352A95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B13-3E11-42C9-AE0C-7C1558D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97D-ACDD-43BB-AF06-013A6A05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BB1-DD3B-4320-A9BA-C95DD19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DB7-C757-4FB5-BAB1-BED26602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9A9-A753-44CF-96C3-62CF6F6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71AA-A56F-48ED-9D50-F55D5B3AF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6324840" cy="13716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齊來學習查字典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533520"/>
            <a:ext cx="1752480" cy="5867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91520" y="4572000"/>
            <a:ext cx="121896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543800" y="4724280"/>
          <a:ext cx="8668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724280"/>
                    <a:ext cx="866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990720" y="3962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OMPUTR2" descr=""/>
          <p:cNvPicPr/>
          <p:nvPr/>
        </p:nvPicPr>
        <p:blipFill>
          <a:blip r:embed="rId4"/>
          <a:stretch/>
        </p:blipFill>
        <p:spPr>
          <a:xfrm>
            <a:off x="7315200" y="838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8880" y="2286000"/>
            <a:ext cx="1524240" cy="2133720"/>
          </a:xfrm>
          <a:prstGeom prst="downArrowCallout">
            <a:avLst>
              <a:gd name="adj1" fmla="val 25002"/>
              <a:gd name="adj2" fmla="val 25000"/>
              <a:gd name="adj3" fmla="val 23331"/>
              <a:gd name="adj4" fmla="val 66667"/>
            </a:avLst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36280" y="2438280"/>
            <a:ext cx="1155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ff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819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362320"/>
          <a:ext cx="5867280" cy="33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362320"/>
                    <a:ext cx="58672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20083800">
            <a:off x="3429360" y="3809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66400">
            <a:off x="4496400" y="32760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7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298800">
            <a:off x="3172320" y="3094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6600ff"/>
                </a:solidFill>
                <a:latin typeface="Times New Roman"/>
              </a:rPr>
              <a:t>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3821400">
            <a:off x="3359880" y="1843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</a:rPr>
              <a:t>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701800">
            <a:off x="4820400" y="3026880"/>
            <a:ext cx="126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9933ff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514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6600"/>
                </a:solidFill>
                <a:latin typeface="Times New Roman"/>
              </a:rPr>
              <a:t>對了</a:t>
            </a:r>
            <a:r>
              <a:rPr b="1" lang="zh-TW" sz="6000" spc="-1" strike="noStrike">
                <a:solidFill>
                  <a:srgbClr val="ff66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114800" y="2362320"/>
          <a:ext cx="167940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362320"/>
                    <a:ext cx="16794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990720" y="441972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Times New Roman"/>
              </a:rPr>
              <a:t>是車部</a:t>
            </a:r>
            <a:r>
              <a:rPr b="1" lang="zh-TW" sz="6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4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298800">
            <a:off x="5761440" y="483012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6600ff"/>
                </a:solidFill>
                <a:latin typeface="Times New Roman"/>
              </a:rPr>
              <a:t>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3821400">
            <a:off x="3245400" y="17820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Times New Roman"/>
              </a:rPr>
              <a:t>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701800">
            <a:off x="4286880" y="317952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9966"/>
                </a:solidFill>
                <a:latin typeface="Times New Roman"/>
              </a:rPr>
              <a:t>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玩遊戲</a:t>
            </a: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009900"/>
                </a:solidFill>
                <a:latin typeface="Times New Roman"/>
              </a:rPr>
              <a:t>找出它們相同的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74320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6600"/>
                </a:solidFill>
                <a:latin typeface="Times New Roman"/>
              </a:rPr>
              <a:t>對了</a:t>
            </a:r>
            <a:r>
              <a:rPr b="1" lang="zh-TW" sz="6000" spc="-1" strike="noStrike">
                <a:solidFill>
                  <a:srgbClr val="ff66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114800" y="2362320"/>
          <a:ext cx="167940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362320"/>
                    <a:ext cx="16794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219320" y="53341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41972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Times New Roman"/>
              </a:rPr>
              <a:t>是金部</a:t>
            </a:r>
            <a:r>
              <a:rPr b="1" lang="zh-TW" sz="6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4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 rot="264600">
            <a:off x="68544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99ff"/>
              </a:gs>
            </a:gsLst>
            <a:lin ang="10800000"/>
          </a:gradFill>
          <a:ln w="4752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ff00"/>
                </a:solidFill>
                <a:latin typeface="Times New Roman"/>
              </a:rPr>
              <a:t>你的字典有多少個部首呢</a:t>
            </a:r>
            <a:r>
              <a:rPr b="0" lang="zh-TW" sz="44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66ff"/>
                </a:solidFill>
                <a:latin typeface="Times New Roman"/>
              </a:rPr>
              <a:t>答案是</a:t>
            </a:r>
            <a:r>
              <a:rPr b="1" lang="zh-TW" sz="2800" spc="-1" strike="noStrike">
                <a:solidFill>
                  <a:srgbClr val="3366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BOOK1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809880" cy="1859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3048120"/>
            <a:ext cx="4952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一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6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二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3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三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四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34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五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3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六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七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0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八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9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九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8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一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6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二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三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4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四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五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十六畫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十七畫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581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ff00"/>
                </a:solidFill>
                <a:latin typeface="Times New Roman"/>
              </a:rPr>
              <a:t>213</a:t>
            </a:r>
            <a:r>
              <a:rPr b="1" lang="zh-TW" sz="4000" spc="-1" strike="noStrike">
                <a:solidFill>
                  <a:srgbClr val="ff6699"/>
                </a:solidFill>
                <a:latin typeface="Times New Roman"/>
              </a:rPr>
              <a:t>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20745600">
            <a:off x="3737160" y="2742480"/>
            <a:ext cx="198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Times New Roman"/>
              </a:rPr>
              <a:t>工作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819520" y="1981080"/>
          <a:ext cx="35035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81080"/>
                    <a:ext cx="3503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rot="20651400">
            <a:off x="3661200" y="2742480"/>
            <a:ext cx="2362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162920" y="838080"/>
          <a:ext cx="117288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838080"/>
                    <a:ext cx="1172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09480" y="3657600"/>
          <a:ext cx="178776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3657600"/>
                    <a:ext cx="1787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  <p:sndAc>
      <p:stSnd>
        <p:snd r:embed="rId8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5943600" cy="1143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Times New Roman"/>
              </a:rPr>
              <a:t>齊來學習查字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533520"/>
            <a:ext cx="1752480" cy="5867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4572000"/>
            <a:ext cx="121896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43800" y="4724280"/>
            <a:ext cx="866880" cy="121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2057400"/>
            <a:ext cx="58672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819520"/>
            <a:ext cx="4724280" cy="30628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透過本節，你將學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查字典的好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認識部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部首檢字法（簡易部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895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962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MPUTR2" descr=""/>
          <p:cNvPicPr/>
          <p:nvPr/>
        </p:nvPicPr>
        <p:blipFill>
          <a:blip r:embed="rId3"/>
          <a:stretch/>
        </p:blipFill>
        <p:spPr>
          <a:xfrm>
            <a:off x="7315200" y="838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2286000"/>
            <a:ext cx="1524240" cy="2133720"/>
          </a:xfrm>
          <a:prstGeom prst="downArrowCallout">
            <a:avLst>
              <a:gd name="adj1" fmla="val 25002"/>
              <a:gd name="adj2" fmla="val 25000"/>
              <a:gd name="adj3" fmla="val 23331"/>
              <a:gd name="adj4" fmla="val 66667"/>
            </a:avLst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36280" y="2438280"/>
            <a:ext cx="1155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ff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4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ff"/>
                </a:solidFill>
                <a:latin typeface="Times New Roman"/>
              </a:rPr>
              <a:t>齊來學習查字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819520"/>
          <a:ext cx="3809880" cy="18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3809880" cy="18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5050"/>
                </a:solidFill>
                <a:latin typeface="Times New Roman"/>
              </a:rPr>
              <a:t>學會查字典有甚麼好處</a:t>
            </a:r>
            <a:r>
              <a:rPr b="1" lang="zh-TW" sz="3600" spc="-1" strike="noStrike">
                <a:solidFill>
                  <a:srgbClr val="ff505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學會查字典可以幫助我們識字</a:t>
            </a: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閱讀書報</a:t>
            </a: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還可以幫助我們造句</a:t>
            </a: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TW" sz="3600" spc="-1" strike="noStrike">
                <a:solidFill>
                  <a:srgbClr val="00cc99"/>
                </a:solidFill>
                <a:latin typeface="Times New Roman"/>
              </a:rPr>
              <a:t>寫作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809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3200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9246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257800"/>
            <a:ext cx="3353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5943600" cy="1143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部首檢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533520"/>
            <a:ext cx="1752480" cy="5867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572000"/>
            <a:ext cx="121896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43800" y="4724280"/>
          <a:ext cx="8668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724280"/>
                    <a:ext cx="866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62120" y="2895480"/>
            <a:ext cx="58672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4876560" cy="1008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</a:rPr>
              <a:t>認識簡易部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9625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OMPUTR2" descr=""/>
          <p:cNvPicPr/>
          <p:nvPr/>
        </p:nvPicPr>
        <p:blipFill>
          <a:blip r:embed="rId4"/>
          <a:stretch/>
        </p:blipFill>
        <p:spPr>
          <a:xfrm>
            <a:off x="7315200" y="838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38880" y="2286000"/>
            <a:ext cx="1524240" cy="2133720"/>
          </a:xfrm>
          <a:prstGeom prst="downArrowCallout">
            <a:avLst>
              <a:gd name="adj1" fmla="val 25002"/>
              <a:gd name="adj2" fmla="val 25000"/>
              <a:gd name="adj3" fmla="val 23331"/>
              <a:gd name="adj4" fmla="val 66667"/>
            </a:avLst>
          </a:prstGeom>
          <a:solidFill>
            <a:srgbClr val="ffffff">
              <a:alpha val="50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36280" y="2438280"/>
            <a:ext cx="1155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ff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5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Times New Roman"/>
              </a:rPr>
              <a:t>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298800">
            <a:off x="2941920" y="322992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</a:rPr>
              <a:t>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3821400">
            <a:off x="3626280" y="17820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1800">
            <a:off x="4842720" y="33062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66"/>
                </a:solidFill>
                <a:latin typeface="Times New Roman"/>
              </a:rPr>
              <a:t>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362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181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松，楊，柳，李．．．．．．都是與樹木有關的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438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477120" y="2362320"/>
          <a:ext cx="17539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2362320"/>
                    <a:ext cx="1753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486400" y="3429000"/>
          <a:ext cx="1349280" cy="15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3429000"/>
                    <a:ext cx="1349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04920" y="1828800"/>
          <a:ext cx="2766960" cy="312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828800"/>
                    <a:ext cx="27669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772400" y="3581280"/>
          <a:ext cx="101268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72400" y="3581280"/>
                    <a:ext cx="1012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  <p:sndAc>
      <p:stSnd>
        <p:snd r:embed="rId10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805400">
            <a:off x="958680" y="22539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Times New Roman"/>
              </a:rPr>
              <a:t>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8495000">
            <a:off x="6440760" y="2268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ff"/>
                </a:solidFill>
                <a:latin typeface="Times New Roman"/>
              </a:rPr>
              <a:t>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298800">
            <a:off x="2941920" y="322992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99"/>
                </a:solidFill>
                <a:latin typeface="Times New Roman"/>
              </a:rPr>
              <a:t>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82000">
            <a:off x="1307520" y="40716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</a:rPr>
              <a:t>哮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821400">
            <a:off x="3626280" y="17820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4724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3706400">
            <a:off x="6733080" y="370656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8080"/>
                </a:solidFill>
                <a:latin typeface="Times New Roman"/>
              </a:rPr>
              <a:t>唔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701800">
            <a:off x="4842720" y="33062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66"/>
                </a:solidFill>
                <a:latin typeface="Times New Roman"/>
              </a:rPr>
              <a:t>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>
              <a:alpha val="50000"/>
            </a:srgbClr>
          </a:solidFill>
          <a:ln w="57240">
            <a:solidFill>
              <a:srgbClr val="99ff99"/>
            </a:solidFill>
            <a:prstDash val="lgDashDot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舉例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---</a:t>
            </a:r>
            <a:r>
              <a:rPr b="1" lang="zh-TW" sz="4400" spc="-1" strike="noStrike">
                <a:solidFill>
                  <a:srgbClr val="ff6699"/>
                </a:solidFill>
                <a:latin typeface="Times New Roman"/>
              </a:rPr>
              <a:t>它們相同的部份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4382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181480"/>
            <a:ext cx="7315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</a:rPr>
              <a:t>喝，喂，吐，哈．．．．．．都是與口有關的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2438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209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486400" y="2133720"/>
          <a:ext cx="3200400" cy="30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133720"/>
                    <a:ext cx="320040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478400">
            <a:off x="4609800" y="1881360"/>
            <a:ext cx="2057400" cy="1523880"/>
          </a:xfrm>
          <a:prstGeom prst="rightArrow">
            <a:avLst>
              <a:gd name="adj1" fmla="val 30537"/>
              <a:gd name="adj2" fmla="val 50854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4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cc00"/>
                </a:solidFill>
                <a:latin typeface="Times New Roman"/>
              </a:rPr>
              <a:t>甚麼是部首</a:t>
            </a:r>
            <a:r>
              <a:rPr b="1" lang="zh-TW" sz="4800" spc="-1" strike="noStrike">
                <a:solidFill>
                  <a:srgbClr val="00cc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我們把有相同部分的字放在一起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算作一部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.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相同的那個部分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便是一部的部首</a:t>
            </a:r>
            <a:r>
              <a:rPr b="1" lang="zh-TW" sz="60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95280" y="609480"/>
          <a:ext cx="5670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567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  <p:sndAc>
      <p:stSnd>
        <p:snd r:embed="rId3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08:05:43Z</dcterms:created>
  <dc:creator>USER</dc:creator>
  <dc:description/>
  <dc:language>en-US</dc:language>
  <cp:lastModifiedBy>USER</cp:lastModifiedBy>
  <cp:lastPrinted>1999-02-06T07:56:39Z</cp:lastPrinted>
  <dcterms:modified xsi:type="dcterms:W3CDTF">1999-05-26T15:57:02Z</dcterms:modified>
  <cp:revision>62</cp:revision>
  <dc:subject/>
  <dc:title>齊來學習查字典</dc:title>
</cp:coreProperties>
</file>