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suction.wav" ContentType="audio/x-wav"/>
  <Override PartName="/ppt/media/image4.gif" ContentType="image/gif"/>
  <Override PartName="/ppt/media/coin.wav" ContentType="audio/x-wav"/>
  <Override PartName="/ppt/media/breeze.wav" ContentType="audio/x-wav"/>
  <Override PartName="/ppt/media/wind.wav" ContentType="audio/x-wav"/>
  <Override PartName="/ppt/media/image5.wmf" ContentType="image/x-wmf"/>
  <Override PartName="/ppt/media/laser.wav" ContentType="audio/x-wav"/>
  <Override PartName="/ppt/media/cashreg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438-552A-48A3-A1E7-1D261680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3D9-8DCE-4B7F-A62E-72C16509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604-DB09-4E18-B50E-D6121536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111-97CA-46B0-91DE-84ED326A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AC4-F077-4BD6-93C8-616A20EF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1A7-1AC1-4697-845F-09846820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4B5-FB02-428C-AB06-D9C87553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D3C-4625-400F-9A3A-5105571F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760-EA12-46D2-A919-6A06D981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6D9-EF37-40A7-9304-F8A1C57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D84-1951-47B5-8D14-593DDEBB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CC8-8909-45BF-91EB-F7E691A9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A8D-F1CD-45C2-9D18-F671B16027A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audio" Target="../media/breeze.wav"/><Relationship Id="rId4" Type="http://schemas.openxmlformats.org/officeDocument/2006/relationships/audio" Target="../media/wind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和平粗中楷書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3151080"/>
            <a:ext cx="532908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新細明體"/>
              </a:rPr>
              <a:t>比喻法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48000" y="692280"/>
            <a:ext cx="240048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新細明體"/>
              </a:rPr>
              <a:t>小二 中文科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新細明體"/>
              <a:ea typeface="新細明體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loud"/>
          <p:cNvSpPr/>
          <p:nvPr/>
        </p:nvSpPr>
        <p:spPr>
          <a:xfrm>
            <a:off x="1187280" y="1052640"/>
            <a:ext cx="2016360" cy="1350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76720" y="2781360"/>
            <a:ext cx="259236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好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2521080" cy="169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211640" y="1197000"/>
            <a:ext cx="550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新細明體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新細明體"/>
              <a:ea typeface="新細明體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692280"/>
            <a:ext cx="1008000" cy="194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24360" y="765000"/>
            <a:ext cx="1008000" cy="172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形容                      好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即是將             比喻為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1400040" cy="942840"/>
          </a:xfrm>
          <a:prstGeom prst="rect">
            <a:avLst/>
          </a:prstGeom>
          <a:ln w="0">
            <a:noFill/>
          </a:ln>
        </p:spPr>
      </p:pic>
      <p:sp>
        <p:nvSpPr>
          <p:cNvPr id="82" name="Cloud"/>
          <p:cNvSpPr/>
          <p:nvPr/>
        </p:nvSpPr>
        <p:spPr>
          <a:xfrm>
            <a:off x="2843280" y="1557360"/>
            <a:ext cx="1368360" cy="91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loud"/>
          <p:cNvSpPr/>
          <p:nvPr/>
        </p:nvSpPr>
        <p:spPr>
          <a:xfrm>
            <a:off x="2700360" y="2997360"/>
            <a:ext cx="1368360" cy="917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84720" y="3068640"/>
            <a:ext cx="1400400" cy="94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59280" y="4437000"/>
            <a:ext cx="27367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比喻句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比喻句的結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上的白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好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一隻隻綿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484280"/>
            <a:ext cx="237672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76360" y="2420640"/>
            <a:ext cx="7920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133720"/>
            <a:ext cx="1008000" cy="7920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35280" y="2852280"/>
            <a:ext cx="287280" cy="180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852640"/>
            <a:ext cx="2520720" cy="108108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940360" y="3789360"/>
            <a:ext cx="214200" cy="1727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42920" y="3645000"/>
            <a:ext cx="12970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本體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32000" y="4724280"/>
            <a:ext cx="10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喻詞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867280" y="4581360"/>
            <a:ext cx="187344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喻體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比喻句包括</a:t>
            </a:r>
            <a:r>
              <a:rPr b="1" lang="zh-TW" sz="4000" spc="-1" strike="noStrike">
                <a:solidFill>
                  <a:srgbClr val="ff3300"/>
                </a:solidFill>
                <a:latin typeface="Arial"/>
              </a:rPr>
              <a:t>本體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4000" spc="-1" strike="noStrike">
                <a:solidFill>
                  <a:srgbClr val="3399ff"/>
                </a:solidFill>
                <a:latin typeface="Arial"/>
              </a:rPr>
              <a:t>喻詞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、及</a:t>
            </a:r>
            <a:r>
              <a:rPr b="1" lang="zh-TW" sz="4000" spc="-1" strike="noStrike">
                <a:solidFill>
                  <a:srgbClr val="009999"/>
                </a:solidFill>
                <a:latin typeface="Arial"/>
              </a:rPr>
              <a:t>喻體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三部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課文中，比喻柳條像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26668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比喻句的結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彎彎的柳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低下頭的少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71628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789360"/>
            <a:ext cx="27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292640"/>
            <a:ext cx="17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413000"/>
            <a:ext cx="3024000" cy="12952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3185640"/>
            <a:ext cx="957240" cy="1146240"/>
          </a:xfrm>
          <a:prstGeom prst="upArrowCallout">
            <a:avLst>
              <a:gd name="adj1" fmla="val 25002"/>
              <a:gd name="adj2" fmla="val 25000"/>
              <a:gd name="adj3" fmla="val 19957"/>
              <a:gd name="adj4" fmla="val 6666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本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565360"/>
            <a:ext cx="1081080" cy="719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1683720"/>
            <a:ext cx="2087640" cy="1690200"/>
          </a:xfrm>
          <a:prstGeom prst="leftArrow">
            <a:avLst>
              <a:gd name="adj1" fmla="val 45222"/>
              <a:gd name="adj2" fmla="val 26407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喻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3600360" cy="1224000"/>
          </a:xfrm>
          <a:prstGeom prst="ellipse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573800">
            <a:off x="5086800" y="4284720"/>
            <a:ext cx="1520280" cy="1257120"/>
          </a:xfrm>
          <a:custGeom>
            <a:avLst/>
            <a:gdLst>
              <a:gd name="textAreaLeft" fmla="*/ 0 w 1520280"/>
              <a:gd name="textAreaRight" fmla="*/ 1520640 w 152028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75" y="0"/>
                </a:lnTo>
                <a:lnTo>
                  <a:pt x="21600" y="10800"/>
                </a:lnTo>
                <a:lnTo>
                  <a:pt x="17675" y="21600"/>
                </a:lnTo>
                <a:lnTo>
                  <a:pt x="0" y="21600"/>
                </a:lnTo>
                <a:lnTo>
                  <a:pt x="3925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Arial"/>
              </a:rPr>
              <a:t>喻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Arial"/>
              </a:rPr>
              <a:t>彎彎的柳條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TW" sz="3600" spc="-1" strike="noStrike">
                <a:solidFill>
                  <a:srgbClr val="339933"/>
                </a:solidFill>
                <a:latin typeface="Arial"/>
              </a:rPr>
              <a:t>低下頭的分少女</a:t>
            </a:r>
            <a:r>
              <a:rPr b="0" lang="zh-TW" sz="28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602080" cy="341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2389320" cy="218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3500280"/>
            <a:ext cx="792000" cy="208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403280" y="2133720"/>
            <a:ext cx="100800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573360"/>
            <a:ext cx="1366920" cy="1440000"/>
          </a:xfrm>
          <a:prstGeom prst="ellipse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2205000"/>
            <a:ext cx="1224000" cy="1584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分組進行比喻句的結構配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Arial"/>
              </a:rPr>
              <a:t>本體</a:t>
            </a:r>
            <a:r>
              <a:rPr b="0" lang="zh-TW" sz="44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TW" sz="4400" spc="-1" strike="noStrike">
                <a:solidFill>
                  <a:srgbClr val="0066ff"/>
                </a:solidFill>
                <a:latin typeface="Arial"/>
              </a:rPr>
              <a:t>喻詞</a:t>
            </a:r>
            <a:r>
              <a:rPr b="0" lang="zh-TW" sz="4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TW" sz="4400" spc="-1" strike="noStrike">
                <a:solidFill>
                  <a:srgbClr val="339933"/>
                </a:solidFill>
                <a:latin typeface="Arial"/>
              </a:rPr>
              <a:t>喻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268280"/>
          <a:ext cx="8424720" cy="4632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9383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胖胖的</a:t>
                      </a:r>
                      <a:r>
                        <a:rPr b="0" lang="zh-TW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個大冬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上的彩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好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道彩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榕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好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把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彎彎的月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根香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長得又高又瘦的</a:t>
                      </a:r>
                      <a:r>
                        <a:rPr b="0" lang="zh-TW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小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枝竹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什麼是比喻法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比喻法是將一種事物比擬為另一種相似的事物的寫作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似的地方可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16360" y="3645000"/>
            <a:ext cx="11779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形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156360" y="4149720"/>
            <a:ext cx="124920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顏色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72360" y="3068640"/>
            <a:ext cx="124920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聲音</a:t>
            </a:r>
            <a:endParaRPr b="0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3640" y="5084640"/>
            <a:ext cx="889200" cy="8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特質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80000" y="4292640"/>
            <a:ext cx="10332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感覺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9405720"/>
          </a:xfrm>
          <a:prstGeom prst="rect">
            <a:avLst/>
          </a:prstGeom>
          <a:ln w="0">
            <a:noFill/>
          </a:ln>
        </p:spPr>
      </p:pic>
      <p:sp>
        <p:nvSpPr>
          <p:cNvPr id="47" name="Cloud"/>
          <p:cNvSpPr/>
          <p:nvPr/>
        </p:nvSpPr>
        <p:spPr>
          <a:xfrm>
            <a:off x="-1944720" y="1125360"/>
            <a:ext cx="1944720" cy="1303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2629080" y="1628640"/>
            <a:ext cx="2376720" cy="185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332000" y="2349360"/>
            <a:ext cx="38862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標楷體"/>
              </a:rPr>
              <a:t>天上有什麼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6994E-006 C 0.00139 -0.00046 0.01233 -0.00301 0.01424 -0.00416 C 0.01858 -0.0067 0.02396 -0.01341 0.02865 -0.0148 C 0.03386 -0.01642 0.03924 -0.01618 0.04445 -0.01688 C 0.05504 -0.01642 0.09115 -0.0215 0.10955 -0.01064 C 0.11493 -0.0074 0.12032 -0.00231 0.12518 0.00208 C 0.12917 0.00532 0.13473 0.0148 0.13473 0.0148 C 0.13594 0.01757 0.13664 0.02081 0.13802 0.02335 C 0.13872 0.02497 0.1408 0.02567 0.14132 0.02752 C 0.14618 0.04439 0.14393 0.06728 0.15226 0.08254 C 0.15486 0.0874 0.15868 0.09087 0.16181 0.09503 C 0.16806 0.10312 0.16424 0.10035 0.17136 0.10358 C 0.18125 0.11607 0.19393 0.1059 0.20469 0.1015 C 0.20782 0.10035 0.21111 0.10035 0.21424 0.09942 C 0.21598 0.09896 0.21754 0.09804 0.2191 0.09734 C 0.2257 0.08832 0.22882 0.0911 0.23629 0.08462 C 0.24757 0.07538 0.23837 0.08023 0.24757 0.07607 C 0.24948 0.0733 0.25157 0.07006 0.25382 0.06775 C 0.25591 0.0659 0.25851 0.06543 0.26007 0.06335 C 0.26233 0.06104 0.26302 0.05757 0.26511 0.05503 C 0.27101 0.04694 0.27795 0.03977 0.2842 0.03168 C 0.28455 0.0296 0.2842 0.02543 0.28577 0.02543 C 0.28785 0.02543 0.28924 0.02913 0.29045 0.03168 C 0.29375 0.03884 0.29115 0.0437 0.2967 0.05064 C 0.29445 0.07746 0.2882 0.11561 0.31094 0.12694 C 0.31789 0.12231 0.3224 0.11561 0.32848 0.10983 C 0.33403 0.09919 0.33768 0.08948 0.34427 0.08023 C 0.34497 0.07815 0.34532 0.07584 0.34601 0.07399 C 0.34688 0.07168 0.34827 0.07006 0.34914 0.06775 C 0.35313 0.05572 0.35122 0.04994 0.35868 0.04023 C 0.36268 0.01272 0.35712 0.04278 0.36355 0.02335 C 0.36441 0.02058 0.36407 0.01734 0.36511 0.0148 C 0.36945 0.00324 0.37223 -0.00023 0.38091 -0.00416 C 0.38698 0.02312 0.38594 0.0511 0.37934 0.07815 C 0.37726 0.08694 0.37361 0.0948 0.37136 0.10358 C 0.37084 0.10567 0.3698 0.10983 0.3698 0.10983 C 0.3717 0.1637 0.36424 0.15977 0.40157 0.15214 C 0.40382 0.15168 0.40591 0.15075 0.40799 0.15006 C 0.41667 0.14243 0.42552 0.13526 0.4349 0.12902 C 0.43907 0.12301 0.44184 0.12 0.44757 0.1163 C 0.45122 0.1089 0.45591 0.10613 0.46025 0.09942 C 0.47118 0.08185 0.45486 0.10451 0.46823 0.08671 C 0.47014 0.07908 0.47518 0.06936 0.47917 0.06335 C 0.48334 0.04717 0.49289 0.03584 0.49827 0.02104 C 0.50174 0.01226 0.50261 0.00694 0.50782 -2.36994E-006 C 0.50174 0.02474 0.51216 -0.0148 0.50313 0.01272 C 0.50226 0.01526 0.50243 0.0185 0.50157 0.02104 C 0.49861 0.03029 0.49514 0.03931 0.49202 0.04856 C 0.48924 0.05711 0.48733 0.07607 0.48733 0.07607 C 0.48802 0.10081 0.48594 0.12601 0.49028 0.15006 C 0.49167 0.1563 0.49618 0.17619 0.50157 0.17757 C 0.50834 0.17919 0.51511 0.17896 0.52223 0.17965 C 0.53785 0.17827 0.54289 0.17757 0.55539 0.17341 C 0.5625 0.16393 0.57309 0.16139 0.57934 0.15006 C 0.58403 0.14081 0.58681 0.12832 0.59045 0.11838 C 0.5948 0.10682 0.59931 0.10567 0.60295 0.09087 C 0.60591 0.08 0.60799 0.06659 0.6125 0.05711 C 0.6132 0.05503 0.6132 0.05249 0.61407 0.05064 C 0.61511 0.04902 0.61684 0.04832 0.61754 0.04647 C 0.61841 0.04324 0.61841 0.03931 0.6191 0.03584 C 0.6198 0.03168 0.62118 0.02752 0.62205 0.02335 C 0.62275 0.02127 0.62361 0.01688 0.62361 0.01688 C 0.6316 0.05965 0.62344 0.10451 0.63004 0.14798 C 0.6316 0.15653 0.63195 0.16486 0.63646 0.17133 C 0.64028 0.18659 0.63455 0.16763 0.64271 0.18382 C 0.64375 0.18567 0.64323 0.18844 0.64445 0.19029 C 0.65 0.20023 0.66077 0.21249 0.66962 0.21572 C 0.68247 0.23977 0.725 0.2363 0.73976 0.23676 C 0.76459 0.23769 0.78941 0.23815 0.81424 0.23884 C 0.83525 0.23746 0.84445 0.23723 0.86198 0.2326 C 0.86736 0.22705 0.87136 0.22266 0.87778 0.21989 C 0.88698 0.21064 0.88785 0.20185 0.89358 0.19029 C 0.89306 0.17341 0.8974 0.15376 0.89045 0.13942 C 0.88125 0.12093 0.88976 0.14659 0.88247 0.12462 C 0.88021 0.11792 0.87969 0.11353 0.87466 0.10983 E">
                                      <p:cBhvr>
                                        <p:cTn id="20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83237E-006 C 0.00782 -0.01086 0.0165 -0.02011 0.02379 -0.0319 C 0.03438 -0.04901 0.02448 -0.04138 0.03802 -0.04878 C 0.04063 -0.05364 0.04271 -0.05919 0.04601 -0.06358 C 0.04757 -0.06566 0.05018 -0.06635 0.05226 -0.06774 C 0.06441 -0.07653 0.07535 -0.08323 0.08889 -0.0867 C 0.09636 -0.08601 0.10382 -0.08601 0.11111 -0.08462 C 0.1217 -0.08254 0.13091 -0.07421 0.14115 -0.06982 C 0.16094 -0.05017 0.1816 -0.0319 0.20157 -0.01271 C 0.21268 -0.00208 0.22257 0.0111 0.2349 0.01896 C 0.23698 0.02174 0.23854 0.02544 0.24115 0.02729 C 0.24601 0.03099 0.25452 0.03122 0.26025 0.03376 C 0.30469 0.03145 0.28785 0.03353 0.31563 0.02313 C 0.32379 0.01619 0.33108 0.00787 0.33959 0.00209 C 0.34601 -0.00924 0.3599 -0.02751 0.36823 -0.03606 C 0.37691 -0.01803 0.36198 -0.01109 0.35382 -2.83237E-006 C 0.35573 0.02151 0.35104 0.06058 0.36823 0.07607 C 0.38282 0.07307 0.39184 0.07214 0.40469 0.06544 C 0.41007 0.0585 0.41511 0.05573 0.42223 0.05272 C 0.42865 0.04579 0.43386 0.0407 0.44115 0.03584 C 0.44479 0.02914 0.44723 0.02174 0.4507 0.0148 C 0.45191 0.00972 0.45452 0.00278 0.4507 -0.00231 C 0.44966 -0.00369 0.44879 0.0007 0.44757 0.00209 C 0.44618 0.0037 0.44427 0.00463 0.44288 0.00625 C 0.43438 0.01619 0.43264 0.02197 0.42691 0.03376 C 0.42587 0.0474 0.42379 0.06035 0.42691 0.07399 C 0.42917 0.08394 0.44844 0.09388 0.454 0.09711 C 0.46545 0.10382 0.47657 0.11284 0.48889 0.11607 C 0.50851 0.12116 0.52657 0.12509 0.54601 0.12879 C 0.54861 0.1274 0.55157 0.12671 0.554 0.12463 C 0.56893 0.11122 0.55313 0.11908 0.56511 0.11399 C 0.5717 0.10336 0.57848 0.09249 0.58559 0.08232 C 0.59514 0.06844 0.60625 0.05735 0.61268 0.04 C 0.62066 0.01827 0.62761 -0.00439 0.63316 -0.02751 C 0.63264 -0.03398 0.63629 -0.04462 0.63177 -0.0467 C 0.62726 -0.04878 0.62639 -0.03676 0.62379 -0.0319 C 0.61719 -0.01965 0.60973 -0.00809 0.60313 0.00417 C 0.60035 0.00925 0.59861 0.0155 0.5967 0.02105 C 0.59566 0.02382 0.59358 0.0296 0.59358 0.0296 C 0.59063 0.05688 0.59011 0.05226 0.59844 0.09295 C 0.60104 0.10613 0.60868 0.10821 0.6158 0.11607 C 0.62709 0.12856 0.63559 0.14266 0.64913 0.15214 C 0.66216 0.16139 0.67674 0.16602 0.69045 0.17318 C 0.71788 0.18775 0.6941 0.1822 0.72066 0.1859 C 0.74219 0.19399 0.76354 0.19561 0.78559 0.19862 C 0.79566 0.2 0.8158 0.20278 0.8158 0.20278 C 0.85729 0.19862 0.85035 0.19839 0.87934 0.19006 C 0.93698 0.13989 0.95348 0.05804 0.98091 -0.02543 C 0.98577 -0.06566 1.00573 -0.14497 0.96979 -0.15653 C 0.95 -0.15398 0.93073 -0.15121 0.91094 -0.14797 C 0.90729 -0.14312 0.90886 -0.14242 0.90625 -0.14589 E">
                                      <p:cBhvr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上的白雲</a:t>
            </a:r>
            <a:r>
              <a:rPr b="1" lang="zh-TW" sz="4000" spc="-1" strike="noStrike">
                <a:solidFill>
                  <a:srgbClr val="333399"/>
                </a:solidFill>
                <a:latin typeface="Arial"/>
              </a:rPr>
              <a:t>好像</a:t>
            </a:r>
            <a:r>
              <a:rPr b="1" lang="zh-TW" sz="4000" spc="-1" strike="noStrike">
                <a:solidFill>
                  <a:srgbClr val="008000"/>
                </a:solidFill>
                <a:latin typeface="Arial"/>
              </a:rPr>
              <a:t>一隻隻綿羊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上的白雲</a:t>
            </a:r>
            <a:r>
              <a:rPr b="1" lang="zh-TW" sz="4000" spc="-1" strike="noStrike">
                <a:solidFill>
                  <a:srgbClr val="333399"/>
                </a:solidFill>
                <a:latin typeface="Arial"/>
              </a:rPr>
              <a:t>好像</a:t>
            </a:r>
            <a:r>
              <a:rPr b="1" lang="zh-TW" sz="4000" spc="-1" strike="noStrike">
                <a:solidFill>
                  <a:srgbClr val="008000"/>
                </a:solidFill>
                <a:latin typeface="Arial"/>
              </a:rPr>
              <a:t>軟綿綿的綿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85040" y="506520"/>
            <a:ext cx="1003320" cy="1482480"/>
          </a:xfrm>
          <a:prstGeom prst="borderCallout2">
            <a:avLst>
              <a:gd name="adj1" fmla="val 18750"/>
              <a:gd name="adj2" fmla="val -8333"/>
              <a:gd name="adj3" fmla="val 7708"/>
              <a:gd name="adj4" fmla="val -63925"/>
              <a:gd name="adj5" fmla="val 70879"/>
              <a:gd name="adj6" fmla="val -1224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形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7040" y="5024520"/>
            <a:ext cx="851760" cy="1145520"/>
          </a:xfrm>
          <a:prstGeom prst="upArrowCallout">
            <a:avLst>
              <a:gd name="adj1" fmla="val 25002"/>
              <a:gd name="adj2" fmla="val 25000"/>
              <a:gd name="adj3" fmla="val 22415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感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上形容詞於本體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月亮像一根香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月亮像一個皮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26920" y="1484280"/>
            <a:ext cx="19098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彎彎的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71640" y="3429000"/>
            <a:ext cx="16221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圓圓的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彎彎的月亮像一根香蕉，掛在天空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TW" sz="4800" spc="-1" strike="noStrike">
                <a:solidFill>
                  <a:srgbClr val="000000"/>
                </a:solidFill>
                <a:latin typeface="Arial"/>
              </a:rPr>
              <a:t>彎彎的月亮掛在天空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比喻句的作用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使所要表達的事物</a:t>
            </a:r>
            <a:r>
              <a:rPr b="1" lang="zh-TW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和      ，更加</a:t>
            </a:r>
            <a:r>
              <a:rPr b="1" lang="zh-TW" sz="40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0" y="177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具體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00720" y="177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生動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2421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容易明白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比喻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比喻句包括</a:t>
            </a:r>
            <a:r>
              <a:rPr b="1" lang="zh-TW" sz="4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TW" sz="4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  及           三部分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比喻法是將一種事物比擬為另一種</a:t>
            </a:r>
            <a:r>
              <a:rPr b="1" lang="zh-TW" sz="4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的事物的寫作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使所要表達的事物         和       ， 更加       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4000" y="1773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本體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59280" y="1700280"/>
            <a:ext cx="93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喻詞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77080" y="1773360"/>
            <a:ext cx="115092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9933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喻體</a:t>
            </a:r>
            <a:endParaRPr b="0" lang="en-US" sz="1800" spc="1" strike="noStrike">
              <a:ln w="9360">
                <a:solidFill>
                  <a:srgbClr val="339933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47640" y="3645000"/>
            <a:ext cx="107964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相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64000" y="4437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具體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48360" y="4437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生動，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68360" y="508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容易明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你心中的白雲又是怎樣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4400" y="842400"/>
            <a:ext cx="1740240" cy="12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2552760" cy="240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692360" y="6858000"/>
            <a:ext cx="410364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新細明體"/>
              </a:rPr>
              <a:t>天上真的有綿羊嗎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51445E-007 L 0.17327 -0.60832 E">
                                      <p:cBhvr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521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天上的白雲好像什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2627280" y="4365720"/>
            <a:ext cx="1657440" cy="1111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4140360" y="5300640"/>
            <a:ext cx="2016000" cy="1351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5724360" y="3933720"/>
            <a:ext cx="2016360" cy="1351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68360" y="5516640"/>
            <a:ext cx="1400400" cy="942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64000" y="4581360"/>
            <a:ext cx="1400040" cy="9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92720" y="5516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9640" y="4581360"/>
            <a:ext cx="14004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637000"/>
            <a:ext cx="781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天上真的有綿羊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bbe0e3"/>
            </a:gs>
            <a:gs pos="100000">
              <a:srgbClr val="ff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loud"/>
          <p:cNvSpPr/>
          <p:nvPr/>
        </p:nvSpPr>
        <p:spPr>
          <a:xfrm>
            <a:off x="1187280" y="1052640"/>
            <a:ext cx="2016360" cy="1350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59280" y="2492280"/>
            <a:ext cx="2592360" cy="13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新細明體"/>
              </a:rPr>
              <a:t>好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新細明體"/>
              <a:ea typeface="新細明體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64000" y="4221000"/>
            <a:ext cx="25210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0:00:50Z</dcterms:created>
  <dc:creator>edwina chan</dc:creator>
  <dc:description/>
  <dc:language>en-US</dc:language>
  <cp:lastModifiedBy>edwina</cp:lastModifiedBy>
  <dcterms:modified xsi:type="dcterms:W3CDTF">2004-05-04T22:15:59Z</dcterms:modified>
  <cp:revision>15</cp:revision>
  <dc:subject/>
  <dc:title>小二 中文科 </dc:title>
</cp:coreProperties>
</file>