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4.gif" ContentType="image/gif"/>
  <Override PartName="/ppt/media/image33.jpeg" ContentType="image/jpeg"/>
  <Override PartName="/ppt/media/image25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0.gif" ContentType="image/gif"/>
  <Override PartName="/ppt/media/image13.jpeg" ContentType="image/jpeg"/>
  <Override PartName="/ppt/media/image41.gif" ContentType="image/gif"/>
  <Override PartName="/ppt/media/image6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9.png" ContentType="image/png"/>
  <Override PartName="/ppt/media/image2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351-6D3F-4557-B18E-5F6CFAFC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5E6-8E62-415B-82DC-07CDD88C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3EA-5BC4-4CAE-9D99-D9869D93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510-5E18-4954-86E2-F9C1CE51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106E-8B07-4C70-B544-4866CB55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4159-629A-413B-B3F9-F96100E8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5D44-4B63-4430-8C3C-FE023F19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6DCB-6EB5-4115-B4D5-34EE9DA2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394E-6F61-44CD-83C1-27554182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B6CF-60C5-49CB-B0DC-C882A0C3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9F12-8DB3-4757-9312-736BA33E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BB0-2F8F-45F4-BA8F-38541E32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88CB-681A-4EDA-8DEB-F186B66C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3071-3C23-4225-A770-3870CC08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5447-3C5D-4831-9F23-821EA3C5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6462-8BED-4E27-A2E3-CC6613B8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F89E-C4D7-42D0-A796-0EE99031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064-8CB7-4EA9-892D-247BAC43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6D2-320C-4FCC-83F0-6EA13A34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509-43E8-43F8-B215-C892538A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8F5-AEF1-4FC2-9BE9-F1E21ED6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F39-1C06-4B05-8965-B2799054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3C3E-11F4-4A88-BB4F-CD4C48FE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2573-CF1A-4630-A75A-3CE6D62B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0E5D-5EE4-47E8-A473-0B9FD74B095B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055B-56CC-492C-93BA-C07044548A0E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703dff"/>
                </a:solidFill>
                <a:latin typeface="Comic Sans MS"/>
                <a:ea typeface="文鼎粗隸"/>
              </a:rPr>
              <a:t>青春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0" y="2133360"/>
            <a:ext cx="3927600" cy="26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女生可以早在八、九歲，或晚到十三、四歲才進入青春期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男生早的在十、十一歲，晚到十四、五歲，甚至更遲才進入青春期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392360" cy="5256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56360" y="4724280"/>
            <a:ext cx="201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44956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ff33cc"/>
                </a:solidFill>
                <a:latin typeface="標楷體"/>
                <a:ea typeface="標楷體"/>
              </a:rPr>
              <a:t>子宮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它是肌肉構成的袋狀器官，形狀像倒放的梨子，為懷孕時受精卵成胎兒的地方。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cc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ff33cc"/>
                </a:solidFill>
                <a:latin typeface="標楷體"/>
                <a:ea typeface="標楷體"/>
              </a:rPr>
              <a:t>輸卵管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最主要的功能是將卵巢產生的卵子，送到子宮去。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ff33cc"/>
                </a:solidFill>
                <a:latin typeface="標楷體"/>
                <a:ea typeface="標楷體"/>
              </a:rPr>
              <a:t>卵巢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左右各有一個，形狀像杏仁，位在子宮的兩側，其主要功能為排卵及分泌女性賀爾蒙。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隨著身體的成長，約在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-16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歲時，成熟的卵會從左右兩旁的卵巢排出，每次排出一個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540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女性生殖器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卵巢：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左右各一，是製造卵子及分泌女性荷爾蒙（動情素及黃體素）的地方。每個月經週期約有一個卵子成熟而排出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２．輸卵管：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左右各一，是把卵巢所排出的卵子輸送到子宮腔的管子。同時也是精子與卵子結合的地方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３．子宮：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是受精卵著床，及胎兒發育的地方。沒有懷孕的女性，約每個月一次因為子宮內膜剝落而引起月經來潮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４．陰道：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性交的主要器官，也是月經排出及胎兒娩出的通道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５．陰蒂、大陰唇、小陰唇：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均為女性非常敏感的外生殖器官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29210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1216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816360" cy="4537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8920" y="17002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女性的生殖器官從外面看有陰蒂、大陰唇、小陰唇和陰道口，陰道口有一層薄膜，其間有小孔，它就是所謂的處女膜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陰道口是經血流出和嬰兒出生的地方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95640" y="1170000"/>
            <a:ext cx="446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陰道口有一層薄膜，叫做處女膜，處女膜的開口形狀，有環狀、分隔狀和篩狀。經血是由處女膜開口流出。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女性的處女膜，其厚薄因人而異，有的很薄，有的很堅韌，處女膜的破裂可因運動、騎車、跨欄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---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等造成，它不一定由性交所引起（所謂性交是指由男性勃起的陰莖進入女生的陰道內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24360" y="1386000"/>
            <a:ext cx="4572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  <a:ea typeface="文鼎粗隸"/>
              </a:rPr>
              <a:t>何謂月經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4956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女孩子一生下來，卵巢就有許多未成熟的卵，這就是所謂的初級卵泡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33cc"/>
                </a:solidFill>
                <a:latin typeface="標楷體"/>
                <a:ea typeface="標楷體"/>
              </a:rPr>
              <a:t>月經</a:t>
            </a:r>
            <a:r>
              <a:rPr b="1" lang="zh-TW" sz="2000" spc="-1" strike="noStrike">
                <a:solidFill>
                  <a:srgbClr val="ff33cc"/>
                </a:solidFill>
                <a:latin typeface="Comic Sans MS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到了青春期，女性有生殖能力時，卵子可以發育到成熟，大約每隔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8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天會有一個成熟的卵排出， 因為排卵週期不大一樣， 因此每個人的月經週期也會不同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omic Sans MS"/>
                <a:ea typeface="標楷體"/>
              </a:rPr>
              <a:t>     </a:t>
            </a:r>
            <a:r>
              <a:rPr b="1" lang="zh-TW" sz="2000" spc="-1" strike="noStrike">
                <a:solidFill>
                  <a:srgbClr val="000000"/>
                </a:solidFill>
                <a:latin typeface="Comic Sans MS"/>
                <a:ea typeface="標楷體"/>
              </a:rPr>
              <a:t>如果爸、媽合為一體時，爸爸的精子會經陰道、子宮進入輸卵管，與卵子結合成為受精卵，受精卵繼續向子宮前進，同時子宮為了歡迎受精卵的到來，開始把子宮布置軟綿綿的很舒服，準備讓受精卵生長成胎兒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076720" y="3552840"/>
            <a:ext cx="28479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omic Sans MS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如果沒有精子進入女性體內，子宮裡面準備的東西就沒有用了，它們會掉下來，跟卵一起經過陰道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排出體外，稱為月經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因為裡面有血液所以月經會紅紅的、黏黏的，要用衛生棉墊著，才不會弄髒衣服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59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56862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703dff"/>
                </a:solidFill>
                <a:latin typeface="Comic Sans MS"/>
                <a:ea typeface="文鼎粗隸"/>
              </a:rPr>
              <a:t>衛生棉的使用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932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可依照月經來潮時經血的量自行選擇衛生棉。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『衛生棉條』可以直接塞入陰道裡，但棉條若在體內放置過久，很容易成為細菌繁殖的的溫床，甚至產生『中毒性休克症候群』的症狀，要謹慎的使用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衛生棉墊應勤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使用過的衛生棉不要隨意丟棄，也不要丟入馬桶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76400" cy="2664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960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4920" y="1052640"/>
            <a:ext cx="68706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dff"/>
                </a:solidFill>
                <a:latin typeface="文鼎粗隸"/>
                <a:ea typeface="文鼎粗隸"/>
              </a:rPr>
              <a:t>月經錯誤的觀念，我們一起來探討</a:t>
            </a:r>
            <a:r>
              <a:rPr b="1" lang="zh-TW" sz="2400" spc="-1" strike="noStrike">
                <a:solidFill>
                  <a:srgbClr val="703dff"/>
                </a:solidFill>
                <a:latin typeface="Comic Sans MS"/>
              </a:rPr>
              <a:t>？</a:t>
            </a: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24000" y="981000"/>
            <a:ext cx="5219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經血流失會造成貧血？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經血和平常的流血是不同的，而且經血流出來本來就是正常的生理現象，其流量不過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0-120CC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而體內骨髓隨時會製造血液補充，如果你覺得無精打采（因為月經來時有時會讓妳有點疲倦），妳可以多吃肝、綠葉蔬菜、瘦肉、蛋與魚等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不可以運動？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月經時期，仍然可以做一般運動，只要避免激烈運動，累的時候休息一下就可以了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不能去拜拜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心誠則靈，況且月經是正常生理現象，根本不是什麼不潔與不淨的行為。</a:t>
            </a:r>
            <a:r>
              <a:rPr b="0" lang="zh-TW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457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70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703dff"/>
                </a:solidFill>
                <a:latin typeface="Comic Sans MS"/>
                <a:ea typeface="文鼎粗隸"/>
              </a:rPr>
              <a:t>經期保健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5440" y="1828800"/>
            <a:ext cx="3776760" cy="1766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85440" y="3718080"/>
            <a:ext cx="3776760" cy="1768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571640" y="2133720"/>
            <a:ext cx="4103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經期時要特別注意個人衛生，採用淋浴，切忌坐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大便後，衛生紙要由前往後擦，以免大便污染外陰部造成感染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應該吃營養均衡的飲食可有適度的運動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但不宜做過度激烈的運動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3960720" cy="23828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95280" y="3500280"/>
            <a:ext cx="396072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43280" y="1557360"/>
            <a:ext cx="388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）男性的體毛，包括陰毛、胸毛、腋毛、手腳毛的多寡長短顏色、陰莖陰囊的長短大小、肌肉是否特別強壯、有沒有鬍子都與目前或往後的性能力無關。另外，陰莖、陰囊的長短大小亦與體型的壯碩無關。 陰莖勃起時在</a:t>
            </a: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8</a:t>
            </a: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公分以上，位置有時不是完全正中，只要勃起時不會疼痛，都屬正常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）女性乳房的發育，剛開始時乳房會有圓形小硬塊，可能一側，也可能兩側都有，一 些人在碰觸時會有疼痛的感覺，另一些人則不會。 發育的時間則可早自八、九歲就開始了。如果發育良好，在運動時要考慮穿戴交叉型胸罩，避免乳房肌肉受傷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   </a:t>
            </a: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每個人青春期發育速度有快、有慢、胖的、瘦的、高的、矮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的，所以即便是同一年齡的青少年其身高、體重及兩性象徵的發育上常常有很大的差別。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培養自信，只要身體健康，不管發育情況如何都應接納自己。</a:t>
            </a:r>
            <a:r>
              <a:rPr b="0" lang="zh-TW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103640" cy="5111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75596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5400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703dff"/>
                </a:solidFill>
                <a:latin typeface="標楷體"/>
                <a:ea typeface="標楷體"/>
              </a:rPr>
              <a:t>經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35280" y="1068480"/>
            <a:ext cx="532944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經痛是一種症狀，並非疾病。它是指月經來臨前三、五日至月經結束前所伴隨的下腹部間隔性疼痛，而且多半有頭痛、腰痛、腹部重壓感、神經緊張、噁心、嘔吐等不適症狀。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引起痛經的原因可分為二大類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）</a:t>
            </a:r>
            <a:r>
              <a:rPr b="0" lang="zh-TW" sz="2400" spc="-1" strike="noStrike">
                <a:solidFill>
                  <a:srgbClr val="ff33cc"/>
                </a:solidFill>
                <a:latin typeface="標楷體"/>
                <a:ea typeface="標楷體"/>
              </a:rPr>
              <a:t>生殖器官的病變所引起，或稱為  續發性的經痛</a:t>
            </a:r>
            <a:r>
              <a:rPr b="0" lang="zh-TW" sz="2400" spc="-1" strike="noStrike">
                <a:solidFill>
                  <a:srgbClr val="ff33cc"/>
                </a:solidFill>
                <a:latin typeface="標楷體"/>
                <a:ea typeface="標楷體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子宮內膜異位、骨盆腔炎症、子宮腫瘤及先天性生殖器官異常，如處女膜過厚    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             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         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）</a:t>
            </a:r>
            <a:r>
              <a:rPr b="0" lang="zh-TW" sz="2400" spc="-1" strike="noStrike">
                <a:solidFill>
                  <a:srgbClr val="ff33cc"/>
                </a:solidFill>
                <a:latin typeface="標楷體"/>
                <a:ea typeface="標楷體"/>
              </a:rPr>
              <a:t>功能性，或原發性的痛經</a:t>
            </a:r>
            <a:r>
              <a:rPr b="0" lang="zh-TW" sz="2400" spc="-1" strike="noStrike">
                <a:solidFill>
                  <a:srgbClr val="ff33cc"/>
                </a:solidFill>
                <a:latin typeface="標楷體"/>
                <a:ea typeface="標楷體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即沒有生殖器官病變或內分泌異常等原因。此外，痛經與心理因素也有很大的關係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3852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00720" y="1413000"/>
            <a:ext cx="403848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熱敷腹部做適當運動如膝胸臥式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請醫師給一些藥物，減輕疼痛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情緒比平常不穩定，這雖然是正常的， 但是也應該儘量學習控制自己的情緒，避免影響到別人和自己，男性對這些現象也應該有所瞭解與體諒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321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-360" y="1483920"/>
            <a:ext cx="37767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omic Sans MS"/>
              </a:rPr>
              <a:t>（一）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培養記錄月經週期的準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omic Sans MS"/>
              </a:rPr>
              <a:t>（二）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攜帶衛生棉</a:t>
            </a:r>
            <a:r>
              <a:rPr b="1" lang="zh-TW" sz="2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月經期間穿著深色的裙、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140360" y="620640"/>
            <a:ext cx="3958920" cy="2808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411280" y="3760920"/>
            <a:ext cx="3959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每個人的身體都是寶貝的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生殖器並不骯髒或羞恥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但每個人都應注意它的隱私、衛生和安全，尤其生殖器官是不能讓別人隨便撫摸，除了看病時父母的照顧以外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沒有人有權利去探索你的身體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10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64198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  <a:ea typeface="文鼎粗隸"/>
              </a:rPr>
              <a:t>如何度過青春期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125360"/>
            <a:ext cx="44956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給青少年朋友發育期間的貼心話</a:t>
            </a:r>
            <a:r>
              <a:rPr b="1" i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-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）良好的發育，依賴均衡足量的營養、適度合宜的運動，充足的睡眠與休息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）接納自己生長發育的速度，不要自卑，也不要恥笑別人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）發育狀況不是一個人的全部，要認識自己的優缺點，接納自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）發育是自然的，無法勉強。人的價值是多元的，這裡有缺點，別的地方就有優點，現在不好，以後可能會變成好的，有自信和自我接納才是重要的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）去騷擾別人的時候，要思考一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TW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TW" sz="20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TW" sz="2000" spc="-1" strike="noStrike">
                <a:solidFill>
                  <a:srgbClr val="000000"/>
                </a:solidFill>
                <a:latin typeface="Comic Sans MS"/>
                <a:ea typeface="標楷體"/>
              </a:rPr>
              <a:t>每個人的身體都是寶貝的，生殖器並不骯髒或羞恥，但每個人都應注意它的隱私、衛生和安全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2374920" cy="5040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2374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038840" cy="1279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032000" cy="10191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50920" y="3357720"/>
            <a:ext cx="3733560" cy="647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3924360" y="4797360"/>
            <a:ext cx="4038480" cy="1338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692360" y="1844640"/>
            <a:ext cx="2333520" cy="1371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6156360" y="3213000"/>
            <a:ext cx="1428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681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男性生殖器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１．睪丸、副睪丸：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位於陰囊內，左右各一。睪丸是產生精子及製造男性荷爾蒙的器官。副睪丸附著在睪丸上方，連接輸精管，是精子成熟的地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２．陰莖：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前有龜頭，是非常敏感的性器官，外覆蓋包皮，裡面主要是血管和海綿體，是男性性交及排尿的器官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３．輸精管：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左右各一，為輸送精子的管子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４．儲精囊、前列腺（攝護腺）：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分泌營養精子的白色乳狀液體的器官，佔精液的９５％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射精過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     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睪丸產生的精子，與儲精囊及前列腺分泌出來的白色乳狀液體會與精液混合，再經過尿道，最後由陰莖前端射出體 外。每次可射出大約２至４ｃｃ的精液，每ｃｃ的精液大約含有五千萬以上的精子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omic Sans MS"/>
              </a:rPr>
              <a:t>　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140000" y="1413000"/>
            <a:ext cx="5003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睪丸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--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平均每天約生產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7000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萬個精子，我們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所謂生產線就是指睪丸內的曲細精管。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    </a:t>
            </a:r>
            <a:r>
              <a:rPr b="1" i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給青少年朋友有關睪丸的貼心話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）精子攜帶的遺傳物質決定胎兒性別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）睪丸所在的陰囊位於體外，溫度較人體內為低，剛好適  合精子的發育及成熟，所以應避免跨下溫度升高，不要 穿太厚和太窄的褲子，因為會破壞精子生活的環境，造成日後不孕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）運動時，注意不要碰撞睪丸的位置以免萬一受傷，造成不孕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）萬一受傷，一定要請醫師檢查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200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31280" y="3860640"/>
            <a:ext cx="151272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7416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77770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5689800" cy="1079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36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02:58:04Z</dcterms:created>
  <dc:creator>連美婷</dc:creator>
  <dc:description/>
  <dc:language>en-US</dc:language>
  <cp:lastModifiedBy>連美婷</cp:lastModifiedBy>
  <dcterms:modified xsi:type="dcterms:W3CDTF">2004-02-27T07:52:41Z</dcterms:modified>
  <cp:revision>6</cp:revision>
  <dc:subject/>
  <dc:title>投影片 1</dc:title>
</cp:coreProperties>
</file>