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19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776E-EE67-40A6-A3D7-F0ACA6324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1F98-AC57-403C-8E9F-7C961E84B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9C13-4D2F-47D1-A59A-0FEBD7ED1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6009-B8D6-4FEE-85E6-8B577F8D3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A35B-E608-442F-BA25-B0D0EAD91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C1C5-9B6A-4506-8D42-1D81A4143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8830-299F-4C42-8E1D-479D0ABBE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B01A-4B85-44C1-9F84-7A3870AC2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C13D-F3A3-461A-BA20-2D00ADAC3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9ED9-DD88-413D-B873-5946EADD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3802-6FFA-4172-95EE-A50F742B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B624-720B-453A-B154-1D3245F9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5567C5B-0131-4034-9352-6846E2B6C9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34680" y="406440"/>
            <a:ext cx="7721640" cy="1092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lin ang="13500000"/>
          </a:gradFill>
          <a:ln w="50760">
            <a:solidFill>
              <a:srgbClr val="3333cc"/>
            </a:solidFill>
            <a:miter/>
          </a:ln>
          <a:effectLst>
            <a:outerShdw dist="148236" dir="1859257" blurRad="0" rotWithShape="0">
              <a:srgbClr val="ccccf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TW" sz="5400" spc="-1" strike="noStrike">
                <a:solidFill>
                  <a:srgbClr val="000000"/>
                </a:solidFill>
                <a:latin typeface="標楷體"/>
                <a:ea typeface="標楷體"/>
              </a:rPr>
              <a:t>青春期的女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常識科  單元七 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---- 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踏上青春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參考課本 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---- 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新一代常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五年級下學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供四教節之第四教節使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952880" y="4419720"/>
            <a:ext cx="35816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學生姓名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歐詠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學生編號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: 971285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年        級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: 2PC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組        別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: Group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638360" y="4114800"/>
            <a:ext cx="2171520" cy="25146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92280" y="615600"/>
            <a:ext cx="7759440" cy="825480"/>
          </a:xfrm>
          <a:prstGeom prst="rect">
            <a:avLst/>
          </a:prstGeom>
          <a:solidFill>
            <a:srgbClr val="66ccff">
              <a:alpha val="50000"/>
            </a:srgbClr>
          </a:solidFill>
          <a:ln w="12600">
            <a:solidFill>
              <a:srgbClr val="3333cc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Times New Roman"/>
              </a:rPr>
              <a:t>如何面對身體發育</a:t>
            </a:r>
            <a:r>
              <a:rPr b="1" lang="zh-TW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979640" y="3867120"/>
            <a:ext cx="1677960" cy="25336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身體發育是自然現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672080" y="3676680"/>
            <a:ext cx="2838240" cy="30002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85800" y="3200400"/>
            <a:ext cx="7315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若遇上生理問題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可請教家長或老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259092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無需隱瞞或感到羞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92280" y="615600"/>
            <a:ext cx="7759440" cy="901800"/>
          </a:xfrm>
          <a:prstGeom prst="rect">
            <a:avLst/>
          </a:prstGeom>
          <a:solidFill>
            <a:srgbClr val="66ccff">
              <a:alpha val="50000"/>
            </a:srgbClr>
          </a:solidFill>
          <a:ln w="12600">
            <a:solidFill>
              <a:srgbClr val="3333cc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Times New Roman"/>
              </a:rPr>
              <a:t>內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031080" y="3200400"/>
            <a:ext cx="2695320" cy="25574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525780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Times New Roman"/>
              </a:rPr>
              <a:t>月經的迷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Times New Roman"/>
              </a:rPr>
              <a:t>經期間的衛生常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Times New Roman"/>
              </a:rPr>
              <a:t>經期間的飲食和生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Times New Roman"/>
              </a:rPr>
              <a:t>如何面對身體發育</a:t>
            </a:r>
            <a:r>
              <a:rPr b="1" lang="zh-TW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09480"/>
            <a:ext cx="7759800" cy="825480"/>
          </a:xfrm>
          <a:prstGeom prst="rect">
            <a:avLst/>
          </a:prstGeom>
          <a:solidFill>
            <a:srgbClr val="66ccff">
              <a:alpha val="50000"/>
            </a:srgbClr>
          </a:solidFill>
          <a:ln w="12600">
            <a:solidFill>
              <a:srgbClr val="3333cc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Times New Roman"/>
              </a:rPr>
              <a:t>有關月經的迷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92280" y="1682640"/>
            <a:ext cx="3879720" cy="144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 algn="ctr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 u="sng">
                <a:solidFill>
                  <a:srgbClr val="000000"/>
                </a:solidFill>
                <a:uFillTx/>
                <a:latin typeface="Times New Roman"/>
              </a:rPr>
              <a:t>錯誤觀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來經時要戒生冷食物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甜品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3505320"/>
            <a:ext cx="373392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84120" indent="-38412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來經時洗頭會導致   頭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48320" y="1600200"/>
            <a:ext cx="38098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 u="sng">
                <a:solidFill>
                  <a:srgbClr val="000000"/>
                </a:solidFill>
                <a:uFillTx/>
                <a:latin typeface="Times New Roman"/>
              </a:rPr>
              <a:t>正確觀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來經時毋須特別戒口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但生冷食物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甜品平時也不宜多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648320" y="3581280"/>
            <a:ext cx="35812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84120" indent="-384120"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來經時洗頭不會影               響健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29160" y="5029200"/>
            <a:ext cx="1947960" cy="16765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608880" y="5105520"/>
            <a:ext cx="1189080" cy="1600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392120" y="4954680"/>
            <a:ext cx="1656000" cy="15969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990720" y="4572000"/>
            <a:ext cx="21826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761760" y="1066680"/>
            <a:ext cx="38098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 u="sng">
                <a:solidFill>
                  <a:srgbClr val="000000"/>
                </a:solidFill>
                <a:uFillTx/>
                <a:latin typeface="Times New Roman"/>
              </a:rPr>
              <a:t>錯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經血是骯髒和有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24280" y="1066680"/>
            <a:ext cx="38102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 u="sng">
                <a:solidFill>
                  <a:srgbClr val="000000"/>
                </a:solidFill>
                <a:uFillTx/>
                <a:latin typeface="Times New Roman"/>
              </a:rPr>
              <a:t>正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經血與身體其他血液無分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2741760"/>
            <a:ext cx="3429000" cy="18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經量多才正常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因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可將身體內不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的血液排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2719440"/>
            <a:ext cx="3810240" cy="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月經並非不潔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經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多是病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713040" y="3962520"/>
            <a:ext cx="3297240" cy="25081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97120" y="3809880"/>
            <a:ext cx="3265560" cy="26784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440" y="914040"/>
            <a:ext cx="380988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 u="sng">
                <a:solidFill>
                  <a:srgbClr val="000000"/>
                </a:solidFill>
                <a:uFillTx/>
                <a:latin typeface="Times New Roman"/>
              </a:rPr>
              <a:t>錯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經量少及顏色較淡是病態和身體弱的現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47960" y="914400"/>
            <a:ext cx="38098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 u="sng">
                <a:solidFill>
                  <a:srgbClr val="000000"/>
                </a:solidFill>
                <a:uFillTx/>
                <a:latin typeface="Times New Roman"/>
              </a:rPr>
              <a:t>正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經量少或顏色淺與身體強弱無關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不規則的月經才是病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2819520"/>
            <a:ext cx="3886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72960" indent="-37296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經量少或不來是因有   阻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8320" y="2819520"/>
            <a:ext cx="3809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3760" indent="-29376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月經不會受阻而不能泡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92280" y="615600"/>
            <a:ext cx="7759440" cy="901800"/>
          </a:xfrm>
          <a:prstGeom prst="rect">
            <a:avLst/>
          </a:prstGeom>
          <a:solidFill>
            <a:srgbClr val="66ccff">
              <a:alpha val="50000"/>
            </a:srgbClr>
          </a:solidFill>
          <a:ln w="12600">
            <a:solidFill>
              <a:srgbClr val="3333cc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Times New Roman"/>
              </a:rPr>
              <a:t>經期間的衛生常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經常更換衛生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經常洗澡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更換內衣褲及照常洗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683160" y="3657600"/>
            <a:ext cx="2087280" cy="289548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92280" y="615600"/>
            <a:ext cx="7759440" cy="825480"/>
          </a:xfrm>
          <a:prstGeom prst="rect">
            <a:avLst/>
          </a:prstGeom>
          <a:solidFill>
            <a:srgbClr val="66ccff">
              <a:alpha val="50000"/>
            </a:srgbClr>
          </a:solidFill>
          <a:ln w="12600">
            <a:solidFill>
              <a:srgbClr val="3333cc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Times New Roman"/>
              </a:rPr>
              <a:t>經期間的飲食及生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5812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定時定量進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注意營養要均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473720" y="1824120"/>
            <a:ext cx="2460600" cy="16048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85800" y="3429000"/>
            <a:ext cx="3276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多吃蔬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657840" y="3505320"/>
            <a:ext cx="1984680" cy="21049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85800" y="4114800"/>
            <a:ext cx="3200400" cy="10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多喝開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保持大便暢通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3843360" y="3886200"/>
            <a:ext cx="2206440" cy="231948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924440" y="533520"/>
            <a:ext cx="2986200" cy="23619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609480" y="1142640"/>
            <a:ext cx="3276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有充足的睡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818240" y="3581280"/>
            <a:ext cx="2279520" cy="31226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09480" y="2133720"/>
            <a:ext cx="579132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如常參與各類運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-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不但無害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而且能減輕經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2116080" y="3809880"/>
            <a:ext cx="1770120" cy="274176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92280" y="463320"/>
            <a:ext cx="7759440" cy="672840"/>
          </a:xfrm>
          <a:prstGeom prst="rect">
            <a:avLst/>
          </a:prstGeom>
          <a:solidFill>
            <a:srgbClr val="66ccff">
              <a:alpha val="50000"/>
            </a:srgbClr>
          </a:solidFill>
          <a:ln w="12600">
            <a:solidFill>
              <a:srgbClr val="3333cc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Times New Roman"/>
              </a:rPr>
              <a:t>討論</a:t>
            </a:r>
            <a:r>
              <a:rPr b="1" lang="zh-TW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2819520" cy="3048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795920" y="1600200"/>
            <a:ext cx="3052800" cy="32767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838080" y="1295280"/>
            <a:ext cx="2743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曲著身體走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62520" y="1295280"/>
            <a:ext cx="4114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在炎熱的天氣仍穿厚衣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4952880"/>
            <a:ext cx="708660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她的行為正確嗎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她應該怎麼面對自己身體的發育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她這樣做對身體有甚麼影響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06T05:15:54Z</dcterms:created>
  <dc:creator>Au Wing Mei</dc:creator>
  <dc:description/>
  <dc:language>en-US</dc:language>
  <cp:lastModifiedBy>CRUCIAL</cp:lastModifiedBy>
  <dcterms:modified xsi:type="dcterms:W3CDTF">1999-01-18T07:21:13Z</dcterms:modified>
  <cp:revision>27</cp:revision>
  <dc:subject/>
  <dc:title>有關月經的迷信</dc:title>
</cp:coreProperties>
</file>