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7C4-F7E5-4BAC-BCA7-747E0DE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A58-1F59-4039-A8A4-21264D1A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7AF-00AA-4354-82CF-60CD7133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982-3847-49EB-B6E6-14891633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46D-1C90-4895-926D-FDF31B47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2EB-47E4-4D04-8A12-6B7DEED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FAD-23FA-4F0F-AA21-FDDF46A6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618-4DB0-467D-973B-1CC1C145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B35-7481-40FA-A9CC-73A2EE64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A69-80DB-45F2-B7AE-9135BAC3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C1F-16D0-49D0-B0B2-4E8BF3D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65E-B691-478D-9509-BF6BD98F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79D7-78DF-430F-AEC9-A823E9588CD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ses.chc.edu.tw/teach_doc/how_to_avoid_usbdisk_get_virus.htm" TargetMode="External"/><Relationship Id="rId2" Type="http://schemas.openxmlformats.org/officeDocument/2006/relationships/hyperlink" Target="http://www.yaes.tnc.edu.tw/school/menu/index.php" TargetMode="External"/><Relationship Id="rId3" Type="http://schemas.openxmlformats.org/officeDocument/2006/relationships/hyperlink" Target="http://heresy.spaces.live.com/blog/" TargetMode="External"/><Relationship Id="rId4" Type="http://schemas.openxmlformats.org/officeDocument/2006/relationships/hyperlink" Target="http://heresy.spaces.live.com/blog/" TargetMode="External"/><Relationship Id="rId5" Type="http://schemas.openxmlformats.org/officeDocument/2006/relationships/hyperlink" Target="http://heresy.spaces.live.com/blog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00"/>
                </a:solidFill>
                <a:latin typeface="Arial"/>
                <a:ea typeface="標楷體"/>
              </a:rPr>
              <a:t>防止隨身碟病毒的保護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508464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987640" y="1773360"/>
          <a:ext cx="317520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773360"/>
                    <a:ext cx="31752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476360" y="530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Arial"/>
                <a:ea typeface="標楷體"/>
              </a:rPr>
              <a:t>保護自己，也保護別人，大家一起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utorun.inf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目錄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（資料夾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屬性必需記得設定為【唯讀】與【隱藏】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autorun.inf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資料夾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右鍵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選（</a:t>
            </a:r>
            <a:r>
              <a:rPr b="1" lang="zh-TW" sz="3200" spc="-1" strike="noStrike">
                <a:solidFill>
                  <a:srgbClr val="0000ff"/>
                </a:solidFill>
                <a:latin typeface="Arial"/>
              </a:rPr>
              <a:t>內容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），再設定即可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補充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wincab.sys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木馬程式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、</a:t>
            </a:r>
            <a:br>
              <a:rPr sz="4000"/>
            </a:b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 </a:t>
            </a: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「</a:t>
            </a: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W32.Gammima.AG</a:t>
            </a: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」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這些木馬為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USB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專門病毒，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舉凡隨身碟、硬碟、記憶卡等都會感染！！！</a:t>
            </a:r>
            <a:br>
              <a:rPr sz="3200"/>
            </a:b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只要感染的隨身碟，插到哪裡就感染到哪裡，很可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身邊的所有的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USB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儲存裝置，都要清查裡頭是否有兩個隱藏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Autorun.inf</a:t>
            </a:r>
            <a:br>
              <a:rPr sz="3200"/>
            </a:b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ntdelect.com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有快把它殺了，千萬別執行它，因為就是這兩檔會自動執行而感染的。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清除方法見前面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351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千萬別小看這些木馬程式，有很多的掃毒軟體是掃不出來的，其實他有相關的程式隱身在系統裡如下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:\WINDOWS\system32\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kavo.exe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:\WINDOWS\system32\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kavo.dll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:\WINDOWS\system32\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kav0.dll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:\WINDOWS\system32\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kav1.dll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:\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ntdelec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系統裡有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ntdetect.com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千萬別刪除看清楚！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！病毒是 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l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系統檔是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t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）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但您也別太高興！因為它把系統全部隱藏起來了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無論您麼改顯示統檔案，一跳出設定他又隱藏了起來了！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這就是此病毒的特色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00"/>
                </a:solidFill>
                <a:latin typeface="Arial"/>
                <a:ea typeface="標楷體"/>
              </a:rPr>
              <a:t>清除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開完機後要去修改註冊機碼（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regedit)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在</a:t>
            </a:r>
            <a:r>
              <a:rPr b="1" lang="zh-TW" sz="3200" spc="-1" strike="noStrike" u="sng">
                <a:solidFill>
                  <a:srgbClr val="800000"/>
                </a:solidFill>
                <a:uFillTx/>
                <a:latin typeface="標楷體"/>
                <a:ea typeface="標楷體"/>
              </a:rPr>
              <a:t>開始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zh-TW" sz="3200" spc="-1" strike="noStrike" u="sng">
                <a:solidFill>
                  <a:srgbClr val="800000"/>
                </a:solidFill>
                <a:uFillTx/>
                <a:latin typeface="標楷體"/>
                <a:ea typeface="標楷體"/>
              </a:rPr>
              <a:t>執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中，輸入【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regedit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】，會出現如下視窗，打開〈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尋找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〉，輸入要清除的檔案如：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utorun.inf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kavo.exe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ntdelect.com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等，</a:t>
            </a:r>
            <a:br>
              <a:rPr sz="3200"/>
            </a:b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不管找到多少個</a:t>
            </a:r>
            <a:br>
              <a:rPr sz="3200"/>
            </a:b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統統殺掉即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40360" y="3094200"/>
            <a:ext cx="3852720" cy="3558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5940000" y="3500280"/>
            <a:ext cx="1584360" cy="187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示範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634160" cy="362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11280" y="3645000"/>
            <a:ext cx="10810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示範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761080" cy="470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916360" y="1989000"/>
            <a:ext cx="1224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5084640"/>
            <a:ext cx="1224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1557360"/>
            <a:ext cx="1152360" cy="459720"/>
          </a:xfrm>
          <a:prstGeom prst="rect">
            <a:avLst/>
          </a:prstGeom>
          <a:solidFill>
            <a:srgbClr val="fae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4581360"/>
            <a:ext cx="1152360" cy="459720"/>
          </a:xfrm>
          <a:prstGeom prst="rect">
            <a:avLst/>
          </a:prstGeom>
          <a:solidFill>
            <a:srgbClr val="fae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示範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489800" cy="3171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50920" y="2637000"/>
            <a:ext cx="1224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88000" y="2637000"/>
            <a:ext cx="1440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2060640"/>
            <a:ext cx="4103640" cy="459720"/>
          </a:xfrm>
          <a:prstGeom prst="rect">
            <a:avLst/>
          </a:prstGeom>
          <a:solidFill>
            <a:srgbClr val="fae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）輸入要刪的檔案名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2720" y="2205000"/>
            <a:ext cx="1079280" cy="459720"/>
          </a:xfrm>
          <a:prstGeom prst="rect">
            <a:avLst/>
          </a:prstGeom>
          <a:solidFill>
            <a:srgbClr val="fae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示範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233360"/>
            <a:ext cx="6696000" cy="499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79640" y="4005360"/>
            <a:ext cx="3456000" cy="5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781360"/>
            <a:ext cx="863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3933720"/>
            <a:ext cx="2700360" cy="459720"/>
          </a:xfrm>
          <a:prstGeom prst="rect">
            <a:avLst/>
          </a:prstGeom>
          <a:solidFill>
            <a:srgbClr val="fae3a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確認後面檔名無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235640" y="3212640"/>
            <a:ext cx="215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3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4581360"/>
            <a:ext cx="1728720" cy="459720"/>
          </a:xfrm>
          <a:prstGeom prst="rect">
            <a:avLst/>
          </a:prstGeom>
          <a:solidFill>
            <a:srgbClr val="fae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）刪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00360" y="5373720"/>
            <a:ext cx="4967280" cy="520560"/>
          </a:xfrm>
          <a:prstGeom prst="rect">
            <a:avLst/>
          </a:prstGeom>
          <a:solidFill>
            <a:srgbClr val="fae3a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一個一個找，不管找到多少個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標楷體"/>
              </a:rPr>
              <a:t>統統殺掉就是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如何殺掉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c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槽、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d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槽等的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Autorun.inf</a:t>
            </a:r>
            <a:r>
              <a:rPr b="1" lang="en-US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、</a:t>
            </a:r>
            <a:br>
              <a:rPr sz="3200"/>
            </a:b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ntdelect.com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147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除以上方法，也可以用命令提示字元來確認、刪除。方法就是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TW" sz="2800" spc="-1" strike="noStrike">
                <a:solidFill>
                  <a:srgbClr val="800000"/>
                </a:solidFill>
                <a:latin typeface="Arial"/>
              </a:rPr>
              <a:t>開始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」、「</a:t>
            </a:r>
            <a:r>
              <a:rPr b="1" lang="zh-TW" sz="2800" spc="-1" strike="noStrike">
                <a:solidFill>
                  <a:srgbClr val="800000"/>
                </a:solidFill>
                <a:latin typeface="Arial"/>
              </a:rPr>
              <a:t>執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」輸入「</a:t>
            </a:r>
            <a:r>
              <a:rPr b="1" lang="zh-TW" sz="2800" spc="-1" strike="noStrike">
                <a:solidFill>
                  <a:srgbClr val="800000"/>
                </a:solidFill>
                <a:latin typeface="Arial"/>
              </a:rPr>
              <a:t>cmd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」按確定可以叫出</a:t>
            </a:r>
            <a:r>
              <a:rPr b="1" lang="zh-TW" sz="2800" spc="-1" strike="noStrike">
                <a:solidFill>
                  <a:srgbClr val="800000"/>
                </a:solidFill>
                <a:latin typeface="Arial"/>
              </a:rPr>
              <a:t>命令提示字元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輸入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dir c:\ /a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」可以列出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c:\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下所有的檔案，包含隱藏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要刪除的話，可以透過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檔案名稱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/A:RH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」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如： 「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zh-TW" sz="2800" spc="-1" strike="noStrike">
                <a:solidFill>
                  <a:srgbClr val="800000"/>
                </a:solidFill>
                <a:latin typeface="Arial"/>
              </a:rPr>
              <a:t>ntdelect.com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/A:RH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」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來刪除唯讀隱藏的檔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501336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5445000"/>
            <a:ext cx="42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789360"/>
            <a:ext cx="1800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900000" y="1270080"/>
            <a:ext cx="7201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1844640"/>
            <a:ext cx="360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00"/>
                </a:solidFill>
                <a:latin typeface="Arial"/>
                <a:ea typeface="標楷體"/>
              </a:rPr>
              <a:t>沒有中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在隨身碟建立 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AUTORUN.INF 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資料夾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使病毒無法建立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AUTORUN.INF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wincab.sys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補充 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這一隻是新的隨身碟類型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 autorun.inf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引導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病毒，中毒的症狀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出現 </a:t>
            </a:r>
            <a:r>
              <a:rPr b="1" lang="zh-TW" sz="2800" spc="-1" strike="noStrike">
                <a:solidFill>
                  <a:srgbClr val="800000"/>
                </a:solidFill>
                <a:latin typeface="標楷體"/>
                <a:ea typeface="標楷體"/>
              </a:rPr>
              <a:t>wincab.sys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訊息。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無法將檔案總管的顯示隱藏檔功能開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啟，病毒會將其改回去。</a:t>
            </a:r>
            <a:br>
              <a:rPr sz="2800"/>
            </a:b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解毒方式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將所有磁碟中的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autorun.inf &amp; ntdelect.com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刪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注意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ntde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l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ect.com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跟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:\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系統檔案 的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ntde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t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ect.com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一字之差。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6165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ttp://www.yaes.tnc.edu.tw/school/menu/index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主要參考來源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es.chc.edu.tw/teach_doc/how_to_avoid_usbdisk_get_viru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aes.tnc.edu.tw/school/menu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resy.spaces.live.com/blog</a:t>
            </a: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800000"/>
                </a:solidFill>
                <a:latin typeface="Arial"/>
                <a:ea typeface="標楷體"/>
              </a:rPr>
              <a:t>如何知道您的隨身碟有沒有中毒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開始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→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執行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→輸入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cmd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鍵入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隨身碟磁碟機代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：（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F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輸入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dir /a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若看到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autorun.inf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和奇怪的</a:t>
            </a:r>
            <a:r>
              <a:rPr b="1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****.exe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檔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則表示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可能已中毒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示範步驟</a:t>
            </a: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388360" cy="401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628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開始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→ 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執行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→ 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示範</a:t>
            </a:r>
            <a:r>
              <a:rPr b="1" lang="zh-TW" sz="4400" spc="-1" strike="noStrike">
                <a:solidFill>
                  <a:srgbClr val="0000ff"/>
                </a:solidFill>
                <a:latin typeface="Arial"/>
                <a:ea typeface="標楷體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349280"/>
            <a:ext cx="6265800" cy="482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40360" y="1916280"/>
            <a:ext cx="647640" cy="50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2565360"/>
            <a:ext cx="936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4653000"/>
            <a:ext cx="1368360" cy="28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565360"/>
            <a:ext cx="2808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若找到沒有〈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dir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〉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（資料夾）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的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autorun.inf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檔或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*.exe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檔就要當心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4653000"/>
            <a:ext cx="792000" cy="28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步驟</a:t>
            </a: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4694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284720" y="2060640"/>
            <a:ext cx="865080" cy="71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2492280"/>
            <a:ext cx="86508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2997360"/>
            <a:ext cx="1657440" cy="645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20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852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364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941720"/>
            <a:ext cx="1439640" cy="2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724360" y="4869000"/>
            <a:ext cx="720720" cy="21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21337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20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輸入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c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2852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輸入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c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35733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輸入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dir c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:/a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或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\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5640" y="4149720"/>
            <a:ext cx="280836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若找到沒有〈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dir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〉</a:t>
            </a:r>
            <a:r>
              <a:rPr b="1" lang="zh-TW" sz="1800" spc="-1" strike="noStrike">
                <a:solidFill>
                  <a:srgbClr val="ff0000"/>
                </a:solidFill>
                <a:latin typeface="Arial"/>
              </a:rPr>
              <a:t>（資料夾）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的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autorun.inf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檔就要當心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4869000"/>
            <a:ext cx="720720" cy="215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2781360"/>
            <a:ext cx="1655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這是進入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C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槽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清除隨身碟</a:t>
            </a: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autorun.inf</a:t>
            </a:r>
            <a:r>
              <a:rPr b="1" lang="zh-TW" sz="4000" spc="-1" strike="noStrike">
                <a:solidFill>
                  <a:srgbClr val="0000ff"/>
                </a:solidFill>
                <a:latin typeface="標楷體"/>
                <a:ea typeface="標楷體"/>
              </a:rPr>
              <a:t>等病毒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98160" cy="3221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6920" y="3284640"/>
            <a:ext cx="338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2852640"/>
            <a:ext cx="71928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2565360"/>
            <a:ext cx="3672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autorun.inf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是隱藏檔，所以要加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A:RH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才能清除。其他的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*.exe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檔也一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284720" y="3068280"/>
            <a:ext cx="50328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36572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3284640"/>
            <a:ext cx="435600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3284640"/>
            <a:ext cx="338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7440" y="4365720"/>
            <a:ext cx="5867280" cy="35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195640" y="4437000"/>
            <a:ext cx="79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3168720" cy="1184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32000" y="4437000"/>
            <a:ext cx="5545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在隨身碟建立 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AUTORUN.INF 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資料夾，使病毒無法建立 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AUTORUN.INF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檔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5805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800000"/>
                </a:solidFill>
                <a:latin typeface="標楷體"/>
                <a:ea typeface="標楷體"/>
              </a:rPr>
              <a:t>恭喜！你已建立</a:t>
            </a:r>
            <a:r>
              <a:rPr b="1" lang="zh-TW" sz="1800" spc="-1" strike="noStrike">
                <a:solidFill>
                  <a:srgbClr val="800000"/>
                </a:solidFill>
                <a:latin typeface="標楷體"/>
                <a:ea typeface="標楷體"/>
              </a:rPr>
              <a:t>AUTORUN.INF </a:t>
            </a:r>
            <a:r>
              <a:rPr b="1" lang="zh-TW" sz="1800" spc="-1" strike="noStrike">
                <a:solidFill>
                  <a:srgbClr val="800000"/>
                </a:solidFill>
                <a:latin typeface="標楷體"/>
                <a:ea typeface="標楷體"/>
              </a:rPr>
              <a:t>資料夾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步驟</a:t>
            </a:r>
            <a:r>
              <a:rPr b="1" lang="zh-TW" sz="4400" spc="-1" strike="noStrike">
                <a:solidFill>
                  <a:srgbClr val="0000ff"/>
                </a:solidFill>
                <a:latin typeface="標楷體"/>
                <a:ea typeface="標楷體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8713800" cy="4419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249228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3429000"/>
            <a:ext cx="338436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病毒檔為什麼找不到，因為已被我清除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26920" y="2781360"/>
            <a:ext cx="144144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1844640"/>
            <a:ext cx="460836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若發現隨碟有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ntdelect.com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病毒檔也比照刪除，注意確定隨身碟的槽別是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f: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或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e: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989000"/>
            <a:ext cx="50508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917960"/>
            <a:ext cx="82803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每個硬碟槽都要清除相關病毒檔，建立 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AUTORUN.INF 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資料夾，使病毒無法建立 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AUTORUN.INF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5300640"/>
            <a:ext cx="9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9075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結束隨身碟防毒設定，也可比照設定</a:t>
            </a:r>
            <a:br>
              <a:rPr sz="3200"/>
            </a:b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C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D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等槽，加入〈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autorun.inf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〉資料夾</a:t>
            </a:r>
            <a:br>
              <a:rPr sz="3200"/>
            </a:b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避免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autorun.inf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侵入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C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D</a:t>
            </a:r>
            <a:r>
              <a:rPr b="1" lang="zh-TW" sz="3200" spc="-1" strike="noStrike">
                <a:solidFill>
                  <a:srgbClr val="800000"/>
                </a:solidFill>
                <a:latin typeface="標楷體"/>
                <a:ea typeface="標楷體"/>
              </a:rPr>
              <a:t>等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293832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 flipV="1">
            <a:off x="5724360" y="3141360"/>
            <a:ext cx="71928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34290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要結束時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按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5:05:26Z</dcterms:created>
  <dc:creator>teachernote23</dc:creator>
  <dc:description/>
  <dc:language>en-US</dc:language>
  <cp:lastModifiedBy>Arthur Z. Wang</cp:lastModifiedBy>
  <dcterms:modified xsi:type="dcterms:W3CDTF">2007-11-07T02:28:14Z</dcterms:modified>
  <cp:revision>35</cp:revision>
  <dc:subject/>
  <dc:title>防止隨身碟病毒保護方法</dc:title>
</cp:coreProperties>
</file>