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Hot%20spring-60s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26C3-64C0-45B5-9053-B3B6781DA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1350-8888-42A0-9EF0-44505D85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E0DE-9CCC-4C33-BD3E-CAF8880CB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95B1-BBB3-4E83-B332-882E49FC0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844E-2204-4847-AA58-F657C71B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6424-2FD3-438F-9B84-ECBB552F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60BC-CD15-402E-91F8-044036FA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D765-D366-4AC4-92A0-C4DC690E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D168-785C-4BC1-8335-1462501E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A314-D508-41E8-8EA8-B6F4FA22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C333-3110-4CBD-9010-FD82F2EE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4522-A861-4D55-99F8-3EA8B2D6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8BB2-1D29-4D68-8D7E-32E1389B41C1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Hot%20spring-60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jpeg"/><Relationship Id="rId3" Type="http://schemas.openxmlformats.org/officeDocument/2006/relationships/hyperlink" Target="http://www.bookzone.com.tw/event/BP239/index.asp" TargetMode="External"/><Relationship Id="rId4" Type="http://schemas.openxmlformats.org/officeDocument/2006/relationships/hyperlink" Target="http://www.bookzone.com.tw/event/BP239/inside.htm" TargetMode="External"/><Relationship Id="rId5" Type="http://schemas.openxmlformats.org/officeDocument/2006/relationships/hyperlink" Target="http://www.windmusic.com.tw/shop/Stores_app/Browse_Item_Details.asp?Store_id=103&amp;Item_ID=7219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2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3" name="Hot%20spring-60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0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2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4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6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8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70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72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76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26280" y="6157800"/>
            <a:ext cx="668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 u="sng">
                <a:solidFill>
                  <a:srgbClr val="663300"/>
                </a:solidFill>
                <a:uFillTx/>
                <a:latin typeface="Times New Roman"/>
                <a:hlinkClick r:id="rId3"/>
              </a:rPr>
              <a:t>情緒解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18600" y="6157800"/>
            <a:ext cx="912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 u="sng">
                <a:solidFill>
                  <a:srgbClr val="663300"/>
                </a:solidFill>
                <a:uFillTx/>
                <a:latin typeface="Times New Roman"/>
                <a:hlinkClick r:id="rId4"/>
              </a:rPr>
              <a:t>我的情緒指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74960" y="6210360"/>
            <a:ext cx="467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 u="sng">
                <a:solidFill>
                  <a:srgbClr val="663300"/>
                </a:solidFill>
                <a:uFillTx/>
                <a:latin typeface="Times New Roman"/>
                <a:hlinkClick r:id="rId5"/>
              </a:rPr>
              <a:t>《遇見天空》專輯「溫泉」曲目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78560" y="6216480"/>
            <a:ext cx="767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100" spc="-1" strike="noStrike">
                <a:solidFill>
                  <a:srgbClr val="663300"/>
                </a:solidFill>
                <a:latin typeface="Times New Roman"/>
              </a:rPr>
              <a:t>背景音樂源自：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4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6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8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50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52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54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56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58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08:17:27Z</dcterms:created>
  <dc:creator>samedi</dc:creator>
  <dc:description/>
  <dc:language>en-US</dc:language>
  <cp:lastModifiedBy>samedi</cp:lastModifiedBy>
  <dcterms:modified xsi:type="dcterms:W3CDTF">2008-05-22T09:08:00Z</dcterms:modified>
  <cp:revision>21</cp:revision>
  <dc:subject/>
  <dc:title>PowerPoint 簡報</dc:title>
</cp:coreProperties>
</file>