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Hot%20spring-60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EDB-DF57-4C44-888B-00352752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EE5-0F8D-4217-BFD4-9790DEC2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8F6-96B5-4BC5-9957-A381BC37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8AE-41B5-4D52-A28D-87B3A2BE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7E8-1EB8-4657-BFAF-8AB0BE11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21D-07F5-4C53-A20C-7871C11B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9D2-35BE-4BEA-BFC0-79B11DB9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BF0-88BB-47B5-AC5A-1E368D1D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1CC-C358-4D3E-BDF2-91E1C6BD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BD2-563B-4EBD-9A95-0209AA5F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8CF-3A1E-4B61-8709-6CF3EE64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EC0-34C9-42EC-922C-46A99BB5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4834-CE39-41B2-841B-035C0BA7FF4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Hot%20spring-60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hyperlink" Target="http://www.bookzone.com.tw/event/BP239/index.asp" TargetMode="External"/><Relationship Id="rId4" Type="http://schemas.openxmlformats.org/officeDocument/2006/relationships/hyperlink" Target="http://www.bookzone.com.tw/event/BP239/inside.htm" TargetMode="External"/><Relationship Id="rId5" Type="http://schemas.openxmlformats.org/officeDocument/2006/relationships/hyperlink" Target="http://www.windmusic.com.tw/shop/Stores_app/Browse_Item_Details.asp?Store_id=103&amp;Item_ID=7219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Hot%20spring-60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0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4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8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0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26280" y="6157800"/>
            <a:ext cx="668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663300"/>
                </a:solidFill>
                <a:uFillTx/>
                <a:latin typeface="Times New Roman"/>
                <a:hlinkClick r:id="rId3"/>
              </a:rPr>
              <a:t>情緒解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18600" y="6157800"/>
            <a:ext cx="912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663300"/>
                </a:solidFill>
                <a:uFillTx/>
                <a:latin typeface="Times New Roman"/>
                <a:hlinkClick r:id="rId4"/>
              </a:rPr>
              <a:t>我的情緒指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4960" y="6210360"/>
            <a:ext cx="467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 u="sng">
                <a:solidFill>
                  <a:srgbClr val="663300"/>
                </a:solidFill>
                <a:uFillTx/>
                <a:latin typeface="Times New Roman"/>
                <a:hlinkClick r:id="rId5"/>
              </a:rPr>
              <a:t>《遇見天空》專輯「溫泉」曲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78560" y="62164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663300"/>
                </a:solidFill>
                <a:latin typeface="Times New Roman"/>
              </a:rPr>
              <a:t>背景音樂源自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4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0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8:17:27Z</dcterms:created>
  <dc:creator>samedi</dc:creator>
  <dc:description/>
  <dc:language>en-US</dc:language>
  <cp:lastModifiedBy>samedi</cp:lastModifiedBy>
  <dcterms:modified xsi:type="dcterms:W3CDTF">2008-05-22T09:08:00Z</dcterms:modified>
  <cp:revision>21</cp:revision>
  <dc:subject/>
  <dc:title>PowerPoint 簡報</dc:title>
</cp:coreProperties>
</file>