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Hot%20spring-60s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ABE-776F-4BDF-AFB5-7076D72F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D3E-C333-4A98-AD1E-6F920DC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00D-71FE-4CF5-B8A2-5D15ABED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2FE-B730-4B53-94B2-79BFDFE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1EE-7282-4CF1-9AF0-DE2AD935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9B8-8868-4F6D-B2DD-B59A8DA4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071-10D5-4A15-86D8-BFAF8B6E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5A2-B1F6-4042-8F36-FDD54BE1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D91-29C6-486C-9CA9-FFC50A3A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C6B-E185-4924-A80F-77B471A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11C-0F6A-4702-B458-30A00D2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249-72D9-45A6-9999-9FF02AD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7DC6-1011-437A-87A7-802A7CB10E8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ot%20spring-60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hyperlink" Target="http://www.bookzone.com.tw/event/BP239/index.asp" TargetMode="External"/><Relationship Id="rId4" Type="http://schemas.openxmlformats.org/officeDocument/2006/relationships/hyperlink" Target="http://www.bookzone.com.tw/event/BP239/inside.htm" TargetMode="External"/><Relationship Id="rId5" Type="http://schemas.openxmlformats.org/officeDocument/2006/relationships/hyperlink" Target="http://www.windmusic.com.tw/shop/Stores_app/Browse_Item_Details.asp?Store_id=103&amp;Item_ID=7219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Hot%20spring-60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26280" y="6157800"/>
            <a:ext cx="668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3"/>
              </a:rPr>
              <a:t>情緒解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8600" y="6157800"/>
            <a:ext cx="912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 u="sng">
                <a:solidFill>
                  <a:srgbClr val="663300"/>
                </a:solidFill>
                <a:uFillTx/>
                <a:latin typeface="Times New Roman"/>
                <a:hlinkClick r:id="rId4"/>
              </a:rPr>
              <a:t>我的情緒指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4960" y="6210360"/>
            <a:ext cx="467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 u="sng">
                <a:solidFill>
                  <a:srgbClr val="663300"/>
                </a:solidFill>
                <a:uFillTx/>
                <a:latin typeface="Times New Roman"/>
                <a:hlinkClick r:id="rId5"/>
              </a:rPr>
              <a:t>《遇見天空》專輯「溫泉」曲目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78560" y="62164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663300"/>
                </a:solidFill>
                <a:latin typeface="Times New Roman"/>
              </a:rPr>
              <a:t>背景音樂源自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天下文化" descr=""/>
          <p:cNvPicPr/>
          <p:nvPr/>
        </p:nvPicPr>
        <p:blipFill>
          <a:blip r:embed="rId2"/>
          <a:stretch/>
        </p:blipFill>
        <p:spPr>
          <a:xfrm>
            <a:off x="7086600" y="685800"/>
            <a:ext cx="1219320" cy="380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8:17:27Z</dcterms:created>
  <dc:creator>samedi</dc:creator>
  <dc:description/>
  <dc:language>en-US</dc:language>
  <cp:lastModifiedBy>samedi</cp:lastModifiedBy>
  <dcterms:modified xsi:type="dcterms:W3CDTF">2008-05-22T09:08:00Z</dcterms:modified>
  <cp:revision>21</cp:revision>
  <dc:subject/>
  <dc:title>PowerPoint 簡報</dc:title>
</cp:coreProperties>
</file>